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png" ContentType="image/pn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D334-5810-4138-8B20-750DB38EA02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E083-7C5F-4D69-B45D-5B801BD737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B5D5-849D-4A99-AE3D-6EDB4F052D2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6D64-64D5-4892-A6BD-3B38A6FE46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44A4-78E4-4B56-84AB-8C5F07AA549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CEF9-7AFF-4787-8AC5-8F4086F400C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9CF0-2ACF-46F3-9910-C5CD9BBF64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82A9-C897-42E9-8C58-8609126B8B9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EDFB-D7D5-4917-BEE5-AC5B4C55119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55E9-5989-4B8A-B5FF-9DF94FC9250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9BB4-B448-406D-872F-F7F55E260C8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6F43-2500-4797-956B-78F68833470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378B-DB00-4576-A07B-7E2298F4A7F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965D-1DD8-4EB1-AFDE-B6EBBDD6425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7E95-E669-42BF-88F9-BF85815A9DD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E8C3-2ECB-4D43-8528-51947A69208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7F67-D70A-4DC6-A085-DEC4E7B9FAD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AB1D-FCDF-48A7-A008-4D5ED7B4297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ADCD-A7BF-489D-98BC-AEB0F0EAAE4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425E-41E2-45F8-8AEE-FD147DB095D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3148-C7EF-4E8C-9893-CA68FB57899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C4D-93B2-42F4-9DE5-BCAE4142FE1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74C-75F1-4CC1-AAB9-CEA2DF10128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874-5ABF-4057-9CCE-AAE08135B79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342-DAF7-44D4-8A98-7946EAAE471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EE0-0424-4DB5-A0A3-640F206D37A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794-EB15-4D23-BE9A-DC88DB00EE4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D9B-860B-4601-B791-5C8B408764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14E-301F-405F-A836-FC97FCC3223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83B-52DE-4C15-8391-802B2A553CB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89A-011E-41F5-8565-CBFD2C05BAB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B60-C644-478E-8CB2-B79A6E4609A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E4E-82E9-46E8-952B-E52F49DB4C1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9B69-8790-4E2C-A920-756A16A1D0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F80F-4587-4BC6-9F2D-12941740B7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9EA07-26BD-4CBF-8447-7A94CC329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666A-CD40-46F8-B591-667A573DC2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ldNum" idx="3"/>
          </p:nvPr>
        </p:nvSpPr>
        <p:spPr>
          <a:xfrm>
            <a:off x="12217320" y="9321840"/>
            <a:ext cx="292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5282-59A1-4DE2-913F-AA73016A1C9B}" type="slidenum"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Num" idx="2"/>
          </p:nvPr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656F-D208-4628-966F-E26ED16378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6.png"/><Relationship Id="rId5" Type="http://schemas.openxmlformats.org/officeDocument/2006/relationships/image" Target="../media/image28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6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3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3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79360" y="1219320"/>
            <a:ext cx="12166560" cy="474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he cost  </a:t>
            </a:r>
            <a:r>
              <a:rPr b="0" lang="en-US" sz="96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of </a:t>
            </a:r>
            <a:r>
              <a:rPr b="0" lang="en-US" sz="10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 usage</a:t>
            </a:r>
            <a:br>
              <a:rPr sz="9200"/>
            </a:br>
            <a:r>
              <a:rPr b="0" lang="en-US" sz="57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he λ-calculus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4021200" y="6131520"/>
            <a:ext cx="4681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ean-jacques.levy@inria.f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"/>
          <p:cNvSpPr/>
          <p:nvPr/>
        </p:nvSpPr>
        <p:spPr>
          <a:xfrm>
            <a:off x="4415040" y="7050600"/>
            <a:ext cx="3891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.-L. Curien 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60th birthday,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Venice, 10-09-201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91600" y="1066680"/>
            <a:ext cx="12166920" cy="613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igid prefixes: </a:t>
            </a:r>
            <a:br>
              <a:rPr sz="9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bility </a:t>
            </a:r>
            <a:br>
              <a:rPr sz="7200"/>
            </a:br>
            <a:r>
              <a:rPr b="0" lang="en-US" sz="4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and</a:t>
            </a:r>
            <a:br>
              <a:rPr sz="9200"/>
            </a:br>
            <a:r>
              <a:rPr b="0" lang="en-US" sz="7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ultiplicity of variables 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bility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9" name=""/>
          <p:cNvSpPr/>
          <p:nvPr/>
        </p:nvSpPr>
        <p:spPr>
          <a:xfrm>
            <a:off x="457200" y="1530360"/>
            <a:ext cx="12255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Definition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rigid prefix]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prefix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is rigid when never the left of an application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can reduce to an abstraction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787320" y="4762440"/>
            <a:ext cx="6845400" cy="45720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7823160" y="3124080"/>
            <a:ext cx="4152960" cy="457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787320" y="3949560"/>
            <a:ext cx="5257800" cy="457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4"/>
          <a:stretch/>
        </p:blipFill>
        <p:spPr>
          <a:xfrm>
            <a:off x="8166240" y="3936960"/>
            <a:ext cx="3809880" cy="45720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677160" y="5963760"/>
            <a:ext cx="706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 rigid prefixes are finite prefixes of Berarducci tre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10134720" y="4724280"/>
            <a:ext cx="1650960" cy="34308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CFD9-D2AE-4BEF-8E70-0C29483A1B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29640" y="7340400"/>
            <a:ext cx="12210120" cy="469800"/>
            <a:chOff x="629640" y="7340400"/>
            <a:chExt cx="12210120" cy="469800"/>
          </a:xfrm>
        </p:grpSpPr>
        <p:sp>
          <p:nvSpPr>
            <p:cNvPr id="998" name=""/>
            <p:cNvSpPr/>
            <p:nvPr/>
          </p:nvSpPr>
          <p:spPr>
            <a:xfrm>
              <a:off x="629640" y="7340400"/>
              <a:ext cx="2027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ff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99" name="" descr=""/>
            <p:cNvPicPr/>
            <p:nvPr/>
          </p:nvPicPr>
          <p:blipFill>
            <a:blip r:embed="rId6"/>
            <a:stretch/>
          </p:blipFill>
          <p:spPr>
            <a:xfrm>
              <a:off x="2768760" y="7353000"/>
              <a:ext cx="100710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bility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1" name=""/>
          <p:cNvSpPr/>
          <p:nvPr/>
        </p:nvSpPr>
        <p:spPr>
          <a:xfrm>
            <a:off x="457200" y="1695600"/>
            <a:ext cx="12255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Theorem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stability]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r any rigid prefix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duced by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2B05-32DC-4F59-A758-B6192B977B5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457200" y="7601040"/>
            <a:ext cx="12255480" cy="1085760"/>
            <a:chOff x="457200" y="7601040"/>
            <a:chExt cx="12255480" cy="1085760"/>
          </a:xfrm>
        </p:grpSpPr>
        <p:sp>
          <p:nvSpPr>
            <p:cNvPr id="1004" name=""/>
            <p:cNvSpPr/>
            <p:nvPr/>
          </p:nvSpPr>
          <p:spPr>
            <a:xfrm>
              <a:off x="457200" y="760104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Fact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monotony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05" name="" descr=""/>
            <p:cNvPicPr/>
            <p:nvPr/>
          </p:nvPicPr>
          <p:blipFill>
            <a:blip r:embed="rId1"/>
            <a:stretch/>
          </p:blipFill>
          <p:spPr>
            <a:xfrm>
              <a:off x="4254480" y="7709040"/>
              <a:ext cx="71629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"/>
            <a:stretch/>
          </p:blipFill>
          <p:spPr>
            <a:xfrm>
              <a:off x="711360" y="8280360"/>
              <a:ext cx="38480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"/>
          <p:cNvGrpSpPr/>
          <p:nvPr/>
        </p:nvGrpSpPr>
        <p:grpSpPr>
          <a:xfrm>
            <a:off x="1689120" y="3365640"/>
            <a:ext cx="7975440" cy="3415680"/>
            <a:chOff x="1689120" y="3365640"/>
            <a:chExt cx="7975440" cy="3415680"/>
          </a:xfrm>
        </p:grpSpPr>
        <p:sp>
          <p:nvSpPr>
            <p:cNvPr id="1008" name=""/>
            <p:cNvSpPr/>
            <p:nvPr/>
          </p:nvSpPr>
          <p:spPr>
            <a:xfrm>
              <a:off x="2057400" y="3682800"/>
              <a:ext cx="2374920" cy="2653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3"/>
            <a:stretch/>
          </p:blipFill>
          <p:spPr>
            <a:xfrm>
              <a:off x="3060720" y="6464160"/>
              <a:ext cx="38088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2527200" y="3657240"/>
              <a:ext cx="1425600" cy="2031840"/>
            </a:xfrm>
            <a:custGeom>
              <a:avLst/>
              <a:gdLst/>
              <a:ahLst/>
              <a:rect l="l" t="t" r="r" b="b"/>
              <a:pathLst>
                <a:path w="21600" h="21450">
                  <a:moveTo>
                    <a:pt x="10962" y="0"/>
                  </a:moveTo>
                  <a:lnTo>
                    <a:pt x="0" y="17014"/>
                  </a:lnTo>
                  <a:cubicBezTo>
                    <a:pt x="0" y="17014"/>
                    <a:pt x="5236" y="21600"/>
                    <a:pt x="6538" y="21446"/>
                  </a:cubicBezTo>
                  <a:cubicBezTo>
                    <a:pt x="8239" y="21245"/>
                    <a:pt x="11999" y="17319"/>
                    <a:pt x="13848" y="16889"/>
                  </a:cubicBezTo>
                  <a:cubicBezTo>
                    <a:pt x="16812" y="16200"/>
                    <a:pt x="21600" y="16889"/>
                    <a:pt x="21600" y="16889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4"/>
            <a:stretch/>
          </p:blipFill>
          <p:spPr>
            <a:xfrm>
              <a:off x="1689120" y="4267080"/>
              <a:ext cx="99072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/>
            <p:nvPr/>
          </p:nvSpPr>
          <p:spPr>
            <a:xfrm>
              <a:off x="7290000" y="3365640"/>
              <a:ext cx="2374560" cy="3098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904160" y="3377880"/>
              <a:ext cx="1209600" cy="171108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14" name="" descr=""/>
            <p:cNvPicPr/>
            <p:nvPr/>
          </p:nvPicPr>
          <p:blipFill>
            <a:blip r:embed="rId5"/>
            <a:stretch/>
          </p:blipFill>
          <p:spPr>
            <a:xfrm>
              <a:off x="8915400" y="3987720"/>
              <a:ext cx="291960" cy="31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"/>
            <p:cNvGrpSpPr/>
            <p:nvPr/>
          </p:nvGrpSpPr>
          <p:grpSpPr>
            <a:xfrm>
              <a:off x="4792680" y="4305960"/>
              <a:ext cx="2139840" cy="372960"/>
              <a:chOff x="4792680" y="4305960"/>
              <a:chExt cx="2139840" cy="372960"/>
            </a:xfrm>
          </p:grpSpPr>
          <p:sp>
            <p:nvSpPr>
              <p:cNvPr id="1016" name=""/>
              <p:cNvSpPr/>
              <p:nvPr/>
            </p:nvSpPr>
            <p:spPr>
              <a:xfrm flipH="1">
                <a:off x="4792680" y="4673160"/>
                <a:ext cx="2139840" cy="576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662440" y="430596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pic>
        <p:nvPicPr>
          <p:cNvPr id="1018" name="" descr=""/>
          <p:cNvPicPr/>
          <p:nvPr/>
        </p:nvPicPr>
        <p:blipFill>
          <a:blip r:embed="rId6"/>
          <a:stretch/>
        </p:blipFill>
        <p:spPr>
          <a:xfrm>
            <a:off x="673200" y="2336760"/>
            <a:ext cx="109090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457200" y="1968480"/>
            <a:ext cx="12255480" cy="1320840"/>
            <a:chOff x="457200" y="1968480"/>
            <a:chExt cx="12255480" cy="1320840"/>
          </a:xfrm>
        </p:grpSpPr>
        <p:sp>
          <p:nvSpPr>
            <p:cNvPr id="1020" name=""/>
            <p:cNvSpPr/>
            <p:nvPr/>
          </p:nvSpPr>
          <p:spPr>
            <a:xfrm>
              <a:off x="457200" y="196848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Lemma 1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slow consumption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21" name="" descr=""/>
            <p:cNvPicPr/>
            <p:nvPr/>
          </p:nvPicPr>
          <p:blipFill>
            <a:blip r:embed="rId1"/>
            <a:stretch/>
          </p:blipFill>
          <p:spPr>
            <a:xfrm>
              <a:off x="6845400" y="2120760"/>
              <a:ext cx="506736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" descr=""/>
            <p:cNvPicPr/>
            <p:nvPr/>
          </p:nvPicPr>
          <p:blipFill>
            <a:blip r:embed="rId2"/>
            <a:stretch/>
          </p:blipFill>
          <p:spPr>
            <a:xfrm>
              <a:off x="711360" y="2832120"/>
              <a:ext cx="7340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A773-472F-4E9F-B29A-68BC3D66CA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4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low consumption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596880" y="7029360"/>
            <a:ext cx="12255480" cy="1200240"/>
            <a:chOff x="596880" y="7029360"/>
            <a:chExt cx="12255480" cy="1200240"/>
          </a:xfrm>
        </p:grpSpPr>
        <p:grpSp>
          <p:nvGrpSpPr>
            <p:cNvPr id="1026" name=""/>
            <p:cNvGrpSpPr/>
            <p:nvPr/>
          </p:nvGrpSpPr>
          <p:grpSpPr>
            <a:xfrm>
              <a:off x="596880" y="7029360"/>
              <a:ext cx="12255480" cy="520560"/>
              <a:chOff x="596880" y="7029360"/>
              <a:chExt cx="12255480" cy="520560"/>
            </a:xfrm>
          </p:grpSpPr>
          <p:sp>
            <p:nvSpPr>
              <p:cNvPr id="1027" name=""/>
              <p:cNvSpPr/>
              <p:nvPr/>
            </p:nvSpPr>
            <p:spPr>
              <a:xfrm>
                <a:off x="596880" y="7029360"/>
                <a:ext cx="1225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2880" y="7048440"/>
                <a:ext cx="8356680" cy="469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9" name="" descr=""/>
            <p:cNvPicPr/>
            <p:nvPr/>
          </p:nvPicPr>
          <p:blipFill>
            <a:blip r:embed="rId4"/>
            <a:stretch/>
          </p:blipFill>
          <p:spPr>
            <a:xfrm>
              <a:off x="901800" y="7772400"/>
              <a:ext cx="52704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"/>
          <p:cNvGrpSpPr/>
          <p:nvPr/>
        </p:nvGrpSpPr>
        <p:grpSpPr>
          <a:xfrm>
            <a:off x="876240" y="3860640"/>
            <a:ext cx="11315880" cy="1739880"/>
            <a:chOff x="876240" y="3860640"/>
            <a:chExt cx="11315880" cy="1739880"/>
          </a:xfrm>
        </p:grpSpPr>
        <p:grpSp>
          <p:nvGrpSpPr>
            <p:cNvPr id="1031" name=""/>
            <p:cNvGrpSpPr/>
            <p:nvPr/>
          </p:nvGrpSpPr>
          <p:grpSpPr>
            <a:xfrm>
              <a:off x="1778040" y="3860640"/>
              <a:ext cx="10414080" cy="1739880"/>
              <a:chOff x="1778040" y="3860640"/>
              <a:chExt cx="10414080" cy="1739880"/>
            </a:xfrm>
          </p:grpSpPr>
          <p:sp>
            <p:nvSpPr>
              <p:cNvPr id="1032" name=""/>
              <p:cNvSpPr/>
              <p:nvPr/>
            </p:nvSpPr>
            <p:spPr>
              <a:xfrm>
                <a:off x="1778040" y="3860640"/>
                <a:ext cx="4788000" cy="812880"/>
              </a:xfrm>
              <a:prstGeom prst="roundRect">
                <a:avLst>
                  <a:gd name="adj" fmla="val 23435"/>
                </a:avLst>
              </a:prstGeom>
              <a:solidFill>
                <a:srgbClr val="5fe80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3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97680" y="4038480"/>
                <a:ext cx="5194440" cy="1562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4" name="" descr=""/>
            <p:cNvPicPr/>
            <p:nvPr/>
          </p:nvPicPr>
          <p:blipFill>
            <a:blip r:embed="rId6"/>
            <a:stretch/>
          </p:blipFill>
          <p:spPr>
            <a:xfrm>
              <a:off x="876240" y="4025880"/>
              <a:ext cx="5600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1871-E20B-4D9B-BA93-CD0D9101FF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3022560" y="1282680"/>
            <a:ext cx="7975440" cy="3416400"/>
            <a:chOff x="3022560" y="1282680"/>
            <a:chExt cx="7975440" cy="3416400"/>
          </a:xfrm>
        </p:grpSpPr>
        <p:sp>
          <p:nvSpPr>
            <p:cNvPr id="1037" name=""/>
            <p:cNvSpPr/>
            <p:nvPr/>
          </p:nvSpPr>
          <p:spPr>
            <a:xfrm>
              <a:off x="3390840" y="1600200"/>
              <a:ext cx="2374920" cy="26542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38" name="" descr=""/>
            <p:cNvPicPr/>
            <p:nvPr/>
          </p:nvPicPr>
          <p:blipFill>
            <a:blip r:embed="rId1"/>
            <a:stretch/>
          </p:blipFill>
          <p:spPr>
            <a:xfrm>
              <a:off x="4394160" y="4381560"/>
              <a:ext cx="3808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"/>
            <p:cNvSpPr/>
            <p:nvPr/>
          </p:nvSpPr>
          <p:spPr>
            <a:xfrm>
              <a:off x="3860640" y="1574640"/>
              <a:ext cx="1425600" cy="2032200"/>
            </a:xfrm>
            <a:custGeom>
              <a:avLst/>
              <a:gdLst/>
              <a:ahLst/>
              <a:rect l="l" t="t" r="r" b="b"/>
              <a:pathLst>
                <a:path w="21600" h="21450">
                  <a:moveTo>
                    <a:pt x="10962" y="0"/>
                  </a:moveTo>
                  <a:lnTo>
                    <a:pt x="0" y="17014"/>
                  </a:lnTo>
                  <a:cubicBezTo>
                    <a:pt x="0" y="17014"/>
                    <a:pt x="5236" y="21600"/>
                    <a:pt x="6538" y="21446"/>
                  </a:cubicBezTo>
                  <a:cubicBezTo>
                    <a:pt x="8239" y="21245"/>
                    <a:pt x="11999" y="17319"/>
                    <a:pt x="13848" y="16889"/>
                  </a:cubicBezTo>
                  <a:cubicBezTo>
                    <a:pt x="16812" y="16200"/>
                    <a:pt x="21600" y="16889"/>
                    <a:pt x="21600" y="16889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40" name="" descr=""/>
            <p:cNvPicPr/>
            <p:nvPr/>
          </p:nvPicPr>
          <p:blipFill>
            <a:blip r:embed="rId2"/>
            <a:stretch/>
          </p:blipFill>
          <p:spPr>
            <a:xfrm>
              <a:off x="3022560" y="2184480"/>
              <a:ext cx="9907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8623440" y="1282680"/>
              <a:ext cx="2374560" cy="30988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237600" y="1295280"/>
              <a:ext cx="1209600" cy="171144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43" name="" descr=""/>
            <p:cNvPicPr/>
            <p:nvPr/>
          </p:nvPicPr>
          <p:blipFill>
            <a:blip r:embed="rId3"/>
            <a:stretch/>
          </p:blipFill>
          <p:spPr>
            <a:xfrm>
              <a:off x="10248840" y="1905120"/>
              <a:ext cx="29196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4" name=""/>
            <p:cNvGrpSpPr/>
            <p:nvPr/>
          </p:nvGrpSpPr>
          <p:grpSpPr>
            <a:xfrm>
              <a:off x="6126120" y="2223360"/>
              <a:ext cx="2139840" cy="373680"/>
              <a:chOff x="6126120" y="2223360"/>
              <a:chExt cx="2139840" cy="373680"/>
            </a:xfrm>
          </p:grpSpPr>
          <p:sp>
            <p:nvSpPr>
              <p:cNvPr id="1045" name=""/>
              <p:cNvSpPr/>
              <p:nvPr/>
            </p:nvSpPr>
            <p:spPr>
              <a:xfrm flipH="1">
                <a:off x="6126120" y="2590920"/>
                <a:ext cx="2139840" cy="612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95880" y="222336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4343400" y="9042480"/>
            <a:ext cx="317520" cy="317520"/>
          </a:xfrm>
          <a:prstGeom prst="rect">
            <a:avLst/>
          </a:prstGeom>
          <a:ln w="0">
            <a:noFill/>
          </a:ln>
        </p:spPr>
      </p:pic>
      <p:grpSp>
        <p:nvGrpSpPr>
          <p:cNvPr id="1048" name=""/>
          <p:cNvGrpSpPr/>
          <p:nvPr/>
        </p:nvGrpSpPr>
        <p:grpSpPr>
          <a:xfrm>
            <a:off x="3022560" y="5905440"/>
            <a:ext cx="7975440" cy="3098880"/>
            <a:chOff x="3022560" y="5905440"/>
            <a:chExt cx="7975440" cy="3098880"/>
          </a:xfrm>
        </p:grpSpPr>
        <p:sp>
          <p:nvSpPr>
            <p:cNvPr id="1049" name=""/>
            <p:cNvSpPr/>
            <p:nvPr/>
          </p:nvSpPr>
          <p:spPr>
            <a:xfrm>
              <a:off x="3390840" y="6222960"/>
              <a:ext cx="2374920" cy="26542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60640" y="6197400"/>
              <a:ext cx="1425600" cy="1778040"/>
            </a:xfrm>
            <a:custGeom>
              <a:avLst/>
              <a:gdLst/>
              <a:ahLst/>
              <a:rect l="l" t="t" r="r" b="b"/>
              <a:pathLst>
                <a:path w="21600" h="21434">
                  <a:moveTo>
                    <a:pt x="10962" y="0"/>
                  </a:moveTo>
                  <a:lnTo>
                    <a:pt x="0" y="19424"/>
                  </a:lnTo>
                  <a:cubicBezTo>
                    <a:pt x="0" y="19424"/>
                    <a:pt x="5236" y="21600"/>
                    <a:pt x="6538" y="21424"/>
                  </a:cubicBezTo>
                  <a:cubicBezTo>
                    <a:pt x="8239" y="21195"/>
                    <a:pt x="11999" y="19773"/>
                    <a:pt x="13848" y="19282"/>
                  </a:cubicBezTo>
                  <a:cubicBezTo>
                    <a:pt x="16812" y="18495"/>
                    <a:pt x="21600" y="19282"/>
                    <a:pt x="21600" y="19282"/>
                  </a:cubicBezTo>
                  <a:lnTo>
                    <a:pt x="10962" y="0"/>
                  </a:lnTo>
                  <a:close/>
                  <a:moveTo>
                    <a:pt x="10962" y="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623440" y="5905440"/>
              <a:ext cx="2374560" cy="30988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237600" y="5918040"/>
              <a:ext cx="1209600" cy="1711440"/>
            </a:xfrm>
            <a:custGeom>
              <a:avLst/>
              <a:gdLst/>
              <a:ahLst/>
              <a:rect l="l" t="t" r="r" b="b"/>
              <a:pathLst>
                <a:path w="21600" h="20892">
                  <a:moveTo>
                    <a:pt x="10328" y="0"/>
                  </a:moveTo>
                  <a:lnTo>
                    <a:pt x="0" y="18109"/>
                  </a:lnTo>
                  <a:cubicBezTo>
                    <a:pt x="0" y="18109"/>
                    <a:pt x="1410" y="17736"/>
                    <a:pt x="5456" y="16887"/>
                  </a:cubicBezTo>
                  <a:cubicBezTo>
                    <a:pt x="10025" y="15928"/>
                    <a:pt x="9547" y="19289"/>
                    <a:pt x="13738" y="20450"/>
                  </a:cubicBezTo>
                  <a:cubicBezTo>
                    <a:pt x="17888" y="21600"/>
                    <a:pt x="21600" y="20140"/>
                    <a:pt x="21600" y="20140"/>
                  </a:cubicBezTo>
                  <a:lnTo>
                    <a:pt x="10328" y="0"/>
                  </a:lnTo>
                  <a:close/>
                  <a:moveTo>
                    <a:pt x="10328" y="0"/>
                  </a:moveTo>
                </a:path>
              </a:pathLst>
            </a:cu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53" name="" descr=""/>
            <p:cNvPicPr/>
            <p:nvPr/>
          </p:nvPicPr>
          <p:blipFill>
            <a:blip r:embed="rId5"/>
            <a:stretch/>
          </p:blipFill>
          <p:spPr>
            <a:xfrm>
              <a:off x="10248840" y="6527880"/>
              <a:ext cx="29196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4" name=""/>
            <p:cNvGrpSpPr/>
            <p:nvPr/>
          </p:nvGrpSpPr>
          <p:grpSpPr>
            <a:xfrm>
              <a:off x="6126120" y="6846120"/>
              <a:ext cx="2139840" cy="373680"/>
              <a:chOff x="6126120" y="6846120"/>
              <a:chExt cx="2139840" cy="373680"/>
            </a:xfrm>
          </p:grpSpPr>
          <p:sp>
            <p:nvSpPr>
              <p:cNvPr id="1055" name=""/>
              <p:cNvSpPr/>
              <p:nvPr/>
            </p:nvSpPr>
            <p:spPr>
              <a:xfrm flipH="1">
                <a:off x="6126120" y="7213680"/>
                <a:ext cx="2139840" cy="612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95880" y="6846120"/>
                <a:ext cx="27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Gill Sans"/>
                    <a:ea typeface="Heiti SC Light"/>
                  </a:rPr>
                  <a:t>★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pic>
          <p:nvPicPr>
            <p:cNvPr id="1057" name="" descr=""/>
            <p:cNvPicPr/>
            <p:nvPr/>
          </p:nvPicPr>
          <p:blipFill>
            <a:blip r:embed="rId6"/>
            <a:stretch/>
          </p:blipFill>
          <p:spPr>
            <a:xfrm>
              <a:off x="3022560" y="7010280"/>
              <a:ext cx="914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8" name=""/>
          <p:cNvSpPr/>
          <p:nvPr/>
        </p:nvSpPr>
        <p:spPr>
          <a:xfrm flipV="1">
            <a:off x="4584600" y="4959000"/>
            <a:ext cx="0" cy="958680"/>
          </a:xfrm>
          <a:prstGeom prst="line">
            <a:avLst/>
          </a:prstGeom>
          <a:ln w="76320">
            <a:solidFill>
              <a:srgbClr val="4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9" name=""/>
          <p:cNvSpPr/>
          <p:nvPr/>
        </p:nvSpPr>
        <p:spPr>
          <a:xfrm>
            <a:off x="9911880" y="4871520"/>
            <a:ext cx="27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Gill Sans"/>
                <a:ea typeface="Heiti SC Light"/>
              </a:rPr>
              <a:t>★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9842400" y="4736880"/>
            <a:ext cx="0" cy="957240"/>
          </a:xfrm>
          <a:prstGeom prst="line">
            <a:avLst/>
          </a:prstGeom>
          <a:ln w="76320">
            <a:solidFill>
              <a:srgbClr val="4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1" name=""/>
          <p:cNvSpPr/>
          <p:nvPr/>
        </p:nvSpPr>
        <p:spPr>
          <a:xfrm>
            <a:off x="398520" y="4507560"/>
            <a:ext cx="14410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at mos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2 nodes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erased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2" name=""/>
          <p:cNvSpPr/>
          <p:nvPr/>
        </p:nvSpPr>
        <p:spPr>
          <a:xfrm>
            <a:off x="2028960" y="5051520"/>
            <a:ext cx="2146320" cy="1730160"/>
          </a:xfrm>
          <a:custGeom>
            <a:avLst/>
            <a:gdLst/>
            <a:ahLst/>
            <a:rect l="l" t="t" r="r" b="b"/>
            <a:pathLst>
              <a:path w="20411" h="20678">
                <a:moveTo>
                  <a:pt x="1449" y="803"/>
                </a:moveTo>
                <a:cubicBezTo>
                  <a:pt x="1449" y="803"/>
                  <a:pt x="0" y="0"/>
                  <a:pt x="3945" y="2362"/>
                </a:cubicBezTo>
                <a:cubicBezTo>
                  <a:pt x="7409" y="4436"/>
                  <a:pt x="5379" y="16284"/>
                  <a:pt x="7490" y="18252"/>
                </a:cubicBezTo>
                <a:cubicBezTo>
                  <a:pt x="11081" y="21600"/>
                  <a:pt x="21600" y="21345"/>
                  <a:pt x="21600" y="21345"/>
                </a:cubicBezTo>
              </a:path>
            </a:pathLst>
          </a:custGeom>
          <a:noFill/>
          <a:ln w="76320">
            <a:solidFill>
              <a:srgbClr val="ff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3" name=""/>
          <p:cNvSpPr/>
          <p:nvPr/>
        </p:nvSpPr>
        <p:spPr>
          <a:xfrm>
            <a:off x="457200" y="10152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low consumption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Multiplicity of  variables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800280" y="3936960"/>
            <a:ext cx="10642320" cy="45720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787320" y="4635360"/>
            <a:ext cx="9004320" cy="457200"/>
          </a:xfrm>
          <a:prstGeom prst="rect">
            <a:avLst/>
          </a:prstGeom>
          <a:ln w="0">
            <a:noFill/>
          </a:ln>
        </p:spPr>
      </p:pic>
      <p:grpSp>
        <p:nvGrpSpPr>
          <p:cNvPr id="1067" name=""/>
          <p:cNvGrpSpPr/>
          <p:nvPr/>
        </p:nvGrpSpPr>
        <p:grpSpPr>
          <a:xfrm>
            <a:off x="596880" y="6743880"/>
            <a:ext cx="12255480" cy="1904040"/>
            <a:chOff x="596880" y="6743880"/>
            <a:chExt cx="12255480" cy="1904040"/>
          </a:xfrm>
        </p:grpSpPr>
        <p:sp>
          <p:nvSpPr>
            <p:cNvPr id="1068" name=""/>
            <p:cNvSpPr/>
            <p:nvPr/>
          </p:nvSpPr>
          <p:spPr>
            <a:xfrm>
              <a:off x="596880" y="6743880"/>
              <a:ext cx="122554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Lemma 2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upper bound on live multiplicity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12880" y="7480080"/>
              <a:ext cx="9130680" cy="1167840"/>
              <a:chOff x="812880" y="7480080"/>
              <a:chExt cx="9130680" cy="1167840"/>
            </a:xfrm>
          </p:grpSpPr>
          <p:pic>
            <p:nvPicPr>
              <p:cNvPr id="10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2880" y="7480080"/>
                <a:ext cx="8953200" cy="46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63280" y="8191080"/>
                <a:ext cx="9080280" cy="456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8DF6-41ED-4C2C-B59D-CB916F95A5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57200" y="1835280"/>
            <a:ext cx="12255480" cy="1199520"/>
            <a:chOff x="457200" y="1835280"/>
            <a:chExt cx="12255480" cy="1199520"/>
          </a:xfrm>
        </p:grpSpPr>
        <p:sp>
          <p:nvSpPr>
            <p:cNvPr id="1074" name=""/>
            <p:cNvSpPr/>
            <p:nvPr/>
          </p:nvSpPr>
          <p:spPr>
            <a:xfrm>
              <a:off x="457200" y="1835280"/>
              <a:ext cx="122554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75" name="" descr=""/>
            <p:cNvPicPr/>
            <p:nvPr/>
          </p:nvPicPr>
          <p:blipFill>
            <a:blip r:embed="rId5"/>
            <a:stretch/>
          </p:blipFill>
          <p:spPr>
            <a:xfrm>
              <a:off x="749160" y="2527200"/>
              <a:ext cx="599472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622440" y="2438280"/>
              <a:ext cx="812520" cy="596520"/>
            </a:xfrm>
            <a:prstGeom prst="roundRect">
              <a:avLst>
                <a:gd name="adj" fmla="val 31912"/>
              </a:avLst>
            </a:prstGeom>
            <a:solidFill>
              <a:srgbClr val="5fe801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077" name="" descr=""/>
            <p:cNvPicPr/>
            <p:nvPr/>
          </p:nvPicPr>
          <p:blipFill>
            <a:blip r:embed="rId6"/>
            <a:stretch/>
          </p:blipFill>
          <p:spPr>
            <a:xfrm>
              <a:off x="2781360" y="1930320"/>
              <a:ext cx="8661240" cy="418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91600" y="1384200"/>
            <a:ext cx="12166920" cy="474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ndardization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1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4339-773B-4827-9DF3-9BD64769073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596880" y="1949400"/>
            <a:ext cx="11963520" cy="4438800"/>
            <a:chOff x="596880" y="1949400"/>
            <a:chExt cx="11963520" cy="4438800"/>
          </a:xfrm>
        </p:grpSpPr>
        <p:sp>
          <p:nvSpPr>
            <p:cNvPr id="1083" name=""/>
            <p:cNvSpPr/>
            <p:nvPr/>
          </p:nvSpPr>
          <p:spPr>
            <a:xfrm>
              <a:off x="983520" y="2546280"/>
              <a:ext cx="86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596880" y="1949400"/>
              <a:ext cx="11963520" cy="558720"/>
              <a:chOff x="596880" y="1949400"/>
              <a:chExt cx="11963520" cy="558720"/>
            </a:xfrm>
          </p:grpSpPr>
          <p:pic>
            <p:nvPicPr>
              <p:cNvPr id="10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966160" y="2057400"/>
                <a:ext cx="359424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"/>
              <p:cNvSpPr/>
              <p:nvPr/>
            </p:nvSpPr>
            <p:spPr>
              <a:xfrm>
                <a:off x="596880" y="1949400"/>
                <a:ext cx="844560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Lemma </a:t>
                </a:r>
                <a:r>
                  <a:rPr b="0" lang="en-US" sz="3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[reordering of head redexes]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2666880" y="2984400"/>
              <a:ext cx="8788320" cy="2641680"/>
              <a:chOff x="2666880" y="2984400"/>
              <a:chExt cx="8788320" cy="2641680"/>
            </a:xfrm>
          </p:grpSpPr>
          <p:pic>
            <p:nvPicPr>
              <p:cNvPr id="10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984400"/>
                <a:ext cx="38088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6880" y="4686120"/>
                <a:ext cx="49536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0" name=""/>
              <p:cNvSpPr/>
              <p:nvPr/>
            </p:nvSpPr>
            <p:spPr>
              <a:xfrm flipH="1" flipV="1">
                <a:off x="3992400" y="3244320"/>
                <a:ext cx="3170160" cy="20484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32240" y="2984400"/>
                <a:ext cx="203400" cy="2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"/>
              <p:cNvSpPr/>
              <p:nvPr/>
            </p:nvSpPr>
            <p:spPr>
              <a:xfrm>
                <a:off x="5097600" y="334116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7416720" y="3822480"/>
                <a:ext cx="279360" cy="1092240"/>
              </a:xfrm>
              <a:prstGeom prst="line">
                <a:avLst/>
              </a:prstGeom>
              <a:ln w="76320">
                <a:solidFill>
                  <a:srgbClr val="4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2997000" y="3466800"/>
                <a:ext cx="279360" cy="1091880"/>
              </a:xfrm>
              <a:prstGeom prst="line">
                <a:avLst/>
              </a:prstGeom>
              <a:ln w="76320">
                <a:solidFill>
                  <a:srgbClr val="408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flipV="1">
                <a:off x="3276000" y="4978440"/>
                <a:ext cx="3613320" cy="279360"/>
              </a:xfrm>
              <a:prstGeom prst="line">
                <a:avLst/>
              </a:prstGeom>
              <a:ln w="76320">
                <a:solidFill>
                  <a:srgbClr val="408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449960" y="509364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0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60920" y="4673520"/>
                <a:ext cx="279360" cy="39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5800" y="3733560"/>
                <a:ext cx="35568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13320" y="4064040"/>
                <a:ext cx="26676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594560" y="3200400"/>
                <a:ext cx="379728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49960" y="5054400"/>
                <a:ext cx="4305240" cy="571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927000" y="5918040"/>
              <a:ext cx="4673520" cy="47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3" name=""/>
          <p:cNvGrpSpPr/>
          <p:nvPr/>
        </p:nvGrpSpPr>
        <p:grpSpPr>
          <a:xfrm>
            <a:off x="698400" y="7620120"/>
            <a:ext cx="10756800" cy="1701720"/>
            <a:chOff x="698400" y="7620120"/>
            <a:chExt cx="10756800" cy="1701720"/>
          </a:xfrm>
        </p:grpSpPr>
        <p:grpSp>
          <p:nvGrpSpPr>
            <p:cNvPr id="1104" name=""/>
            <p:cNvGrpSpPr/>
            <p:nvPr/>
          </p:nvGrpSpPr>
          <p:grpSpPr>
            <a:xfrm>
              <a:off x="754560" y="7620120"/>
              <a:ext cx="10700640" cy="507960"/>
              <a:chOff x="754560" y="7620120"/>
              <a:chExt cx="10700640" cy="507960"/>
            </a:xfrm>
          </p:grpSpPr>
          <p:sp>
            <p:nvSpPr>
              <p:cNvPr id="1105" name=""/>
              <p:cNvSpPr/>
              <p:nvPr/>
            </p:nvSpPr>
            <p:spPr>
              <a:xfrm>
                <a:off x="754560" y="7658280"/>
                <a:ext cx="99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Proof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1106" name=""/>
              <p:cNvGrpSpPr/>
              <p:nvPr/>
            </p:nvGrpSpPr>
            <p:grpSpPr>
              <a:xfrm>
                <a:off x="2133360" y="7620120"/>
                <a:ext cx="9321840" cy="507960"/>
                <a:chOff x="2133360" y="7620120"/>
                <a:chExt cx="9321840" cy="507960"/>
              </a:xfrm>
            </p:grpSpPr>
            <p:pic>
              <p:nvPicPr>
                <p:cNvPr id="11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133360" y="7620120"/>
                  <a:ext cx="5969160" cy="507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331120" y="7810560"/>
                  <a:ext cx="312408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109" name="" descr=""/>
            <p:cNvPicPr/>
            <p:nvPr/>
          </p:nvPicPr>
          <p:blipFill>
            <a:blip r:embed="rId13"/>
            <a:stretch/>
          </p:blipFill>
          <p:spPr>
            <a:xfrm>
              <a:off x="698400" y="8255160"/>
              <a:ext cx="10375920" cy="3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14"/>
            <a:stretch/>
          </p:blipFill>
          <p:spPr>
            <a:xfrm>
              <a:off x="698400" y="8890200"/>
              <a:ext cx="664200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2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A4A0-4376-4E99-9C4D-457CCDD614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57200" y="1854360"/>
            <a:ext cx="12395160" cy="5828760"/>
            <a:chOff x="457200" y="1854360"/>
            <a:chExt cx="12395160" cy="5828760"/>
          </a:xfrm>
        </p:grpSpPr>
        <p:sp>
          <p:nvSpPr>
            <p:cNvPr id="1114" name=""/>
            <p:cNvSpPr/>
            <p:nvPr/>
          </p:nvSpPr>
          <p:spPr>
            <a:xfrm>
              <a:off x="596880" y="6260760"/>
              <a:ext cx="122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oof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457200" y="1854360"/>
              <a:ext cx="12255480" cy="3428280"/>
              <a:chOff x="457200" y="1854360"/>
              <a:chExt cx="12255480" cy="3428280"/>
            </a:xfrm>
          </p:grpSpPr>
          <p:sp>
            <p:nvSpPr>
              <p:cNvPr id="1116" name=""/>
              <p:cNvSpPr/>
              <p:nvPr/>
            </p:nvSpPr>
            <p:spPr>
              <a:xfrm>
                <a:off x="457200" y="1854360"/>
                <a:ext cx="12255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3301920" y="1968480"/>
                <a:ext cx="4851360" cy="2424960"/>
                <a:chOff x="3301920" y="1968480"/>
                <a:chExt cx="4851360" cy="2424960"/>
              </a:xfrm>
            </p:grpSpPr>
            <p:pic>
              <p:nvPicPr>
                <p:cNvPr id="111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01920" y="1968480"/>
                  <a:ext cx="380880" cy="31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9" name=""/>
                <p:cNvSpPr/>
                <p:nvPr/>
              </p:nvSpPr>
              <p:spPr>
                <a:xfrm flipH="1" flipV="1">
                  <a:off x="4170240" y="2228400"/>
                  <a:ext cx="3170160" cy="204480"/>
                </a:xfrm>
                <a:prstGeom prst="line">
                  <a:avLst/>
                </a:prstGeom>
                <a:ln w="76320">
                  <a:solidFill>
                    <a:srgbClr val="408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10080" y="1968480"/>
                  <a:ext cx="203400" cy="26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5275440" y="2324520"/>
                  <a:ext cx="272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st</a:t>
                  </a:r>
                  <a:endParaRPr b="0" lang="en-US" sz="24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V="1">
                  <a:off x="7594560" y="2805840"/>
                  <a:ext cx="279360" cy="1091880"/>
                </a:xfrm>
                <a:prstGeom prst="line">
                  <a:avLst/>
                </a:prstGeom>
                <a:ln w="76320">
                  <a:solidFill>
                    <a:srgbClr val="408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754880" y="3696120"/>
                  <a:ext cx="272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st</a:t>
                  </a:r>
                  <a:endParaRPr b="0" lang="en-US" sz="24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40280" y="3276360"/>
                  <a:ext cx="279360" cy="39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10560" y="2285640"/>
                  <a:ext cx="317520" cy="317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16720" y="4038120"/>
                  <a:ext cx="419040" cy="35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7" name=""/>
                <p:cNvSpPr/>
                <p:nvPr/>
              </p:nvSpPr>
              <p:spPr>
                <a:xfrm>
                  <a:off x="3682800" y="2514240"/>
                  <a:ext cx="3606840" cy="1726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cubicBezTo>
                        <a:pt x="0" y="0"/>
                        <a:pt x="3186" y="10418"/>
                        <a:pt x="6389" y="13659"/>
                      </a:cubicBezTo>
                      <a:cubicBezTo>
                        <a:pt x="12308" y="19648"/>
                        <a:pt x="21600" y="21600"/>
                        <a:pt x="21600" y="21600"/>
                      </a:cubicBezTo>
                    </a:path>
                  </a:pathLst>
                </a:custGeom>
                <a:noFill/>
                <a:ln w="63360">
                  <a:solidFill>
                    <a:srgbClr val="008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112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12080" y="3085560"/>
                  <a:ext cx="24120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2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7320" y="4813200"/>
                <a:ext cx="5435640" cy="469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30" name="" descr=""/>
            <p:cNvPicPr/>
            <p:nvPr/>
          </p:nvPicPr>
          <p:blipFill>
            <a:blip r:embed="rId8"/>
            <a:stretch/>
          </p:blipFill>
          <p:spPr>
            <a:xfrm>
              <a:off x="673200" y="6806880"/>
              <a:ext cx="1031220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Xi’s proof of standardization (3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20560" y="1936800"/>
            <a:ext cx="12255480" cy="2584440"/>
            <a:chOff x="520560" y="1936800"/>
            <a:chExt cx="12255480" cy="2584440"/>
          </a:xfrm>
        </p:grpSpPr>
        <p:sp>
          <p:nvSpPr>
            <p:cNvPr id="1133" name=""/>
            <p:cNvSpPr/>
            <p:nvPr/>
          </p:nvSpPr>
          <p:spPr>
            <a:xfrm>
              <a:off x="520560" y="1936800"/>
              <a:ext cx="12255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Theorem 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standardization with upper bounds]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761760" y="2463840"/>
              <a:ext cx="11366640" cy="2057400"/>
              <a:chOff x="761760" y="2463840"/>
              <a:chExt cx="11366640" cy="2057400"/>
            </a:xfrm>
          </p:grpSpPr>
          <p:pic>
            <p:nvPicPr>
              <p:cNvPr id="11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3280" y="2463840"/>
                <a:ext cx="8801280" cy="64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1760" y="3403800"/>
                <a:ext cx="9296280" cy="43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63280" y="4064040"/>
                <a:ext cx="1126512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8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3832-0419-43E0-AF07-410F9065ED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843480" y="5537160"/>
            <a:ext cx="10776960" cy="469800"/>
            <a:chOff x="843480" y="5537160"/>
            <a:chExt cx="10776960" cy="469800"/>
          </a:xfrm>
        </p:grpSpPr>
        <p:sp>
          <p:nvSpPr>
            <p:cNvPr id="1140" name=""/>
            <p:cNvSpPr/>
            <p:nvPr/>
          </p:nvSpPr>
          <p:spPr>
            <a:xfrm>
              <a:off x="843480" y="5537160"/>
              <a:ext cx="995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oof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141" name="" descr=""/>
            <p:cNvPicPr/>
            <p:nvPr/>
          </p:nvPicPr>
          <p:blipFill>
            <a:blip r:embed="rId4"/>
            <a:stretch/>
          </p:blipFill>
          <p:spPr>
            <a:xfrm>
              <a:off x="2133360" y="5626080"/>
              <a:ext cx="948708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PLC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712360" y="5486400"/>
            <a:ext cx="2984400" cy="2565360"/>
            <a:chOff x="8712360" y="5486400"/>
            <a:chExt cx="2984400" cy="2565360"/>
          </a:xfrm>
        </p:grpSpPr>
        <p:pic>
          <p:nvPicPr>
            <p:cNvPr id="875" name="" descr=""/>
            <p:cNvPicPr/>
            <p:nvPr/>
          </p:nvPicPr>
          <p:blipFill>
            <a:blip r:embed="rId1"/>
            <a:stretch/>
          </p:blipFill>
          <p:spPr>
            <a:xfrm>
              <a:off x="8712360" y="5486400"/>
              <a:ext cx="298440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 flipH="1">
              <a:off x="10342440" y="7032600"/>
              <a:ext cx="361800" cy="255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10325160" y="5867280"/>
              <a:ext cx="362160" cy="255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786960" y="2056320"/>
            <a:ext cx="9942480" cy="5882400"/>
            <a:chOff x="786960" y="2056320"/>
            <a:chExt cx="9942480" cy="5882400"/>
          </a:xfrm>
        </p:grpSpPr>
        <p:sp>
          <p:nvSpPr>
            <p:cNvPr id="879" name=""/>
            <p:cNvSpPr/>
            <p:nvPr/>
          </p:nvSpPr>
          <p:spPr>
            <a:xfrm>
              <a:off x="846720" y="4126320"/>
              <a:ext cx="50216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-calculus + category theory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48520" y="3103920"/>
              <a:ext cx="74754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sed jury of his PhD + 3 papers together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40960" y="6272640"/>
              <a:ext cx="72741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ighbors in Paris (PL in 15th -- JJ in 7th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0600" y="7390440"/>
              <a:ext cx="47840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phia-Antipolis in 70-80’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46720" y="2056320"/>
              <a:ext cx="9882720" cy="554760"/>
              <a:chOff x="846720" y="2056320"/>
              <a:chExt cx="9882720" cy="554760"/>
            </a:xfrm>
          </p:grpSpPr>
          <p:sp>
            <p:nvSpPr>
              <p:cNvPr id="884" name=""/>
              <p:cNvSpPr/>
              <p:nvPr/>
            </p:nvSpPr>
            <p:spPr>
              <a:xfrm>
                <a:off x="846720" y="2062800"/>
                <a:ext cx="545616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buClr>
                    <a:srgbClr val="000000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ory of sequential algorithms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602040" y="2361960"/>
                <a:ext cx="1057320" cy="9720"/>
              </a:xfrm>
              <a:prstGeom prst="line">
                <a:avLst/>
              </a:prstGeom>
              <a:ln w="114480">
                <a:solidFill>
                  <a:srgbClr val="fc310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956720" y="2056320"/>
                <a:ext cx="277272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me semantics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786960" y="5167800"/>
              <a:ext cx="6984720" cy="548280"/>
              <a:chOff x="786960" y="5167800"/>
              <a:chExt cx="6984720" cy="548280"/>
            </a:xfrm>
          </p:grpSpPr>
          <p:sp>
            <p:nvSpPr>
              <p:cNvPr id="888" name=""/>
              <p:cNvSpPr/>
              <p:nvPr/>
            </p:nvSpPr>
            <p:spPr>
              <a:xfrm>
                <a:off x="1976760" y="5167800"/>
                <a:ext cx="579492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ok with Roberto Amadio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★ ★ ★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786960" y="5473800"/>
                <a:ext cx="1004760" cy="9360"/>
              </a:xfrm>
              <a:prstGeom prst="line">
                <a:avLst/>
              </a:prstGeom>
              <a:ln w="114480">
                <a:solidFill>
                  <a:srgbClr val="0fa80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3B90-3AE0-4B04-8D25-D8ED11A7F50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Proof of our upper bound (1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3" name=""/>
          <p:cNvSpPr/>
          <p:nvPr/>
        </p:nvSpPr>
        <p:spPr>
          <a:xfrm>
            <a:off x="10998360" y="4610160"/>
            <a:ext cx="63468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4" name=""/>
          <p:cNvSpPr/>
          <p:nvPr/>
        </p:nvSpPr>
        <p:spPr>
          <a:xfrm>
            <a:off x="3467160" y="4635360"/>
            <a:ext cx="63504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5" name=""/>
          <p:cNvSpPr/>
          <p:nvPr/>
        </p:nvSpPr>
        <p:spPr>
          <a:xfrm>
            <a:off x="6921360" y="4610160"/>
            <a:ext cx="635040" cy="444600"/>
          </a:xfrm>
          <a:prstGeom prst="roundRect">
            <a:avLst>
              <a:gd name="adj" fmla="val 42856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6" name=""/>
          <p:cNvSpPr/>
          <p:nvPr/>
        </p:nvSpPr>
        <p:spPr>
          <a:xfrm>
            <a:off x="7734240" y="3911760"/>
            <a:ext cx="635040" cy="495000"/>
          </a:xfrm>
          <a:prstGeom prst="roundRect">
            <a:avLst>
              <a:gd name="adj" fmla="val 38458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7" name=""/>
          <p:cNvSpPr/>
          <p:nvPr/>
        </p:nvSpPr>
        <p:spPr>
          <a:xfrm>
            <a:off x="762120" y="5219640"/>
            <a:ext cx="5283000" cy="635040"/>
          </a:xfrm>
          <a:prstGeom prst="roundRect">
            <a:avLst>
              <a:gd name="adj" fmla="val 30000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8" name=""/>
          <p:cNvSpPr/>
          <p:nvPr/>
        </p:nvSpPr>
        <p:spPr>
          <a:xfrm>
            <a:off x="825480" y="3162240"/>
            <a:ext cx="5283360" cy="647640"/>
          </a:xfrm>
          <a:prstGeom prst="roundRect">
            <a:avLst>
              <a:gd name="adj" fmla="val 29407"/>
            </a:avLst>
          </a:prstGeom>
          <a:solidFill>
            <a:srgbClr val="5fe80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1936800"/>
            <a:ext cx="122554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Theorem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standardization with upper bounds]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927000" y="2413080"/>
            <a:ext cx="8801280" cy="64764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2"/>
          <a:stretch/>
        </p:blipFill>
        <p:spPr>
          <a:xfrm>
            <a:off x="825480" y="3949560"/>
            <a:ext cx="9423360" cy="457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3"/>
          <a:stretch/>
        </p:blipFill>
        <p:spPr>
          <a:xfrm>
            <a:off x="863640" y="4597560"/>
            <a:ext cx="11988720" cy="457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4"/>
          <a:stretch/>
        </p:blipFill>
        <p:spPr>
          <a:xfrm>
            <a:off x="888840" y="3276720"/>
            <a:ext cx="5029200" cy="41904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5"/>
          <a:stretch/>
        </p:blipFill>
        <p:spPr>
          <a:xfrm>
            <a:off x="863640" y="5308560"/>
            <a:ext cx="4991040" cy="44460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FDCB-C11D-4DC4-86F2-AE63AF76D5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Proof of our upper bound (2/2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680400" y="6997680"/>
            <a:ext cx="11689560" cy="1092240"/>
            <a:chOff x="680400" y="6997680"/>
            <a:chExt cx="11689560" cy="1092240"/>
          </a:xfrm>
        </p:grpSpPr>
        <p:sp>
          <p:nvSpPr>
            <p:cNvPr id="1158" name=""/>
            <p:cNvSpPr/>
            <p:nvPr/>
          </p:nvSpPr>
          <p:spPr>
            <a:xfrm>
              <a:off x="680400" y="6997680"/>
              <a:ext cx="226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ff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rollary 2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1159" name="" descr=""/>
            <p:cNvPicPr/>
            <p:nvPr/>
          </p:nvPicPr>
          <p:blipFill>
            <a:blip r:embed="rId1"/>
            <a:stretch/>
          </p:blipFill>
          <p:spPr>
            <a:xfrm>
              <a:off x="3403800" y="6997680"/>
              <a:ext cx="7746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2"/>
            <a:stretch/>
          </p:blipFill>
          <p:spPr>
            <a:xfrm>
              <a:off x="914400" y="7632720"/>
              <a:ext cx="1145556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"/>
          <p:cNvSpPr/>
          <p:nvPr/>
        </p:nvSpPr>
        <p:spPr>
          <a:xfrm>
            <a:off x="896760" y="4940280"/>
            <a:ext cx="965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Proo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imple calculation with lemma 2 and previous thm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12216960" y="932148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E7E9-E620-4670-9C18-EFD314173A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616680" y="1904760"/>
            <a:ext cx="10825920" cy="2489400"/>
            <a:chOff x="616680" y="1904760"/>
            <a:chExt cx="10825920" cy="2489400"/>
          </a:xfrm>
        </p:grpSpPr>
        <p:pic>
          <p:nvPicPr>
            <p:cNvPr id="1164" name="" descr=""/>
            <p:cNvPicPr/>
            <p:nvPr/>
          </p:nvPicPr>
          <p:blipFill>
            <a:blip r:embed="rId3"/>
            <a:stretch/>
          </p:blipFill>
          <p:spPr>
            <a:xfrm>
              <a:off x="3340080" y="3288960"/>
              <a:ext cx="3746520" cy="110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5" name=""/>
            <p:cNvGrpSpPr/>
            <p:nvPr/>
          </p:nvGrpSpPr>
          <p:grpSpPr>
            <a:xfrm>
              <a:off x="616680" y="1904760"/>
              <a:ext cx="10825920" cy="1054080"/>
              <a:chOff x="616680" y="1904760"/>
              <a:chExt cx="10825920" cy="1054080"/>
            </a:xfrm>
          </p:grpSpPr>
          <p:sp>
            <p:nvSpPr>
              <p:cNvPr id="1166" name=""/>
              <p:cNvSpPr/>
              <p:nvPr/>
            </p:nvSpPr>
            <p:spPr>
              <a:xfrm>
                <a:off x="616680" y="1904760"/>
                <a:ext cx="2260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0000ff"/>
                  </a:buClr>
                  <a:buSzPct val="125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30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Corollary 1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11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85920" y="1930320"/>
                <a:ext cx="8356680" cy="46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7320" y="2527200"/>
                <a:ext cx="9474120" cy="43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1071000" y="2477520"/>
            <a:ext cx="7034760" cy="3645000"/>
            <a:chOff x="1071000" y="2477520"/>
            <a:chExt cx="7034760" cy="3645000"/>
          </a:xfrm>
        </p:grpSpPr>
        <p:sp>
          <p:nvSpPr>
            <p:cNvPr id="1171" name=""/>
            <p:cNvSpPr/>
            <p:nvPr/>
          </p:nvSpPr>
          <p:spPr>
            <a:xfrm>
              <a:off x="1071000" y="2477520"/>
              <a:ext cx="70347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s are easy to grow in the </a:t>
              </a:r>
              <a:r>
                <a:rPr b="0" lang="en-US" sz="3600" spc="-1" strike="noStrike">
                  <a:solidFill>
                    <a:srgbClr val="000000"/>
                  </a:solidFill>
                  <a:latin typeface="Helvetica Neue"/>
                  <a:ea typeface="Helvetica Neue"/>
                </a:rPr>
                <a:t>λ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alculu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77120" y="3567600"/>
              <a:ext cx="55778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t take time to consume term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1079280" y="4621680"/>
              <a:ext cx="4433760" cy="548280"/>
              <a:chOff x="1079280" y="4621680"/>
              <a:chExt cx="4433760" cy="54828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79280" y="4621680"/>
                <a:ext cx="443376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2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ed for sharing !!</a:t>
                </a:r>
                <a:endParaRPr b="0" lang="en-US" sz="3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1166760" y="4914720"/>
                <a:ext cx="1030320" cy="9720"/>
              </a:xfrm>
              <a:prstGeom prst="line">
                <a:avLst/>
              </a:prstGeom>
              <a:ln w="139680">
                <a:solidFill>
                  <a:srgbClr val="fc310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1101960" y="5574240"/>
              <a:ext cx="299628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 to earth ....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A604-9EB8-40A1-937D-7A19E3EC37F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0" y="0"/>
            <a:ext cx="13068360" cy="979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12216960" y="899136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AA0C-2069-4E43-8962-61D1541628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79" name="plc60.ppt_media/large-3.mov" descr=""/>
          <p:cNvPicPr/>
          <p:nvPr/>
        </p:nvPicPr>
        <p:blipFill>
          <a:blip r:embed="rId1"/>
          <a:stretch/>
        </p:blipFill>
        <p:spPr>
          <a:xfrm>
            <a:off x="-9360" y="1212840"/>
            <a:ext cx="13026960" cy="732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F986-7767-4C5E-B947-D010FA510194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0" y="0"/>
            <a:ext cx="13068360" cy="979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2274200" y="899136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F87C-D79A-4561-9260-501C5B1C0E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2" name="plc60.ppt_media/large-1.mov" descr=""/>
          <p:cNvPicPr/>
          <p:nvPr/>
        </p:nvPicPr>
        <p:blipFill>
          <a:blip r:embed="rId1"/>
          <a:stretch/>
        </p:blipFill>
        <p:spPr>
          <a:xfrm>
            <a:off x="0" y="1384200"/>
            <a:ext cx="13055760" cy="73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3AE8-3FAD-4732-BF64-05B7D61503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2280" y="-12600"/>
            <a:ext cx="12623760" cy="193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e2e86"/>
                </a:solidFill>
                <a:latin typeface="Skia"/>
                <a:ea typeface="Skia"/>
              </a:rPr>
              <a:t>Plan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4" name=""/>
          <p:cNvSpPr/>
          <p:nvPr/>
        </p:nvSpPr>
        <p:spPr>
          <a:xfrm>
            <a:off x="419040" y="8051760"/>
            <a:ext cx="11950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 joint work with Andrea Asperti (LICS 2013) 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03320" y="3586680"/>
            <a:ext cx="11950560" cy="3488400"/>
            <a:chOff x="1003320" y="3586680"/>
            <a:chExt cx="11950560" cy="3488400"/>
          </a:xfrm>
        </p:grpSpPr>
        <p:sp>
          <p:nvSpPr>
            <p:cNvPr id="896" name=""/>
            <p:cNvSpPr/>
            <p:nvPr/>
          </p:nvSpPr>
          <p:spPr>
            <a:xfrm>
              <a:off x="1064160" y="3586680"/>
              <a:ext cx="846000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ization theorem (with upper bounds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62360" y="4951800"/>
              <a:ext cx="719028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gid and minimum prefixes (stability thm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03320" y="5753160"/>
              <a:ext cx="1195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Xi’s proof (with upper bounds)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58040" y="6526800"/>
              <a:ext cx="68979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Xi’s proof revisited with live occurences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61640" y="4266000"/>
              <a:ext cx="18579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2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r result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417920" y="2129400"/>
            <a:ext cx="16160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000000"/>
                </a:solidFill>
                <a:latin typeface="Gill Sans"/>
                <a:ea typeface="Heiti SC Medium"/>
              </a:rPr>
              <a:t>小菜⼀碟</a:t>
            </a:r>
            <a:endParaRPr b="0" lang="en-US" sz="5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2116-D05B-4938-85D3-E5E949FBB74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91600" y="1066680"/>
            <a:ext cx="12166920" cy="613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tandardization</a:t>
            </a:r>
            <a:endParaRPr b="0" lang="en-US" sz="9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6215040" y="8142120"/>
            <a:ext cx="757872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1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846000" y="1834920"/>
            <a:ext cx="9669600" cy="2940120"/>
            <a:chOff x="846000" y="1834920"/>
            <a:chExt cx="9669600" cy="2940120"/>
          </a:xfrm>
        </p:grpSpPr>
        <p:sp>
          <p:nvSpPr>
            <p:cNvPr id="906" name=""/>
            <p:cNvSpPr/>
            <p:nvPr/>
          </p:nvSpPr>
          <p:spPr>
            <a:xfrm>
              <a:off x="846000" y="1834920"/>
              <a:ext cx="8272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finition: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ollowing reduction is </a:t>
              </a:r>
              <a:r>
                <a:rPr b="1" lang="en-US" sz="3000" spc="-1" strike="noStrike">
                  <a:solidFill>
                    <a:srgbClr val="ff0080"/>
                  </a:solidFill>
                  <a:latin typeface="Arial"/>
                  <a:ea typeface="Arial"/>
                </a:rPr>
                <a:t>standard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1828800" y="2539800"/>
              <a:ext cx="868680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2"/>
            <a:stretch/>
          </p:blipFill>
          <p:spPr>
            <a:xfrm>
              <a:off x="1143000" y="3708360"/>
              <a:ext cx="875016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"/>
          <p:cNvSpPr/>
          <p:nvPr/>
        </p:nvSpPr>
        <p:spPr>
          <a:xfrm>
            <a:off x="787320" y="5829480"/>
            <a:ext cx="103633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leftmost-outermost reduction is also called the </a:t>
            </a:r>
            <a:r>
              <a:rPr b="1" lang="en-US" sz="3000" spc="-1" strike="noStrike">
                <a:solidFill>
                  <a:srgbClr val="ff0080"/>
                </a:solidFill>
                <a:latin typeface="Arial"/>
                <a:ea typeface="Arial"/>
              </a:rPr>
              <a:t>normal reduction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60BF-35AE-4214-B923-70EF50517DC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2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301400" y="971640"/>
            <a:ext cx="11430360" cy="9232920"/>
            <a:chOff x="1301400" y="971640"/>
            <a:chExt cx="11430360" cy="9232920"/>
          </a:xfrm>
        </p:grpSpPr>
        <p:pic>
          <p:nvPicPr>
            <p:cNvPr id="913" name="" descr=""/>
            <p:cNvPicPr/>
            <p:nvPr/>
          </p:nvPicPr>
          <p:blipFill>
            <a:blip r:embed="rId1"/>
            <a:stretch/>
          </p:blipFill>
          <p:spPr>
            <a:xfrm>
              <a:off x="2367000" y="971640"/>
              <a:ext cx="10364760" cy="92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8864640" y="22971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07160" y="5040360"/>
              <a:ext cx="121932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30520" y="5052960"/>
              <a:ext cx="121932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38960" y="36561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861320" y="3630600"/>
              <a:ext cx="121896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737560" y="6373800"/>
              <a:ext cx="1219320" cy="1296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45000" y="6386760"/>
              <a:ext cx="1218960" cy="12600"/>
            </a:xfrm>
            <a:custGeom>
              <a:avLst/>
              <a:gdLst/>
              <a:ahLst/>
              <a:rect l="l" t="t" r="r" b="b"/>
              <a:pathLst>
                <a:path w="21600" h="125606">
                  <a:moveTo>
                    <a:pt x="0" y="0"/>
                  </a:moveTo>
                  <a:lnTo>
                    <a:pt x="8496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ff0000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69040" y="2333880"/>
              <a:ext cx="2040120" cy="69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7787"/>
                  </a:moveTo>
                  <a:lnTo>
                    <a:pt x="4017" y="0"/>
                  </a:lnTo>
                  <a:lnTo>
                    <a:pt x="6759" y="13813"/>
                  </a:lnTo>
                  <a:lnTo>
                    <a:pt x="10296" y="12424"/>
                  </a:lnTo>
                  <a:lnTo>
                    <a:pt x="12710" y="21600"/>
                  </a:lnTo>
                  <a:lnTo>
                    <a:pt x="16082" y="16318"/>
                  </a:lnTo>
                  <a:lnTo>
                    <a:pt x="21600" y="46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817200" y="5052960"/>
              <a:ext cx="1720800" cy="5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308"/>
                  </a:moveTo>
                  <a:lnTo>
                    <a:pt x="4758" y="0"/>
                  </a:lnTo>
                  <a:lnTo>
                    <a:pt x="12195" y="16446"/>
                  </a:lnTo>
                  <a:lnTo>
                    <a:pt x="19050" y="21600"/>
                  </a:lnTo>
                  <a:lnTo>
                    <a:pt x="21600" y="61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88520" y="7770960"/>
              <a:ext cx="97164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177"/>
                  </a:moveTo>
                  <a:lnTo>
                    <a:pt x="8427" y="0"/>
                  </a:lnTo>
                  <a:lnTo>
                    <a:pt x="14180" y="21600"/>
                  </a:lnTo>
                  <a:lnTo>
                    <a:pt x="21600" y="11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44600" y="3662280"/>
              <a:ext cx="3355920" cy="2857680"/>
            </a:xfrm>
            <a:custGeom>
              <a:avLst/>
              <a:gdLst/>
              <a:ahLst/>
              <a:rect l="l" t="t" r="r" b="b"/>
              <a:pathLst>
                <a:path w="21600" h="20095">
                  <a:moveTo>
                    <a:pt x="21600" y="2287"/>
                  </a:moveTo>
                  <a:cubicBezTo>
                    <a:pt x="21600" y="2287"/>
                    <a:pt x="12861" y="0"/>
                    <a:pt x="7840" y="3248"/>
                  </a:cubicBezTo>
                  <a:cubicBezTo>
                    <a:pt x="3518" y="6045"/>
                    <a:pt x="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301400" y="6532560"/>
              <a:ext cx="1829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80"/>
                  </a:solidFill>
                  <a:latin typeface="Courier New"/>
                  <a:ea typeface="Courier New"/>
                </a:rPr>
                <a:t>standard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8071560" y="2373480"/>
              <a:ext cx="885960" cy="91440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5263920" y="3769920"/>
              <a:ext cx="2021040" cy="87012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406040" y="5154480"/>
              <a:ext cx="198360" cy="85068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7818120" y="3808440"/>
              <a:ext cx="4680" cy="8510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993720" y="5116320"/>
              <a:ext cx="671400" cy="90180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9295920" y="2423880"/>
              <a:ext cx="1266840" cy="223524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10718280" y="5154840"/>
              <a:ext cx="165240" cy="222408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8074080" y="5116320"/>
              <a:ext cx="979200" cy="90180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8991360" y="6500880"/>
              <a:ext cx="263520" cy="8762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8915040" y="7910640"/>
              <a:ext cx="3240" cy="851040"/>
            </a:xfrm>
            <a:prstGeom prst="line">
              <a:avLst/>
            </a:prstGeom>
            <a:ln w="63360">
              <a:solidFill>
                <a:srgbClr val="b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6793920" y="6500880"/>
              <a:ext cx="3240" cy="851040"/>
            </a:xfrm>
            <a:prstGeom prst="line">
              <a:avLst/>
            </a:prstGeom>
            <a:ln w="63360">
              <a:solidFill>
                <a:srgbClr val="ff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67560" y="4989600"/>
              <a:ext cx="79992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003640" y="4989600"/>
              <a:ext cx="800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79880" y="6348600"/>
              <a:ext cx="8002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807240" y="6348600"/>
              <a:ext cx="79992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11880" y="7707240"/>
              <a:ext cx="79992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610480" y="7707240"/>
              <a:ext cx="80028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731600" y="4964040"/>
              <a:ext cx="799920" cy="6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7280"/>
                  </a:moveTo>
                  <a:lnTo>
                    <a:pt x="10629" y="21600"/>
                  </a:lnTo>
                  <a:lnTo>
                    <a:pt x="21600" y="0"/>
                  </a:lnTo>
                </a:path>
              </a:pathLst>
            </a:custGeom>
            <a:noFill/>
            <a:ln w="38160">
              <a:solidFill>
                <a:srgbClr val="003d3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10800000">
              <a:off x="4889520" y="8091720"/>
              <a:ext cx="3938400" cy="466560"/>
            </a:xfrm>
            <a:custGeom>
              <a:avLst/>
              <a:gdLst/>
              <a:ahLst/>
              <a:rect l="l" t="t" r="r" b="b"/>
              <a:pathLst>
                <a:path w="21600" h="17483">
                  <a:moveTo>
                    <a:pt x="21600" y="21600"/>
                  </a:moveTo>
                  <a:cubicBezTo>
                    <a:pt x="21600" y="21600"/>
                    <a:pt x="15927" y="0"/>
                    <a:pt x="9958" y="7922"/>
                  </a:cubicBezTo>
                  <a:cubicBezTo>
                    <a:pt x="5758" y="13497"/>
                    <a:pt x="0" y="4117"/>
                    <a:pt x="0" y="4117"/>
                  </a:cubicBezTo>
                </a:path>
              </a:pathLst>
            </a:custGeom>
            <a:noFill/>
            <a:ln w="38160">
              <a:solidFill>
                <a:srgbClr val="a20b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460320" y="8253360"/>
              <a:ext cx="1372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aa1602"/>
                  </a:solidFill>
                  <a:latin typeface="Courier New"/>
                  <a:ea typeface="Courier New"/>
                </a:rPr>
                <a:t>normal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46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1715-795A-40AB-AD9C-3271CD2CEA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Standard reductions (3/3)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8" name=""/>
          <p:cNvSpPr/>
          <p:nvPr/>
        </p:nvSpPr>
        <p:spPr>
          <a:xfrm>
            <a:off x="674280" y="5105160"/>
            <a:ext cx="100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y reduction can be performed outside-in and left-to-right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520560" y="1720800"/>
            <a:ext cx="12115800" cy="2507760"/>
            <a:chOff x="520560" y="1720800"/>
            <a:chExt cx="12115800" cy="2507760"/>
          </a:xfrm>
        </p:grpSpPr>
        <p:sp>
          <p:nvSpPr>
            <p:cNvPr id="950" name=""/>
            <p:cNvSpPr/>
            <p:nvPr/>
          </p:nvSpPr>
          <p:spPr>
            <a:xfrm>
              <a:off x="520560" y="1720800"/>
              <a:ext cx="1211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Standardization thm</a:t>
              </a:r>
              <a:r>
                <a:rPr b="0" lang="en-US" sz="3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[Curry 50] 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863640" y="2413080"/>
              <a:ext cx="5930640" cy="582480"/>
              <a:chOff x="863640" y="2413080"/>
              <a:chExt cx="5930640" cy="582480"/>
            </a:xfrm>
          </p:grpSpPr>
          <p:pic>
            <p:nvPicPr>
              <p:cNvPr id="9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63640" y="2413080"/>
                <a:ext cx="5930640" cy="38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3" name=""/>
              <p:cNvSpPr/>
              <p:nvPr/>
            </p:nvSpPr>
            <p:spPr>
              <a:xfrm>
                <a:off x="5630760" y="2629440"/>
                <a:ext cx="27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st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432280" y="2286000"/>
              <a:ext cx="3796920" cy="1942560"/>
              <a:chOff x="8432280" y="2286000"/>
              <a:chExt cx="3796920" cy="1942560"/>
            </a:xfrm>
          </p:grpSpPr>
          <p:sp>
            <p:nvSpPr>
              <p:cNvPr id="955" name=""/>
              <p:cNvSpPr/>
              <p:nvPr/>
            </p:nvSpPr>
            <p:spPr>
              <a:xfrm flipH="1">
                <a:off x="8432280" y="2641320"/>
                <a:ext cx="379692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443800" y="2614320"/>
                <a:ext cx="3729960" cy="1144080"/>
              </a:xfrm>
              <a:custGeom>
                <a:avLst/>
                <a:gdLst/>
                <a:ahLst/>
                <a:rect l="l" t="t" r="r" b="b"/>
                <a:pathLst>
                  <a:path w="21600" h="21530">
                    <a:moveTo>
                      <a:pt x="0" y="0"/>
                    </a:moveTo>
                    <a:cubicBezTo>
                      <a:pt x="0" y="0"/>
                      <a:pt x="5508" y="21495"/>
                      <a:pt x="8952" y="21530"/>
                    </a:cubicBezTo>
                    <a:cubicBezTo>
                      <a:pt x="15783" y="21600"/>
                      <a:pt x="21600" y="1675"/>
                      <a:pt x="21600" y="1675"/>
                    </a:cubicBezTo>
                  </a:path>
                </a:pathLst>
              </a:custGeom>
              <a:noFill/>
              <a:ln w="50760">
                <a:solidFill>
                  <a:srgbClr val="0080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pic>
            <p:nvPicPr>
              <p:cNvPr id="9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96640" y="2286000"/>
                <a:ext cx="22860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892080" y="3898440"/>
                <a:ext cx="482400" cy="330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9" name=""/>
          <p:cNvGrpSpPr/>
          <p:nvPr/>
        </p:nvGrpSpPr>
        <p:grpSpPr>
          <a:xfrm>
            <a:off x="520560" y="6635880"/>
            <a:ext cx="12318480" cy="2495520"/>
            <a:chOff x="520560" y="6635880"/>
            <a:chExt cx="12318480" cy="2495520"/>
          </a:xfrm>
        </p:grpSpPr>
        <p:sp>
          <p:nvSpPr>
            <p:cNvPr id="960" name=""/>
            <p:cNvSpPr/>
            <p:nvPr/>
          </p:nvSpPr>
          <p:spPr>
            <a:xfrm>
              <a:off x="520560" y="6635880"/>
              <a:ext cx="121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Arial"/>
                  <a:ea typeface="Arial"/>
                </a:rPr>
                <a:t>Normalization  corollary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863640" y="7290000"/>
              <a:ext cx="6159240" cy="589320"/>
              <a:chOff x="863640" y="7290000"/>
              <a:chExt cx="6159240" cy="589320"/>
            </a:xfrm>
          </p:grpSpPr>
          <p:pic>
            <p:nvPicPr>
              <p:cNvPr id="9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63640" y="7290000"/>
                <a:ext cx="615924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3" name=""/>
              <p:cNvSpPr/>
              <p:nvPr/>
            </p:nvSpPr>
            <p:spPr>
              <a:xfrm>
                <a:off x="5568120" y="751320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norm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8432640" y="7162920"/>
              <a:ext cx="4406400" cy="1968480"/>
              <a:chOff x="8432640" y="7162920"/>
              <a:chExt cx="4406400" cy="1968480"/>
            </a:xfrm>
          </p:grpSpPr>
          <p:sp>
            <p:nvSpPr>
              <p:cNvPr id="965" name=""/>
              <p:cNvSpPr/>
              <p:nvPr/>
            </p:nvSpPr>
            <p:spPr>
              <a:xfrm flipH="1">
                <a:off x="8432640" y="7518600"/>
                <a:ext cx="3795840" cy="0"/>
              </a:xfrm>
              <a:prstGeom prst="line">
                <a:avLst/>
              </a:prstGeom>
              <a:ln w="50760">
                <a:solidFill>
                  <a:srgbClr val="008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8443800" y="7162920"/>
                <a:ext cx="4395240" cy="1968480"/>
                <a:chOff x="8443800" y="7162920"/>
                <a:chExt cx="4395240" cy="196848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8443800" y="7491600"/>
                  <a:ext cx="3728520" cy="1144440"/>
                </a:xfrm>
                <a:custGeom>
                  <a:avLst/>
                  <a:gdLst/>
                  <a:ahLst/>
                  <a:rect l="l" t="t" r="r" b="b"/>
                  <a:pathLst>
                    <a:path w="21600" h="21530">
                      <a:moveTo>
                        <a:pt x="0" y="0"/>
                      </a:moveTo>
                      <a:cubicBezTo>
                        <a:pt x="0" y="0"/>
                        <a:pt x="5508" y="21495"/>
                        <a:pt x="8952" y="21530"/>
                      </a:cubicBezTo>
                      <a:cubicBezTo>
                        <a:pt x="15783" y="21600"/>
                        <a:pt x="21600" y="1675"/>
                        <a:pt x="21600" y="1675"/>
                      </a:cubicBezTo>
                    </a:path>
                  </a:pathLst>
                </a:custGeom>
                <a:noFill/>
                <a:ln w="50760">
                  <a:solidFill>
                    <a:srgbClr val="008000"/>
                  </a:solidFill>
                  <a:prstDash val="sysDot"/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96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96640" y="7162920"/>
                  <a:ext cx="228600" cy="31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726840" y="8801280"/>
                  <a:ext cx="92700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394440" y="7290000"/>
                  <a:ext cx="44460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971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603B-C365-4018-AECD-5299F63BAD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457200" y="254160"/>
            <a:ext cx="120142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d8a"/>
                </a:solidFill>
                <a:latin typeface="Skia"/>
                <a:ea typeface="Skia"/>
              </a:rPr>
              <a:t>Our result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"/>
          <p:cNvSpPr/>
          <p:nvPr/>
        </p:nvSpPr>
        <p:spPr>
          <a:xfrm>
            <a:off x="457200" y="1987560"/>
            <a:ext cx="12115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Upper-bound on standard reductions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Hongwey Xi, 99]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" y="4876920"/>
            <a:ext cx="12115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Upper-bound to normal forms </a:t>
            </a:r>
            <a:r>
              <a:rPr b="0" lang="en-US" sz="3000" spc="-1" strike="noStrike">
                <a:solidFill>
                  <a:srgbClr val="ff0000"/>
                </a:solidFill>
                <a:latin typeface="Courier New"/>
                <a:ea typeface="Courier New"/>
              </a:rPr>
              <a:t>[Asperti-JJL, 13]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5" name=""/>
          <p:cNvSpPr/>
          <p:nvPr/>
        </p:nvSpPr>
        <p:spPr>
          <a:xfrm>
            <a:off x="685800" y="8166240"/>
            <a:ext cx="10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e gain one exponential.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825480" y="5613480"/>
            <a:ext cx="8928000" cy="1255680"/>
            <a:chOff x="825480" y="5613480"/>
            <a:chExt cx="8928000" cy="1255680"/>
          </a:xfrm>
        </p:grpSpPr>
        <p:pic>
          <p:nvPicPr>
            <p:cNvPr id="977" name="" descr=""/>
            <p:cNvPicPr/>
            <p:nvPr/>
          </p:nvPicPr>
          <p:blipFill>
            <a:blip r:embed="rId1"/>
            <a:stretch/>
          </p:blipFill>
          <p:spPr>
            <a:xfrm>
              <a:off x="825480" y="5613480"/>
              <a:ext cx="8928000" cy="48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8" name=""/>
            <p:cNvGrpSpPr/>
            <p:nvPr/>
          </p:nvGrpSpPr>
          <p:grpSpPr>
            <a:xfrm>
              <a:off x="851040" y="6286680"/>
              <a:ext cx="4419360" cy="582480"/>
              <a:chOff x="851040" y="6286680"/>
              <a:chExt cx="4419360" cy="582480"/>
            </a:xfrm>
          </p:grpSpPr>
          <p:pic>
            <p:nvPicPr>
              <p:cNvPr id="9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51040" y="6286680"/>
                <a:ext cx="4419360" cy="46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0" name=""/>
              <p:cNvSpPr/>
              <p:nvPr/>
            </p:nvSpPr>
            <p:spPr>
              <a:xfrm>
                <a:off x="3980520" y="65030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norm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81" name=""/>
          <p:cNvGrpSpPr/>
          <p:nvPr/>
        </p:nvGrpSpPr>
        <p:grpSpPr>
          <a:xfrm>
            <a:off x="851040" y="2666880"/>
            <a:ext cx="9283680" cy="1408680"/>
            <a:chOff x="851040" y="2666880"/>
            <a:chExt cx="9283680" cy="1408680"/>
          </a:xfrm>
        </p:grpSpPr>
        <p:pic>
          <p:nvPicPr>
            <p:cNvPr id="982" name="" descr=""/>
            <p:cNvPicPr/>
            <p:nvPr/>
          </p:nvPicPr>
          <p:blipFill>
            <a:blip r:embed="rId3"/>
            <a:stretch/>
          </p:blipFill>
          <p:spPr>
            <a:xfrm>
              <a:off x="851040" y="3504960"/>
              <a:ext cx="407664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3764520" y="370944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st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84" name="" descr=""/>
            <p:cNvPicPr/>
            <p:nvPr/>
          </p:nvPicPr>
          <p:blipFill>
            <a:blip r:embed="rId4"/>
            <a:stretch/>
          </p:blipFill>
          <p:spPr>
            <a:xfrm>
              <a:off x="851040" y="2666880"/>
              <a:ext cx="928368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5" name=""/>
          <p:cNvSpPr txBox="1"/>
          <p:nvPr/>
        </p:nvSpPr>
        <p:spPr>
          <a:xfrm>
            <a:off x="12274200" y="9321480"/>
            <a:ext cx="228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FE0A-614F-483C-B9F3-5E1C8E1188C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