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4.pct" ContentType="image/x-pict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4.png" ContentType="image/png"/>
  <Override PartName="/ppt/media/image4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A78F3-57E0-4138-857F-990495DF8FC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FD11E-E137-4756-AA6D-8E816A259B8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C7D54-932B-47BC-B4DC-49BD4971E3A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4AAAE-9D30-44A9-BF29-BBAE6524064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A54BF-FA83-4322-905B-E9D97B7297D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55DA9-571E-4630-A9AB-6A8306A8BA0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AEA21-D815-4C2B-8206-05380C2ACBF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F57E8-74CB-413F-A3D4-B786474234C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D0CA0-CFA5-436B-942D-5EAC962B61C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FBF24-E1CF-421C-9841-FBEC4A9DA75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0705-DC59-4FA3-B92C-41A88920899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2B16E-D464-4844-9637-22D1650D998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796CC-704D-4361-A0B9-61EAD241855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7AF3-A9F2-4C8A-873E-1CB99C722E2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BDF16-CDE6-40C3-B855-D3BE942D893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31C8-0138-4CB7-BC87-43EECC9931E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03A3-0531-4A1A-9E22-97376AEFD14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F7FA8-0141-4592-BD52-643E9378A89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1179B-CC6F-4125-BDBC-7601E025E09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E9E2-0A67-4DD6-BA7F-3560ECE7C78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621C-538F-47DB-B75A-1C1AC21747E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836D-C1FD-483B-8167-A3A20EA07A3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014E-C5C4-49EF-9947-3E86412F997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1DE4-1F83-44CE-8D02-6B19C858FCE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8D24-EA81-442B-955F-6DFA305F0F9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1DBD-E230-4F97-955C-05D0503926E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8CE-4EDD-4149-9BA1-C687912523C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9E7-FEC7-45FE-83A4-10B21A0A6A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EFA5-FA88-42F8-85F8-0443A8C6AA7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E3F0-C416-47A3-B657-57AE44DD6D9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DDAC-FD5C-4E1B-BCBD-52693243E73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B54A-75EE-4F4B-BAD7-789AEB1CCD6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A266-9B43-4081-BB57-6AFB67F4F33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ECDEB-A79A-4A8D-95D5-1442C78C610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EF00D-6449-4C6F-804E-3272B5F7E8E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64753-7ECF-4C9A-A79C-E8B9B73E3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C12F-D308-4931-8B66-88256B880A3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ldNum" idx="3"/>
          </p:nvPr>
        </p:nvSpPr>
        <p:spPr>
          <a:xfrm>
            <a:off x="12217320" y="9321840"/>
            <a:ext cx="2923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468D-6335-401E-92C5-E9A97B8C7484}" type="slidenum"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Num" idx="2"/>
          </p:nvPr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6789-408C-4DE2-8A02-458401DE302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36.png"/><Relationship Id="rId5" Type="http://schemas.openxmlformats.org/officeDocument/2006/relationships/image" Target="../media/image28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6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2.png"/><Relationship Id="rId11" Type="http://schemas.openxmlformats.org/officeDocument/2006/relationships/image" Target="../media/image53.png"/><Relationship Id="rId12" Type="http://schemas.openxmlformats.org/officeDocument/2006/relationships/image" Target="../media/image54.png"/><Relationship Id="rId13" Type="http://schemas.openxmlformats.org/officeDocument/2006/relationships/image" Target="../media/image55.png"/><Relationship Id="rId14" Type="http://schemas.openxmlformats.org/officeDocument/2006/relationships/image" Target="../media/image56.png"/><Relationship Id="rId15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3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9.png"/><Relationship Id="rId8" Type="http://schemas.openxmlformats.org/officeDocument/2006/relationships/image" Target="../media/image60.png"/><Relationship Id="rId9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32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79360" y="1219320"/>
            <a:ext cx="12166560" cy="4749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The cost  </a:t>
            </a:r>
            <a:r>
              <a:rPr b="0" lang="en-US" sz="96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of </a:t>
            </a:r>
            <a:r>
              <a:rPr b="0" lang="en-US" sz="10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 usage</a:t>
            </a:r>
            <a:br>
              <a:rPr sz="9200"/>
            </a:br>
            <a:r>
              <a:rPr b="0" lang="en-US" sz="57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in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the λ-calculus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2"/>
          <a:stretch/>
        </p:blipFill>
        <p:spPr>
          <a:xfrm>
            <a:off x="6215040" y="8142120"/>
            <a:ext cx="7578720" cy="170676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4021200" y="6131520"/>
            <a:ext cx="4681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ean-jacques.levy@inria.f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2" name=""/>
          <p:cNvSpPr/>
          <p:nvPr/>
        </p:nvSpPr>
        <p:spPr>
          <a:xfrm>
            <a:off x="4415040" y="7050600"/>
            <a:ext cx="3891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.-L. Curien </a:t>
            </a:r>
            <a:r>
              <a:rPr b="0" lang="en-US" sz="2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60th birthday,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Venice, 10-09-2013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291600" y="1066680"/>
            <a:ext cx="12166920" cy="613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Rigid prefixes: </a:t>
            </a:r>
            <a:br>
              <a:rPr sz="9200"/>
            </a:br>
            <a:r>
              <a:rPr b="0" lang="en-US" sz="7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tability </a:t>
            </a:r>
            <a:br>
              <a:rPr sz="7200"/>
            </a:b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and</a:t>
            </a:r>
            <a:br>
              <a:rPr sz="9200"/>
            </a:br>
            <a:r>
              <a:rPr b="0" lang="en-US" sz="7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ultiplicity of variables 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6215040" y="8142120"/>
            <a:ext cx="757872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457200" y="10152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tability (1/2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9" name=""/>
          <p:cNvSpPr/>
          <p:nvPr/>
        </p:nvSpPr>
        <p:spPr>
          <a:xfrm>
            <a:off x="457200" y="1530360"/>
            <a:ext cx="12255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Definition </a:t>
            </a:r>
            <a:r>
              <a:rPr b="0" lang="en-US" sz="3000" spc="-1" strike="noStrike">
                <a:solidFill>
                  <a:srgbClr val="ff0000"/>
                </a:solidFill>
                <a:latin typeface="Courier New"/>
                <a:ea typeface="Courier New"/>
              </a:rPr>
              <a:t>[rigid prefix]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prefix o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is rigid when never the left of an application i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can reduce to an abstraction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90" name="" descr=""/>
          <p:cNvPicPr/>
          <p:nvPr/>
        </p:nvPicPr>
        <p:blipFill>
          <a:blip r:embed="rId1"/>
          <a:stretch/>
        </p:blipFill>
        <p:spPr>
          <a:xfrm>
            <a:off x="787320" y="4762440"/>
            <a:ext cx="6845400" cy="457200"/>
          </a:xfrm>
          <a:prstGeom prst="rect">
            <a:avLst/>
          </a:prstGeom>
          <a:ln w="0">
            <a:noFill/>
          </a:ln>
        </p:spPr>
      </p:pic>
      <p:pic>
        <p:nvPicPr>
          <p:cNvPr id="991" name="" descr=""/>
          <p:cNvPicPr/>
          <p:nvPr/>
        </p:nvPicPr>
        <p:blipFill>
          <a:blip r:embed="rId2"/>
          <a:stretch/>
        </p:blipFill>
        <p:spPr>
          <a:xfrm>
            <a:off x="7823160" y="3124080"/>
            <a:ext cx="4152960" cy="45720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3"/>
          <a:stretch/>
        </p:blipFill>
        <p:spPr>
          <a:xfrm>
            <a:off x="787320" y="3949560"/>
            <a:ext cx="5257800" cy="45720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4"/>
          <a:stretch/>
        </p:blipFill>
        <p:spPr>
          <a:xfrm>
            <a:off x="8166240" y="3936960"/>
            <a:ext cx="3809880" cy="457200"/>
          </a:xfrm>
          <a:prstGeom prst="rect">
            <a:avLst/>
          </a:prstGeom>
          <a:ln w="0">
            <a:noFill/>
          </a:ln>
        </p:spPr>
      </p:pic>
      <p:sp>
        <p:nvSpPr>
          <p:cNvPr id="994" name=""/>
          <p:cNvSpPr/>
          <p:nvPr/>
        </p:nvSpPr>
        <p:spPr>
          <a:xfrm>
            <a:off x="677160" y="5963760"/>
            <a:ext cx="706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 rigid prefixes are finite prefixes of Berarducci tree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5"/>
          <a:stretch/>
        </p:blipFill>
        <p:spPr>
          <a:xfrm>
            <a:off x="10134720" y="4724280"/>
            <a:ext cx="1650960" cy="34308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D90A-3615-41A4-B460-439F6F4B761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629640" y="7340400"/>
            <a:ext cx="12210120" cy="469800"/>
            <a:chOff x="629640" y="7340400"/>
            <a:chExt cx="12210120" cy="469800"/>
          </a:xfrm>
        </p:grpSpPr>
        <p:sp>
          <p:nvSpPr>
            <p:cNvPr id="998" name=""/>
            <p:cNvSpPr/>
            <p:nvPr/>
          </p:nvSpPr>
          <p:spPr>
            <a:xfrm>
              <a:off x="629640" y="7340400"/>
              <a:ext cx="2027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ff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Definition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999" name="" descr=""/>
            <p:cNvPicPr/>
            <p:nvPr/>
          </p:nvPicPr>
          <p:blipFill>
            <a:blip r:embed="rId6"/>
            <a:stretch/>
          </p:blipFill>
          <p:spPr>
            <a:xfrm>
              <a:off x="2768760" y="7353000"/>
              <a:ext cx="100710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457200" y="10152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tability (2/2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1" name=""/>
          <p:cNvSpPr/>
          <p:nvPr/>
        </p:nvSpPr>
        <p:spPr>
          <a:xfrm>
            <a:off x="457200" y="1695600"/>
            <a:ext cx="12255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Theorem </a:t>
            </a:r>
            <a:r>
              <a:rPr b="0" lang="en-US" sz="3000" spc="-1" strike="noStrike">
                <a:solidFill>
                  <a:srgbClr val="ff0000"/>
                </a:solidFill>
                <a:latin typeface="Courier New"/>
                <a:ea typeface="Courier New"/>
              </a:rPr>
              <a:t>[stability]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r any rigid prefix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roduced by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060A-1052-4380-B836-1AC9733032D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457200" y="7601040"/>
            <a:ext cx="12255480" cy="1085760"/>
            <a:chOff x="457200" y="7601040"/>
            <a:chExt cx="12255480" cy="1085760"/>
          </a:xfrm>
        </p:grpSpPr>
        <p:sp>
          <p:nvSpPr>
            <p:cNvPr id="1004" name=""/>
            <p:cNvSpPr/>
            <p:nvPr/>
          </p:nvSpPr>
          <p:spPr>
            <a:xfrm>
              <a:off x="457200" y="7601040"/>
              <a:ext cx="12255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Fact </a:t>
              </a:r>
              <a:r>
                <a:rPr b="0" lang="en-US" sz="30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[monotony] 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05" name="" descr=""/>
            <p:cNvPicPr/>
            <p:nvPr/>
          </p:nvPicPr>
          <p:blipFill>
            <a:blip r:embed="rId1"/>
            <a:stretch/>
          </p:blipFill>
          <p:spPr>
            <a:xfrm>
              <a:off x="4254480" y="7709040"/>
              <a:ext cx="71629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" descr=""/>
            <p:cNvPicPr/>
            <p:nvPr/>
          </p:nvPicPr>
          <p:blipFill>
            <a:blip r:embed="rId2"/>
            <a:stretch/>
          </p:blipFill>
          <p:spPr>
            <a:xfrm>
              <a:off x="711360" y="8280360"/>
              <a:ext cx="384804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"/>
          <p:cNvGrpSpPr/>
          <p:nvPr/>
        </p:nvGrpSpPr>
        <p:grpSpPr>
          <a:xfrm>
            <a:off x="1689120" y="3365640"/>
            <a:ext cx="7975440" cy="3415680"/>
            <a:chOff x="1689120" y="3365640"/>
            <a:chExt cx="7975440" cy="3415680"/>
          </a:xfrm>
        </p:grpSpPr>
        <p:sp>
          <p:nvSpPr>
            <p:cNvPr id="1008" name=""/>
            <p:cNvSpPr/>
            <p:nvPr/>
          </p:nvSpPr>
          <p:spPr>
            <a:xfrm>
              <a:off x="2057400" y="3682800"/>
              <a:ext cx="2374920" cy="2653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3"/>
            <a:stretch/>
          </p:blipFill>
          <p:spPr>
            <a:xfrm>
              <a:off x="3060720" y="6464160"/>
              <a:ext cx="380880" cy="3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0" name=""/>
            <p:cNvSpPr/>
            <p:nvPr/>
          </p:nvSpPr>
          <p:spPr>
            <a:xfrm>
              <a:off x="2527200" y="3657240"/>
              <a:ext cx="1425600" cy="2031840"/>
            </a:xfrm>
            <a:custGeom>
              <a:avLst/>
              <a:gdLst/>
              <a:ahLst/>
              <a:rect l="l" t="t" r="r" b="b"/>
              <a:pathLst>
                <a:path w="21600" h="21450">
                  <a:moveTo>
                    <a:pt x="10962" y="0"/>
                  </a:moveTo>
                  <a:lnTo>
                    <a:pt x="0" y="17014"/>
                  </a:lnTo>
                  <a:cubicBezTo>
                    <a:pt x="0" y="17014"/>
                    <a:pt x="5236" y="21600"/>
                    <a:pt x="6538" y="21446"/>
                  </a:cubicBezTo>
                  <a:cubicBezTo>
                    <a:pt x="8239" y="21245"/>
                    <a:pt x="11999" y="17319"/>
                    <a:pt x="13848" y="16889"/>
                  </a:cubicBezTo>
                  <a:cubicBezTo>
                    <a:pt x="16812" y="16200"/>
                    <a:pt x="21600" y="16889"/>
                    <a:pt x="21600" y="16889"/>
                  </a:cubicBezTo>
                  <a:lnTo>
                    <a:pt x="10962" y="0"/>
                  </a:lnTo>
                  <a:close/>
                  <a:moveTo>
                    <a:pt x="10962" y="0"/>
                  </a:moveTo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11" name="" descr=""/>
            <p:cNvPicPr/>
            <p:nvPr/>
          </p:nvPicPr>
          <p:blipFill>
            <a:blip r:embed="rId4"/>
            <a:stretch/>
          </p:blipFill>
          <p:spPr>
            <a:xfrm>
              <a:off x="1689120" y="4267080"/>
              <a:ext cx="990720" cy="4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2" name=""/>
            <p:cNvSpPr/>
            <p:nvPr/>
          </p:nvSpPr>
          <p:spPr>
            <a:xfrm>
              <a:off x="7290000" y="3365640"/>
              <a:ext cx="2374560" cy="30985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904160" y="3377880"/>
              <a:ext cx="1209600" cy="1711080"/>
            </a:xfrm>
            <a:custGeom>
              <a:avLst/>
              <a:gdLst/>
              <a:ahLst/>
              <a:rect l="l" t="t" r="r" b="b"/>
              <a:pathLst>
                <a:path w="21600" h="20892">
                  <a:moveTo>
                    <a:pt x="10328" y="0"/>
                  </a:moveTo>
                  <a:lnTo>
                    <a:pt x="0" y="18109"/>
                  </a:lnTo>
                  <a:cubicBezTo>
                    <a:pt x="0" y="18109"/>
                    <a:pt x="1410" y="17736"/>
                    <a:pt x="5456" y="16887"/>
                  </a:cubicBezTo>
                  <a:cubicBezTo>
                    <a:pt x="10025" y="15928"/>
                    <a:pt x="9547" y="19289"/>
                    <a:pt x="13738" y="20450"/>
                  </a:cubicBezTo>
                  <a:cubicBezTo>
                    <a:pt x="17888" y="21600"/>
                    <a:pt x="21600" y="20140"/>
                    <a:pt x="21600" y="20140"/>
                  </a:cubicBezTo>
                  <a:lnTo>
                    <a:pt x="10328" y="0"/>
                  </a:lnTo>
                  <a:close/>
                  <a:moveTo>
                    <a:pt x="10328" y="0"/>
                  </a:moveTo>
                </a:path>
              </a:pathLst>
            </a:custGeom>
            <a:solidFill>
              <a:srgbClr val="ff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14" name="" descr=""/>
            <p:cNvPicPr/>
            <p:nvPr/>
          </p:nvPicPr>
          <p:blipFill>
            <a:blip r:embed="rId5"/>
            <a:stretch/>
          </p:blipFill>
          <p:spPr>
            <a:xfrm>
              <a:off x="8915400" y="3987720"/>
              <a:ext cx="291960" cy="31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5" name=""/>
            <p:cNvGrpSpPr/>
            <p:nvPr/>
          </p:nvGrpSpPr>
          <p:grpSpPr>
            <a:xfrm>
              <a:off x="4792680" y="4305960"/>
              <a:ext cx="2139840" cy="372960"/>
              <a:chOff x="4792680" y="4305960"/>
              <a:chExt cx="2139840" cy="372960"/>
            </a:xfrm>
          </p:grpSpPr>
          <p:sp>
            <p:nvSpPr>
              <p:cNvPr id="1016" name=""/>
              <p:cNvSpPr/>
              <p:nvPr/>
            </p:nvSpPr>
            <p:spPr>
              <a:xfrm flipH="1">
                <a:off x="4792680" y="4673160"/>
                <a:ext cx="2139840" cy="5760"/>
              </a:xfrm>
              <a:prstGeom prst="line">
                <a:avLst/>
              </a:prstGeom>
              <a:ln w="76320">
                <a:solidFill>
                  <a:srgbClr val="408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662440" y="4305960"/>
                <a:ext cx="27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Gill Sans"/>
                    <a:ea typeface="Heiti SC Light"/>
                  </a:rPr>
                  <a:t>★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pic>
        <p:nvPicPr>
          <p:cNvPr id="1018" name="" descr=""/>
          <p:cNvPicPr/>
          <p:nvPr/>
        </p:nvPicPr>
        <p:blipFill>
          <a:blip r:embed="rId6"/>
          <a:stretch/>
        </p:blipFill>
        <p:spPr>
          <a:xfrm>
            <a:off x="673200" y="2336760"/>
            <a:ext cx="109090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9" name=""/>
          <p:cNvGrpSpPr/>
          <p:nvPr/>
        </p:nvGrpSpPr>
        <p:grpSpPr>
          <a:xfrm>
            <a:off x="457200" y="1968480"/>
            <a:ext cx="12255480" cy="1320840"/>
            <a:chOff x="457200" y="1968480"/>
            <a:chExt cx="12255480" cy="1320840"/>
          </a:xfrm>
        </p:grpSpPr>
        <p:sp>
          <p:nvSpPr>
            <p:cNvPr id="1020" name=""/>
            <p:cNvSpPr/>
            <p:nvPr/>
          </p:nvSpPr>
          <p:spPr>
            <a:xfrm>
              <a:off x="457200" y="1968480"/>
              <a:ext cx="12255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Lemma 1 </a:t>
              </a:r>
              <a:r>
                <a:rPr b="0" lang="en-US" sz="30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[slow consumption] 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21" name="" descr=""/>
            <p:cNvPicPr/>
            <p:nvPr/>
          </p:nvPicPr>
          <p:blipFill>
            <a:blip r:embed="rId1"/>
            <a:stretch/>
          </p:blipFill>
          <p:spPr>
            <a:xfrm>
              <a:off x="6845400" y="2120760"/>
              <a:ext cx="506736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" descr=""/>
            <p:cNvPicPr/>
            <p:nvPr/>
          </p:nvPicPr>
          <p:blipFill>
            <a:blip r:embed="rId2"/>
            <a:stretch/>
          </p:blipFill>
          <p:spPr>
            <a:xfrm>
              <a:off x="711360" y="2832120"/>
              <a:ext cx="7340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1968-D724-470D-9BB5-AE629123AAA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4" name=""/>
          <p:cNvSpPr/>
          <p:nvPr/>
        </p:nvSpPr>
        <p:spPr>
          <a:xfrm>
            <a:off x="457200" y="10152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low consumption (1/2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596880" y="7029360"/>
            <a:ext cx="12255480" cy="1200240"/>
            <a:chOff x="596880" y="7029360"/>
            <a:chExt cx="12255480" cy="1200240"/>
          </a:xfrm>
        </p:grpSpPr>
        <p:grpSp>
          <p:nvGrpSpPr>
            <p:cNvPr id="1026" name=""/>
            <p:cNvGrpSpPr/>
            <p:nvPr/>
          </p:nvGrpSpPr>
          <p:grpSpPr>
            <a:xfrm>
              <a:off x="596880" y="7029360"/>
              <a:ext cx="12255480" cy="520560"/>
              <a:chOff x="596880" y="7029360"/>
              <a:chExt cx="12255480" cy="520560"/>
            </a:xfrm>
          </p:grpSpPr>
          <p:sp>
            <p:nvSpPr>
              <p:cNvPr id="1027" name=""/>
              <p:cNvSpPr/>
              <p:nvPr/>
            </p:nvSpPr>
            <p:spPr>
              <a:xfrm>
                <a:off x="596880" y="7029360"/>
                <a:ext cx="1225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000000"/>
                  </a:buClr>
                  <a:buSzPct val="125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30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Corollary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102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2880" y="7048440"/>
                <a:ext cx="8356680" cy="469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29" name="" descr=""/>
            <p:cNvPicPr/>
            <p:nvPr/>
          </p:nvPicPr>
          <p:blipFill>
            <a:blip r:embed="rId4"/>
            <a:stretch/>
          </p:blipFill>
          <p:spPr>
            <a:xfrm>
              <a:off x="901800" y="7772400"/>
              <a:ext cx="52704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0" name=""/>
          <p:cNvGrpSpPr/>
          <p:nvPr/>
        </p:nvGrpSpPr>
        <p:grpSpPr>
          <a:xfrm>
            <a:off x="876240" y="3860640"/>
            <a:ext cx="11315880" cy="1739880"/>
            <a:chOff x="876240" y="3860640"/>
            <a:chExt cx="11315880" cy="1739880"/>
          </a:xfrm>
        </p:grpSpPr>
        <p:grpSp>
          <p:nvGrpSpPr>
            <p:cNvPr id="1031" name=""/>
            <p:cNvGrpSpPr/>
            <p:nvPr/>
          </p:nvGrpSpPr>
          <p:grpSpPr>
            <a:xfrm>
              <a:off x="1778040" y="3860640"/>
              <a:ext cx="10414080" cy="1739880"/>
              <a:chOff x="1778040" y="3860640"/>
              <a:chExt cx="10414080" cy="1739880"/>
            </a:xfrm>
          </p:grpSpPr>
          <p:sp>
            <p:nvSpPr>
              <p:cNvPr id="1032" name=""/>
              <p:cNvSpPr/>
              <p:nvPr/>
            </p:nvSpPr>
            <p:spPr>
              <a:xfrm>
                <a:off x="1778040" y="3860640"/>
                <a:ext cx="4788000" cy="812880"/>
              </a:xfrm>
              <a:prstGeom prst="roundRect">
                <a:avLst>
                  <a:gd name="adj" fmla="val 23435"/>
                </a:avLst>
              </a:prstGeom>
              <a:solidFill>
                <a:srgbClr val="5fe80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103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97680" y="4038480"/>
                <a:ext cx="5194440" cy="1562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34" name="" descr=""/>
            <p:cNvPicPr/>
            <p:nvPr/>
          </p:nvPicPr>
          <p:blipFill>
            <a:blip r:embed="rId6"/>
            <a:stretch/>
          </p:blipFill>
          <p:spPr>
            <a:xfrm>
              <a:off x="876240" y="4025880"/>
              <a:ext cx="560088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E1E9-40D4-40CB-8532-8B9388FA7F6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3022560" y="1282680"/>
            <a:ext cx="7975440" cy="3416400"/>
            <a:chOff x="3022560" y="1282680"/>
            <a:chExt cx="7975440" cy="3416400"/>
          </a:xfrm>
        </p:grpSpPr>
        <p:sp>
          <p:nvSpPr>
            <p:cNvPr id="1037" name=""/>
            <p:cNvSpPr/>
            <p:nvPr/>
          </p:nvSpPr>
          <p:spPr>
            <a:xfrm>
              <a:off x="3390840" y="1600200"/>
              <a:ext cx="2374920" cy="26542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38" name="" descr=""/>
            <p:cNvPicPr/>
            <p:nvPr/>
          </p:nvPicPr>
          <p:blipFill>
            <a:blip r:embed="rId1"/>
            <a:stretch/>
          </p:blipFill>
          <p:spPr>
            <a:xfrm>
              <a:off x="4394160" y="4381560"/>
              <a:ext cx="38088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9" name=""/>
            <p:cNvSpPr/>
            <p:nvPr/>
          </p:nvSpPr>
          <p:spPr>
            <a:xfrm>
              <a:off x="3860640" y="1574640"/>
              <a:ext cx="1425600" cy="2032200"/>
            </a:xfrm>
            <a:custGeom>
              <a:avLst/>
              <a:gdLst/>
              <a:ahLst/>
              <a:rect l="l" t="t" r="r" b="b"/>
              <a:pathLst>
                <a:path w="21600" h="21450">
                  <a:moveTo>
                    <a:pt x="10962" y="0"/>
                  </a:moveTo>
                  <a:lnTo>
                    <a:pt x="0" y="17014"/>
                  </a:lnTo>
                  <a:cubicBezTo>
                    <a:pt x="0" y="17014"/>
                    <a:pt x="5236" y="21600"/>
                    <a:pt x="6538" y="21446"/>
                  </a:cubicBezTo>
                  <a:cubicBezTo>
                    <a:pt x="8239" y="21245"/>
                    <a:pt x="11999" y="17319"/>
                    <a:pt x="13848" y="16889"/>
                  </a:cubicBezTo>
                  <a:cubicBezTo>
                    <a:pt x="16812" y="16200"/>
                    <a:pt x="21600" y="16889"/>
                    <a:pt x="21600" y="16889"/>
                  </a:cubicBezTo>
                  <a:lnTo>
                    <a:pt x="10962" y="0"/>
                  </a:lnTo>
                  <a:close/>
                  <a:moveTo>
                    <a:pt x="10962" y="0"/>
                  </a:moveTo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40" name="" descr=""/>
            <p:cNvPicPr/>
            <p:nvPr/>
          </p:nvPicPr>
          <p:blipFill>
            <a:blip r:embed="rId2"/>
            <a:stretch/>
          </p:blipFill>
          <p:spPr>
            <a:xfrm>
              <a:off x="3022560" y="2184480"/>
              <a:ext cx="9907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1" name=""/>
            <p:cNvSpPr/>
            <p:nvPr/>
          </p:nvSpPr>
          <p:spPr>
            <a:xfrm>
              <a:off x="8623440" y="1282680"/>
              <a:ext cx="2374560" cy="30988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9237600" y="1295280"/>
              <a:ext cx="1209600" cy="1711440"/>
            </a:xfrm>
            <a:custGeom>
              <a:avLst/>
              <a:gdLst/>
              <a:ahLst/>
              <a:rect l="l" t="t" r="r" b="b"/>
              <a:pathLst>
                <a:path w="21600" h="20892">
                  <a:moveTo>
                    <a:pt x="10328" y="0"/>
                  </a:moveTo>
                  <a:lnTo>
                    <a:pt x="0" y="18109"/>
                  </a:lnTo>
                  <a:cubicBezTo>
                    <a:pt x="0" y="18109"/>
                    <a:pt x="1410" y="17736"/>
                    <a:pt x="5456" y="16887"/>
                  </a:cubicBezTo>
                  <a:cubicBezTo>
                    <a:pt x="10025" y="15928"/>
                    <a:pt x="9547" y="19289"/>
                    <a:pt x="13738" y="20450"/>
                  </a:cubicBezTo>
                  <a:cubicBezTo>
                    <a:pt x="17888" y="21600"/>
                    <a:pt x="21600" y="20140"/>
                    <a:pt x="21600" y="20140"/>
                  </a:cubicBezTo>
                  <a:lnTo>
                    <a:pt x="10328" y="0"/>
                  </a:lnTo>
                  <a:close/>
                  <a:moveTo>
                    <a:pt x="10328" y="0"/>
                  </a:moveTo>
                </a:path>
              </a:pathLst>
            </a:custGeom>
            <a:solidFill>
              <a:srgbClr val="ff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43" name="" descr=""/>
            <p:cNvPicPr/>
            <p:nvPr/>
          </p:nvPicPr>
          <p:blipFill>
            <a:blip r:embed="rId3"/>
            <a:stretch/>
          </p:blipFill>
          <p:spPr>
            <a:xfrm>
              <a:off x="10248840" y="1905120"/>
              <a:ext cx="291960" cy="31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4" name=""/>
            <p:cNvGrpSpPr/>
            <p:nvPr/>
          </p:nvGrpSpPr>
          <p:grpSpPr>
            <a:xfrm>
              <a:off x="6126120" y="2223360"/>
              <a:ext cx="2139840" cy="373680"/>
              <a:chOff x="6126120" y="2223360"/>
              <a:chExt cx="2139840" cy="373680"/>
            </a:xfrm>
          </p:grpSpPr>
          <p:sp>
            <p:nvSpPr>
              <p:cNvPr id="1045" name=""/>
              <p:cNvSpPr/>
              <p:nvPr/>
            </p:nvSpPr>
            <p:spPr>
              <a:xfrm flipH="1">
                <a:off x="6126120" y="2590920"/>
                <a:ext cx="2139840" cy="6120"/>
              </a:xfrm>
              <a:prstGeom prst="line">
                <a:avLst/>
              </a:prstGeom>
              <a:ln w="76320">
                <a:solidFill>
                  <a:srgbClr val="408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995880" y="2223360"/>
                <a:ext cx="27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Gill Sans"/>
                    <a:ea typeface="Heiti SC Light"/>
                  </a:rPr>
                  <a:t>★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pic>
        <p:nvPicPr>
          <p:cNvPr id="1047" name="" descr=""/>
          <p:cNvPicPr/>
          <p:nvPr/>
        </p:nvPicPr>
        <p:blipFill>
          <a:blip r:embed="rId4"/>
          <a:stretch/>
        </p:blipFill>
        <p:spPr>
          <a:xfrm>
            <a:off x="4343400" y="9042480"/>
            <a:ext cx="317520" cy="317520"/>
          </a:xfrm>
          <a:prstGeom prst="rect">
            <a:avLst/>
          </a:prstGeom>
          <a:ln w="0">
            <a:noFill/>
          </a:ln>
        </p:spPr>
      </p:pic>
      <p:grpSp>
        <p:nvGrpSpPr>
          <p:cNvPr id="1048" name=""/>
          <p:cNvGrpSpPr/>
          <p:nvPr/>
        </p:nvGrpSpPr>
        <p:grpSpPr>
          <a:xfrm>
            <a:off x="3022560" y="5905440"/>
            <a:ext cx="7975440" cy="3098880"/>
            <a:chOff x="3022560" y="5905440"/>
            <a:chExt cx="7975440" cy="3098880"/>
          </a:xfrm>
        </p:grpSpPr>
        <p:sp>
          <p:nvSpPr>
            <p:cNvPr id="1049" name=""/>
            <p:cNvSpPr/>
            <p:nvPr/>
          </p:nvSpPr>
          <p:spPr>
            <a:xfrm>
              <a:off x="3390840" y="6222960"/>
              <a:ext cx="2374920" cy="26542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860640" y="6197400"/>
              <a:ext cx="1425600" cy="1778040"/>
            </a:xfrm>
            <a:custGeom>
              <a:avLst/>
              <a:gdLst/>
              <a:ahLst/>
              <a:rect l="l" t="t" r="r" b="b"/>
              <a:pathLst>
                <a:path w="21600" h="21434">
                  <a:moveTo>
                    <a:pt x="10962" y="0"/>
                  </a:moveTo>
                  <a:lnTo>
                    <a:pt x="0" y="19424"/>
                  </a:lnTo>
                  <a:cubicBezTo>
                    <a:pt x="0" y="19424"/>
                    <a:pt x="5236" y="21600"/>
                    <a:pt x="6538" y="21424"/>
                  </a:cubicBezTo>
                  <a:cubicBezTo>
                    <a:pt x="8239" y="21195"/>
                    <a:pt x="11999" y="19773"/>
                    <a:pt x="13848" y="19282"/>
                  </a:cubicBezTo>
                  <a:cubicBezTo>
                    <a:pt x="16812" y="18495"/>
                    <a:pt x="21600" y="19282"/>
                    <a:pt x="21600" y="19282"/>
                  </a:cubicBezTo>
                  <a:lnTo>
                    <a:pt x="10962" y="0"/>
                  </a:lnTo>
                  <a:close/>
                  <a:moveTo>
                    <a:pt x="10962" y="0"/>
                  </a:moveTo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623440" y="5905440"/>
              <a:ext cx="2374560" cy="30988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237600" y="5918040"/>
              <a:ext cx="1209600" cy="1711440"/>
            </a:xfrm>
            <a:custGeom>
              <a:avLst/>
              <a:gdLst/>
              <a:ahLst/>
              <a:rect l="l" t="t" r="r" b="b"/>
              <a:pathLst>
                <a:path w="21600" h="20892">
                  <a:moveTo>
                    <a:pt x="10328" y="0"/>
                  </a:moveTo>
                  <a:lnTo>
                    <a:pt x="0" y="18109"/>
                  </a:lnTo>
                  <a:cubicBezTo>
                    <a:pt x="0" y="18109"/>
                    <a:pt x="1410" y="17736"/>
                    <a:pt x="5456" y="16887"/>
                  </a:cubicBezTo>
                  <a:cubicBezTo>
                    <a:pt x="10025" y="15928"/>
                    <a:pt x="9547" y="19289"/>
                    <a:pt x="13738" y="20450"/>
                  </a:cubicBezTo>
                  <a:cubicBezTo>
                    <a:pt x="17888" y="21600"/>
                    <a:pt x="21600" y="20140"/>
                    <a:pt x="21600" y="20140"/>
                  </a:cubicBezTo>
                  <a:lnTo>
                    <a:pt x="10328" y="0"/>
                  </a:lnTo>
                  <a:close/>
                  <a:moveTo>
                    <a:pt x="10328" y="0"/>
                  </a:moveTo>
                </a:path>
              </a:pathLst>
            </a:custGeom>
            <a:solidFill>
              <a:srgbClr val="ff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53" name="" descr=""/>
            <p:cNvPicPr/>
            <p:nvPr/>
          </p:nvPicPr>
          <p:blipFill>
            <a:blip r:embed="rId5"/>
            <a:stretch/>
          </p:blipFill>
          <p:spPr>
            <a:xfrm>
              <a:off x="10248840" y="6527880"/>
              <a:ext cx="291960" cy="31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4" name=""/>
            <p:cNvGrpSpPr/>
            <p:nvPr/>
          </p:nvGrpSpPr>
          <p:grpSpPr>
            <a:xfrm>
              <a:off x="6126120" y="6846120"/>
              <a:ext cx="2139840" cy="373680"/>
              <a:chOff x="6126120" y="6846120"/>
              <a:chExt cx="2139840" cy="373680"/>
            </a:xfrm>
          </p:grpSpPr>
          <p:sp>
            <p:nvSpPr>
              <p:cNvPr id="1055" name=""/>
              <p:cNvSpPr/>
              <p:nvPr/>
            </p:nvSpPr>
            <p:spPr>
              <a:xfrm flipH="1">
                <a:off x="6126120" y="7213680"/>
                <a:ext cx="2139840" cy="6120"/>
              </a:xfrm>
              <a:prstGeom prst="line">
                <a:avLst/>
              </a:prstGeom>
              <a:ln w="76320">
                <a:solidFill>
                  <a:srgbClr val="408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995880" y="6846120"/>
                <a:ext cx="27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Gill Sans"/>
                    <a:ea typeface="Heiti SC Light"/>
                  </a:rPr>
                  <a:t>★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pic>
          <p:nvPicPr>
            <p:cNvPr id="1057" name="" descr=""/>
            <p:cNvPicPr/>
            <p:nvPr/>
          </p:nvPicPr>
          <p:blipFill>
            <a:blip r:embed="rId6"/>
            <a:stretch/>
          </p:blipFill>
          <p:spPr>
            <a:xfrm>
              <a:off x="3022560" y="7010280"/>
              <a:ext cx="914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8" name=""/>
          <p:cNvSpPr/>
          <p:nvPr/>
        </p:nvSpPr>
        <p:spPr>
          <a:xfrm flipV="1">
            <a:off x="4584600" y="4959000"/>
            <a:ext cx="0" cy="958680"/>
          </a:xfrm>
          <a:prstGeom prst="line">
            <a:avLst/>
          </a:prstGeom>
          <a:ln w="76320">
            <a:solidFill>
              <a:srgbClr val="4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9" name=""/>
          <p:cNvSpPr/>
          <p:nvPr/>
        </p:nvSpPr>
        <p:spPr>
          <a:xfrm>
            <a:off x="9911880" y="4871520"/>
            <a:ext cx="27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Gill Sans"/>
                <a:ea typeface="Heiti SC Light"/>
              </a:rPr>
              <a:t>★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9842400" y="4736880"/>
            <a:ext cx="0" cy="957240"/>
          </a:xfrm>
          <a:prstGeom prst="line">
            <a:avLst/>
          </a:prstGeom>
          <a:ln w="76320">
            <a:solidFill>
              <a:srgbClr val="4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1" name=""/>
          <p:cNvSpPr/>
          <p:nvPr/>
        </p:nvSpPr>
        <p:spPr>
          <a:xfrm>
            <a:off x="398520" y="4507560"/>
            <a:ext cx="14410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80"/>
                </a:solidFill>
                <a:latin typeface="Arial"/>
                <a:ea typeface="Arial"/>
              </a:rPr>
              <a:t>at most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80"/>
                </a:solidFill>
                <a:latin typeface="Arial"/>
                <a:ea typeface="Arial"/>
              </a:rPr>
              <a:t>2 nodes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80"/>
                </a:solidFill>
                <a:latin typeface="Arial"/>
                <a:ea typeface="Arial"/>
              </a:rPr>
              <a:t>eras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2" name=""/>
          <p:cNvSpPr/>
          <p:nvPr/>
        </p:nvSpPr>
        <p:spPr>
          <a:xfrm>
            <a:off x="2028960" y="5051520"/>
            <a:ext cx="2146320" cy="1730160"/>
          </a:xfrm>
          <a:custGeom>
            <a:avLst/>
            <a:gdLst/>
            <a:ahLst/>
            <a:rect l="l" t="t" r="r" b="b"/>
            <a:pathLst>
              <a:path w="20411" h="20678">
                <a:moveTo>
                  <a:pt x="1449" y="803"/>
                </a:moveTo>
                <a:cubicBezTo>
                  <a:pt x="1449" y="803"/>
                  <a:pt x="0" y="0"/>
                  <a:pt x="3945" y="2362"/>
                </a:cubicBezTo>
                <a:cubicBezTo>
                  <a:pt x="7409" y="4436"/>
                  <a:pt x="5379" y="16284"/>
                  <a:pt x="7490" y="18252"/>
                </a:cubicBezTo>
                <a:cubicBezTo>
                  <a:pt x="11081" y="21600"/>
                  <a:pt x="21600" y="21345"/>
                  <a:pt x="21600" y="21345"/>
                </a:cubicBezTo>
              </a:path>
            </a:pathLst>
          </a:custGeom>
          <a:noFill/>
          <a:ln w="76320">
            <a:solidFill>
              <a:srgbClr val="ff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3" name=""/>
          <p:cNvSpPr/>
          <p:nvPr/>
        </p:nvSpPr>
        <p:spPr>
          <a:xfrm>
            <a:off x="457200" y="10152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low consumption (2/2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Multiplicity of  variables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65" name="" descr=""/>
          <p:cNvPicPr/>
          <p:nvPr/>
        </p:nvPicPr>
        <p:blipFill>
          <a:blip r:embed="rId1"/>
          <a:stretch/>
        </p:blipFill>
        <p:spPr>
          <a:xfrm>
            <a:off x="800280" y="3936960"/>
            <a:ext cx="10642320" cy="457200"/>
          </a:xfrm>
          <a:prstGeom prst="rect">
            <a:avLst/>
          </a:prstGeom>
          <a:ln w="0">
            <a:noFill/>
          </a:ln>
        </p:spPr>
      </p:pic>
      <p:pic>
        <p:nvPicPr>
          <p:cNvPr id="1066" name="" descr=""/>
          <p:cNvPicPr/>
          <p:nvPr/>
        </p:nvPicPr>
        <p:blipFill>
          <a:blip r:embed="rId2"/>
          <a:stretch/>
        </p:blipFill>
        <p:spPr>
          <a:xfrm>
            <a:off x="787320" y="4635360"/>
            <a:ext cx="9004320" cy="457200"/>
          </a:xfrm>
          <a:prstGeom prst="rect">
            <a:avLst/>
          </a:prstGeom>
          <a:ln w="0">
            <a:noFill/>
          </a:ln>
        </p:spPr>
      </p:pic>
      <p:grpSp>
        <p:nvGrpSpPr>
          <p:cNvPr id="1067" name=""/>
          <p:cNvGrpSpPr/>
          <p:nvPr/>
        </p:nvGrpSpPr>
        <p:grpSpPr>
          <a:xfrm>
            <a:off x="596880" y="6743880"/>
            <a:ext cx="12255480" cy="1904040"/>
            <a:chOff x="596880" y="6743880"/>
            <a:chExt cx="12255480" cy="1904040"/>
          </a:xfrm>
        </p:grpSpPr>
        <p:sp>
          <p:nvSpPr>
            <p:cNvPr id="1068" name=""/>
            <p:cNvSpPr/>
            <p:nvPr/>
          </p:nvSpPr>
          <p:spPr>
            <a:xfrm>
              <a:off x="596880" y="6743880"/>
              <a:ext cx="1225548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Lemma 2 </a:t>
              </a:r>
              <a:r>
                <a:rPr b="0" lang="en-US" sz="30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[upper bound on live multiplicity] 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812880" y="7480080"/>
              <a:ext cx="9130680" cy="1167840"/>
              <a:chOff x="812880" y="7480080"/>
              <a:chExt cx="9130680" cy="1167840"/>
            </a:xfrm>
          </p:grpSpPr>
          <p:pic>
            <p:nvPicPr>
              <p:cNvPr id="107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12880" y="7480080"/>
                <a:ext cx="8953200" cy="46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63280" y="8191080"/>
                <a:ext cx="9080280" cy="456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2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DD86-ECAC-4517-9027-8FC0A13749A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457200" y="1835280"/>
            <a:ext cx="12255480" cy="1199520"/>
            <a:chOff x="457200" y="1835280"/>
            <a:chExt cx="12255480" cy="1199520"/>
          </a:xfrm>
        </p:grpSpPr>
        <p:sp>
          <p:nvSpPr>
            <p:cNvPr id="1074" name=""/>
            <p:cNvSpPr/>
            <p:nvPr/>
          </p:nvSpPr>
          <p:spPr>
            <a:xfrm>
              <a:off x="457200" y="1835280"/>
              <a:ext cx="1225548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Definition</a:t>
              </a:r>
              <a:r>
                <a:rPr b="0" lang="en-US" sz="30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 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75" name="" descr=""/>
            <p:cNvPicPr/>
            <p:nvPr/>
          </p:nvPicPr>
          <p:blipFill>
            <a:blip r:embed="rId5"/>
            <a:stretch/>
          </p:blipFill>
          <p:spPr>
            <a:xfrm>
              <a:off x="749160" y="2527200"/>
              <a:ext cx="5994720" cy="4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"/>
            <p:cNvSpPr/>
            <p:nvPr/>
          </p:nvSpPr>
          <p:spPr>
            <a:xfrm>
              <a:off x="622440" y="2438280"/>
              <a:ext cx="812520" cy="596520"/>
            </a:xfrm>
            <a:prstGeom prst="roundRect">
              <a:avLst>
                <a:gd name="adj" fmla="val 31912"/>
              </a:avLst>
            </a:prstGeom>
            <a:solidFill>
              <a:srgbClr val="5fe801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77" name="" descr=""/>
            <p:cNvPicPr/>
            <p:nvPr/>
          </p:nvPicPr>
          <p:blipFill>
            <a:blip r:embed="rId6"/>
            <a:stretch/>
          </p:blipFill>
          <p:spPr>
            <a:xfrm>
              <a:off x="2781360" y="1930320"/>
              <a:ext cx="8661240" cy="418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91600" y="1384200"/>
            <a:ext cx="12166920" cy="4749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tandardization</a:t>
            </a:r>
            <a:endParaRPr b="0" lang="en-US" sz="9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6215040" y="8142120"/>
            <a:ext cx="757872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Xi’s proof of standardization (1/3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6841-AA16-42BB-95A7-1BBFF020291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596880" y="1949400"/>
            <a:ext cx="11963520" cy="4438800"/>
            <a:chOff x="596880" y="1949400"/>
            <a:chExt cx="11963520" cy="4438800"/>
          </a:xfrm>
        </p:grpSpPr>
        <p:sp>
          <p:nvSpPr>
            <p:cNvPr id="1083" name=""/>
            <p:cNvSpPr/>
            <p:nvPr/>
          </p:nvSpPr>
          <p:spPr>
            <a:xfrm>
              <a:off x="983520" y="2546280"/>
              <a:ext cx="869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n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084" name=""/>
            <p:cNvGrpSpPr/>
            <p:nvPr/>
          </p:nvGrpSpPr>
          <p:grpSpPr>
            <a:xfrm>
              <a:off x="596880" y="1949400"/>
              <a:ext cx="11963520" cy="558720"/>
              <a:chOff x="596880" y="1949400"/>
              <a:chExt cx="11963520" cy="558720"/>
            </a:xfrm>
          </p:grpSpPr>
          <p:pic>
            <p:nvPicPr>
              <p:cNvPr id="10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966160" y="2057400"/>
                <a:ext cx="359424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6" name=""/>
              <p:cNvSpPr/>
              <p:nvPr/>
            </p:nvSpPr>
            <p:spPr>
              <a:xfrm>
                <a:off x="596880" y="1949400"/>
                <a:ext cx="8445600" cy="55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000000"/>
                  </a:buClr>
                  <a:buSzPct val="125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30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Lemma </a:t>
                </a:r>
                <a:r>
                  <a:rPr b="0" lang="en-US" sz="3000" spc="-1" strike="noStrike">
                    <a:solidFill>
                      <a:srgbClr val="ff0000"/>
                    </a:solidFill>
                    <a:latin typeface="Courier New"/>
                    <a:ea typeface="Courier New"/>
                  </a:rPr>
                  <a:t>[reordering of head redexes]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2666880" y="2984400"/>
              <a:ext cx="8788320" cy="2641680"/>
              <a:chOff x="2666880" y="2984400"/>
              <a:chExt cx="8788320" cy="2641680"/>
            </a:xfrm>
          </p:grpSpPr>
          <p:pic>
            <p:nvPicPr>
              <p:cNvPr id="108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24080" y="2984400"/>
                <a:ext cx="380880" cy="31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666880" y="4686120"/>
                <a:ext cx="49536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0" name=""/>
              <p:cNvSpPr/>
              <p:nvPr/>
            </p:nvSpPr>
            <p:spPr>
              <a:xfrm flipH="1" flipV="1">
                <a:off x="3992400" y="3244320"/>
                <a:ext cx="3170160" cy="204840"/>
              </a:xfrm>
              <a:prstGeom prst="line">
                <a:avLst/>
              </a:prstGeom>
              <a:ln w="76320">
                <a:solidFill>
                  <a:srgbClr val="408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109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32240" y="2984400"/>
                <a:ext cx="203400" cy="26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2" name=""/>
              <p:cNvSpPr/>
              <p:nvPr/>
            </p:nvSpPr>
            <p:spPr>
              <a:xfrm>
                <a:off x="5097600" y="3341160"/>
                <a:ext cx="272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st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7416720" y="3822480"/>
                <a:ext cx="279360" cy="1092240"/>
              </a:xfrm>
              <a:prstGeom prst="line">
                <a:avLst/>
              </a:prstGeom>
              <a:ln w="76320">
                <a:solidFill>
                  <a:srgbClr val="408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2997000" y="3466800"/>
                <a:ext cx="279360" cy="1091880"/>
              </a:xfrm>
              <a:prstGeom prst="line">
                <a:avLst/>
              </a:prstGeom>
              <a:ln w="76320">
                <a:solidFill>
                  <a:srgbClr val="408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 flipV="1">
                <a:off x="3276000" y="4978440"/>
                <a:ext cx="3613320" cy="279360"/>
              </a:xfrm>
              <a:prstGeom prst="line">
                <a:avLst/>
              </a:prstGeom>
              <a:ln w="76320">
                <a:solidFill>
                  <a:srgbClr val="408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449960" y="5093640"/>
                <a:ext cx="272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st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109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660920" y="4673520"/>
                <a:ext cx="279360" cy="39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5800" y="3733560"/>
                <a:ext cx="35568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213320" y="4064040"/>
                <a:ext cx="26676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594560" y="3200400"/>
                <a:ext cx="3797280" cy="57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149960" y="5054400"/>
                <a:ext cx="4305240" cy="571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02" name="" descr=""/>
            <p:cNvPicPr/>
            <p:nvPr/>
          </p:nvPicPr>
          <p:blipFill>
            <a:blip r:embed="rId10"/>
            <a:stretch/>
          </p:blipFill>
          <p:spPr>
            <a:xfrm>
              <a:off x="927000" y="5918040"/>
              <a:ext cx="4673520" cy="47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3" name=""/>
          <p:cNvGrpSpPr/>
          <p:nvPr/>
        </p:nvGrpSpPr>
        <p:grpSpPr>
          <a:xfrm>
            <a:off x="698400" y="7620120"/>
            <a:ext cx="10756800" cy="1701720"/>
            <a:chOff x="698400" y="7620120"/>
            <a:chExt cx="10756800" cy="1701720"/>
          </a:xfrm>
        </p:grpSpPr>
        <p:grpSp>
          <p:nvGrpSpPr>
            <p:cNvPr id="1104" name=""/>
            <p:cNvGrpSpPr/>
            <p:nvPr/>
          </p:nvGrpSpPr>
          <p:grpSpPr>
            <a:xfrm>
              <a:off x="754560" y="7620120"/>
              <a:ext cx="10700640" cy="507960"/>
              <a:chOff x="754560" y="7620120"/>
              <a:chExt cx="10700640" cy="507960"/>
            </a:xfrm>
          </p:grpSpPr>
          <p:sp>
            <p:nvSpPr>
              <p:cNvPr id="1105" name=""/>
              <p:cNvSpPr/>
              <p:nvPr/>
            </p:nvSpPr>
            <p:spPr>
              <a:xfrm>
                <a:off x="754560" y="7658280"/>
                <a:ext cx="9957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Proof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grpSp>
            <p:nvGrpSpPr>
              <p:cNvPr id="1106" name=""/>
              <p:cNvGrpSpPr/>
              <p:nvPr/>
            </p:nvGrpSpPr>
            <p:grpSpPr>
              <a:xfrm>
                <a:off x="2133360" y="7620120"/>
                <a:ext cx="9321840" cy="507960"/>
                <a:chOff x="2133360" y="7620120"/>
                <a:chExt cx="9321840" cy="507960"/>
              </a:xfrm>
            </p:grpSpPr>
            <p:pic>
              <p:nvPicPr>
                <p:cNvPr id="11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133360" y="7620120"/>
                  <a:ext cx="5969160" cy="507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331120" y="7810560"/>
                  <a:ext cx="312408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1109" name="" descr=""/>
            <p:cNvPicPr/>
            <p:nvPr/>
          </p:nvPicPr>
          <p:blipFill>
            <a:blip r:embed="rId13"/>
            <a:stretch/>
          </p:blipFill>
          <p:spPr>
            <a:xfrm>
              <a:off x="698400" y="8255160"/>
              <a:ext cx="10375920" cy="3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" descr=""/>
            <p:cNvPicPr/>
            <p:nvPr/>
          </p:nvPicPr>
          <p:blipFill>
            <a:blip r:embed="rId14"/>
            <a:stretch/>
          </p:blipFill>
          <p:spPr>
            <a:xfrm>
              <a:off x="698400" y="8890200"/>
              <a:ext cx="6642000" cy="431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Xi’s proof of standardization (2/3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B9C3-B953-4A85-ABAB-B2198D5F019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457200" y="1854360"/>
            <a:ext cx="12395160" cy="5828760"/>
            <a:chOff x="457200" y="1854360"/>
            <a:chExt cx="12395160" cy="5828760"/>
          </a:xfrm>
        </p:grpSpPr>
        <p:sp>
          <p:nvSpPr>
            <p:cNvPr id="1114" name=""/>
            <p:cNvSpPr/>
            <p:nvPr/>
          </p:nvSpPr>
          <p:spPr>
            <a:xfrm>
              <a:off x="596880" y="6260760"/>
              <a:ext cx="122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roof 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115" name=""/>
            <p:cNvGrpSpPr/>
            <p:nvPr/>
          </p:nvGrpSpPr>
          <p:grpSpPr>
            <a:xfrm>
              <a:off x="457200" y="1854360"/>
              <a:ext cx="12255480" cy="3428280"/>
              <a:chOff x="457200" y="1854360"/>
              <a:chExt cx="12255480" cy="3428280"/>
            </a:xfrm>
          </p:grpSpPr>
          <p:sp>
            <p:nvSpPr>
              <p:cNvPr id="1116" name=""/>
              <p:cNvSpPr/>
              <p:nvPr/>
            </p:nvSpPr>
            <p:spPr>
              <a:xfrm>
                <a:off x="457200" y="1854360"/>
                <a:ext cx="12255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000000"/>
                  </a:buClr>
                  <a:buSzPct val="125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30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Corollary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grpSp>
            <p:nvGrpSpPr>
              <p:cNvPr id="1117" name=""/>
              <p:cNvGrpSpPr/>
              <p:nvPr/>
            </p:nvGrpSpPr>
            <p:grpSpPr>
              <a:xfrm>
                <a:off x="3301920" y="1968480"/>
                <a:ext cx="4851360" cy="2424960"/>
                <a:chOff x="3301920" y="1968480"/>
                <a:chExt cx="4851360" cy="2424960"/>
              </a:xfrm>
            </p:grpSpPr>
            <p:pic>
              <p:nvPicPr>
                <p:cNvPr id="111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301920" y="1968480"/>
                  <a:ext cx="380880" cy="31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9" name=""/>
                <p:cNvSpPr/>
                <p:nvPr/>
              </p:nvSpPr>
              <p:spPr>
                <a:xfrm flipH="1" flipV="1">
                  <a:off x="4170240" y="2228400"/>
                  <a:ext cx="3170160" cy="204480"/>
                </a:xfrm>
                <a:prstGeom prst="line">
                  <a:avLst/>
                </a:prstGeom>
                <a:ln w="76320">
                  <a:solidFill>
                    <a:srgbClr val="408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pic>
              <p:nvPicPr>
                <p:cNvPr id="112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10080" y="1968480"/>
                  <a:ext cx="203400" cy="26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5275440" y="2324520"/>
                  <a:ext cx="272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st</a:t>
                  </a:r>
                  <a:endParaRPr b="0" lang="en-US" sz="24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V="1">
                  <a:off x="7594560" y="2805840"/>
                  <a:ext cx="279360" cy="1091880"/>
                </a:xfrm>
                <a:prstGeom prst="line">
                  <a:avLst/>
                </a:prstGeom>
                <a:ln w="76320">
                  <a:solidFill>
                    <a:srgbClr val="408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4754880" y="3696120"/>
                  <a:ext cx="272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st</a:t>
                  </a:r>
                  <a:endParaRPr b="0" lang="en-US" sz="24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pic>
              <p:nvPicPr>
                <p:cNvPr id="112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940280" y="3276360"/>
                  <a:ext cx="279360" cy="393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10560" y="2285640"/>
                  <a:ext cx="317520" cy="317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416720" y="4038120"/>
                  <a:ext cx="419040" cy="35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7" name=""/>
                <p:cNvSpPr/>
                <p:nvPr/>
              </p:nvSpPr>
              <p:spPr>
                <a:xfrm>
                  <a:off x="3682800" y="2514240"/>
                  <a:ext cx="3606840" cy="1726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cubicBezTo>
                        <a:pt x="0" y="0"/>
                        <a:pt x="3186" y="10418"/>
                        <a:pt x="6389" y="13659"/>
                      </a:cubicBezTo>
                      <a:cubicBezTo>
                        <a:pt x="12308" y="19648"/>
                        <a:pt x="21600" y="21600"/>
                        <a:pt x="21600" y="21600"/>
                      </a:cubicBezTo>
                    </a:path>
                  </a:pathLst>
                </a:custGeom>
                <a:noFill/>
                <a:ln w="63360">
                  <a:solidFill>
                    <a:srgbClr val="0080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pic>
              <p:nvPicPr>
                <p:cNvPr id="112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12080" y="3085560"/>
                  <a:ext cx="24120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12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87320" y="4813200"/>
                <a:ext cx="5435640" cy="469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30" name="" descr=""/>
            <p:cNvPicPr/>
            <p:nvPr/>
          </p:nvPicPr>
          <p:blipFill>
            <a:blip r:embed="rId8"/>
            <a:stretch/>
          </p:blipFill>
          <p:spPr>
            <a:xfrm>
              <a:off x="673200" y="6806880"/>
              <a:ext cx="10312200" cy="876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Xi’s proof of standardization (3/3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520560" y="1936800"/>
            <a:ext cx="12255480" cy="2584440"/>
            <a:chOff x="520560" y="1936800"/>
            <a:chExt cx="12255480" cy="2584440"/>
          </a:xfrm>
        </p:grpSpPr>
        <p:sp>
          <p:nvSpPr>
            <p:cNvPr id="1133" name=""/>
            <p:cNvSpPr/>
            <p:nvPr/>
          </p:nvSpPr>
          <p:spPr>
            <a:xfrm>
              <a:off x="520560" y="1936800"/>
              <a:ext cx="12255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Theorem </a:t>
              </a:r>
              <a:r>
                <a:rPr b="0" lang="en-US" sz="30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[standardization with upper bounds]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134" name=""/>
            <p:cNvGrpSpPr/>
            <p:nvPr/>
          </p:nvGrpSpPr>
          <p:grpSpPr>
            <a:xfrm>
              <a:off x="761760" y="2463840"/>
              <a:ext cx="11366640" cy="2057400"/>
              <a:chOff x="761760" y="2463840"/>
              <a:chExt cx="11366640" cy="2057400"/>
            </a:xfrm>
          </p:grpSpPr>
          <p:pic>
            <p:nvPicPr>
              <p:cNvPr id="113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63280" y="2463840"/>
                <a:ext cx="8801280" cy="64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1760" y="3403800"/>
                <a:ext cx="9296280" cy="43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63280" y="4064040"/>
                <a:ext cx="1126512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8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F5CF-D446-47AF-A7FD-C2E6DA83D42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843480" y="5537160"/>
            <a:ext cx="10776960" cy="469800"/>
            <a:chOff x="843480" y="5537160"/>
            <a:chExt cx="10776960" cy="469800"/>
          </a:xfrm>
        </p:grpSpPr>
        <p:sp>
          <p:nvSpPr>
            <p:cNvPr id="1140" name=""/>
            <p:cNvSpPr/>
            <p:nvPr/>
          </p:nvSpPr>
          <p:spPr>
            <a:xfrm>
              <a:off x="843480" y="5537160"/>
              <a:ext cx="995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roof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141" name="" descr=""/>
            <p:cNvPicPr/>
            <p:nvPr/>
          </p:nvPicPr>
          <p:blipFill>
            <a:blip r:embed="rId4"/>
            <a:stretch/>
          </p:blipFill>
          <p:spPr>
            <a:xfrm>
              <a:off x="2133360" y="5626080"/>
              <a:ext cx="948708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52280" y="-12600"/>
            <a:ext cx="1262376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PLC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8712360" y="5486400"/>
            <a:ext cx="2984400" cy="2565360"/>
            <a:chOff x="8712360" y="5486400"/>
            <a:chExt cx="2984400" cy="2565360"/>
          </a:xfrm>
        </p:grpSpPr>
        <p:pic>
          <p:nvPicPr>
            <p:cNvPr id="875" name="" descr=""/>
            <p:cNvPicPr/>
            <p:nvPr/>
          </p:nvPicPr>
          <p:blipFill>
            <a:blip r:embed="rId1"/>
            <a:stretch/>
          </p:blipFill>
          <p:spPr>
            <a:xfrm>
              <a:off x="8712360" y="5486400"/>
              <a:ext cx="2984400" cy="25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 flipH="1">
              <a:off x="10342440" y="7032600"/>
              <a:ext cx="361800" cy="2556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10325160" y="5867280"/>
              <a:ext cx="362160" cy="2556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786960" y="2056320"/>
            <a:ext cx="9942480" cy="5882400"/>
            <a:chOff x="786960" y="2056320"/>
            <a:chExt cx="9942480" cy="5882400"/>
          </a:xfrm>
        </p:grpSpPr>
        <p:sp>
          <p:nvSpPr>
            <p:cNvPr id="879" name=""/>
            <p:cNvSpPr/>
            <p:nvPr/>
          </p:nvSpPr>
          <p:spPr>
            <a:xfrm>
              <a:off x="846720" y="4126320"/>
              <a:ext cx="502164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λ-calculus + category theory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48520" y="3103920"/>
              <a:ext cx="747540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sed jury of his PhD + 3 papers together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40960" y="6272640"/>
              <a:ext cx="72741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ighbors in Paris (PL in 15th -- JJ in 7th)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40600" y="7390440"/>
              <a:ext cx="478404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phia-Antipolis in 70-80’s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846720" y="2056320"/>
              <a:ext cx="9882720" cy="554760"/>
              <a:chOff x="846720" y="2056320"/>
              <a:chExt cx="9882720" cy="554760"/>
            </a:xfrm>
          </p:grpSpPr>
          <p:sp>
            <p:nvSpPr>
              <p:cNvPr id="884" name=""/>
              <p:cNvSpPr/>
              <p:nvPr/>
            </p:nvSpPr>
            <p:spPr>
              <a:xfrm>
                <a:off x="846720" y="2062800"/>
                <a:ext cx="5456160" cy="5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20000"/>
                  </a:lnSpc>
                  <a:spcBef>
                    <a:spcPts val="1800"/>
                  </a:spcBef>
                  <a:buClr>
                    <a:srgbClr val="000000"/>
                  </a:buClr>
                  <a:buSzPct val="125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ory of sequential algorithms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6602040" y="2361960"/>
                <a:ext cx="1057320" cy="9720"/>
              </a:xfrm>
              <a:prstGeom prst="line">
                <a:avLst/>
              </a:prstGeom>
              <a:ln w="114480">
                <a:solidFill>
                  <a:srgbClr val="fc3108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956720" y="2056320"/>
                <a:ext cx="2772720" cy="5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2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me semantics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786960" y="5167800"/>
              <a:ext cx="6984720" cy="548280"/>
              <a:chOff x="786960" y="5167800"/>
              <a:chExt cx="6984720" cy="548280"/>
            </a:xfrm>
          </p:grpSpPr>
          <p:sp>
            <p:nvSpPr>
              <p:cNvPr id="888" name=""/>
              <p:cNvSpPr/>
              <p:nvPr/>
            </p:nvSpPr>
            <p:spPr>
              <a:xfrm>
                <a:off x="1976760" y="5167800"/>
                <a:ext cx="5794920" cy="5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2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ook with Roberto Amadio 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★ ★ ★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>
                <a:off x="786960" y="5473800"/>
                <a:ext cx="1004760" cy="9360"/>
              </a:xfrm>
              <a:prstGeom prst="line">
                <a:avLst/>
              </a:prstGeom>
              <a:ln w="114480">
                <a:solidFill>
                  <a:srgbClr val="0fa80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779F-9942-417C-96B1-95B1453127B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Proof of our upper bound (1/2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3" name=""/>
          <p:cNvSpPr/>
          <p:nvPr/>
        </p:nvSpPr>
        <p:spPr>
          <a:xfrm>
            <a:off x="10998360" y="4610160"/>
            <a:ext cx="634680" cy="444600"/>
          </a:xfrm>
          <a:prstGeom prst="roundRect">
            <a:avLst>
              <a:gd name="adj" fmla="val 42856"/>
            </a:avLst>
          </a:prstGeom>
          <a:solidFill>
            <a:srgbClr val="5fe80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4" name=""/>
          <p:cNvSpPr/>
          <p:nvPr/>
        </p:nvSpPr>
        <p:spPr>
          <a:xfrm>
            <a:off x="3467160" y="4635360"/>
            <a:ext cx="635040" cy="444600"/>
          </a:xfrm>
          <a:prstGeom prst="roundRect">
            <a:avLst>
              <a:gd name="adj" fmla="val 42856"/>
            </a:avLst>
          </a:prstGeom>
          <a:solidFill>
            <a:srgbClr val="5fe80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5" name=""/>
          <p:cNvSpPr/>
          <p:nvPr/>
        </p:nvSpPr>
        <p:spPr>
          <a:xfrm>
            <a:off x="6921360" y="4610160"/>
            <a:ext cx="635040" cy="444600"/>
          </a:xfrm>
          <a:prstGeom prst="roundRect">
            <a:avLst>
              <a:gd name="adj" fmla="val 42856"/>
            </a:avLst>
          </a:prstGeom>
          <a:solidFill>
            <a:srgbClr val="5fe80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6" name=""/>
          <p:cNvSpPr/>
          <p:nvPr/>
        </p:nvSpPr>
        <p:spPr>
          <a:xfrm>
            <a:off x="7734240" y="3911760"/>
            <a:ext cx="635040" cy="495000"/>
          </a:xfrm>
          <a:prstGeom prst="roundRect">
            <a:avLst>
              <a:gd name="adj" fmla="val 38458"/>
            </a:avLst>
          </a:prstGeom>
          <a:solidFill>
            <a:srgbClr val="5fe80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7" name=""/>
          <p:cNvSpPr/>
          <p:nvPr/>
        </p:nvSpPr>
        <p:spPr>
          <a:xfrm>
            <a:off x="762120" y="5219640"/>
            <a:ext cx="5283000" cy="635040"/>
          </a:xfrm>
          <a:prstGeom prst="roundRect">
            <a:avLst>
              <a:gd name="adj" fmla="val 30000"/>
            </a:avLst>
          </a:prstGeom>
          <a:solidFill>
            <a:srgbClr val="5fe80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8" name=""/>
          <p:cNvSpPr/>
          <p:nvPr/>
        </p:nvSpPr>
        <p:spPr>
          <a:xfrm>
            <a:off x="825480" y="3162240"/>
            <a:ext cx="5283360" cy="647640"/>
          </a:xfrm>
          <a:prstGeom prst="roundRect">
            <a:avLst>
              <a:gd name="adj" fmla="val 29407"/>
            </a:avLst>
          </a:prstGeom>
          <a:solidFill>
            <a:srgbClr val="5fe80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9" name=""/>
          <p:cNvSpPr/>
          <p:nvPr/>
        </p:nvSpPr>
        <p:spPr>
          <a:xfrm>
            <a:off x="520560" y="1936800"/>
            <a:ext cx="122554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Theorem </a:t>
            </a:r>
            <a:r>
              <a:rPr b="0" lang="en-US" sz="3000" spc="-1" strike="noStrike">
                <a:solidFill>
                  <a:srgbClr val="ff0000"/>
                </a:solidFill>
                <a:latin typeface="Courier New"/>
                <a:ea typeface="Courier New"/>
              </a:rPr>
              <a:t>[standardization with upper bounds]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927000" y="2413080"/>
            <a:ext cx="8801280" cy="64764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/>
          <p:cNvPicPr/>
          <p:nvPr/>
        </p:nvPicPr>
        <p:blipFill>
          <a:blip r:embed="rId2"/>
          <a:stretch/>
        </p:blipFill>
        <p:spPr>
          <a:xfrm>
            <a:off x="825480" y="3949560"/>
            <a:ext cx="9423360" cy="457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/>
          <p:cNvPicPr/>
          <p:nvPr/>
        </p:nvPicPr>
        <p:blipFill>
          <a:blip r:embed="rId3"/>
          <a:stretch/>
        </p:blipFill>
        <p:spPr>
          <a:xfrm>
            <a:off x="863640" y="4597560"/>
            <a:ext cx="11988720" cy="45720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/>
          <p:cNvPicPr/>
          <p:nvPr/>
        </p:nvPicPr>
        <p:blipFill>
          <a:blip r:embed="rId4"/>
          <a:stretch/>
        </p:blipFill>
        <p:spPr>
          <a:xfrm>
            <a:off x="888840" y="3276720"/>
            <a:ext cx="5029200" cy="419040"/>
          </a:xfrm>
          <a:prstGeom prst="rect">
            <a:avLst/>
          </a:prstGeom>
          <a:ln w="0">
            <a:noFill/>
          </a:ln>
        </p:spPr>
      </p:pic>
      <p:pic>
        <p:nvPicPr>
          <p:cNvPr id="1154" name="" descr=""/>
          <p:cNvPicPr/>
          <p:nvPr/>
        </p:nvPicPr>
        <p:blipFill>
          <a:blip r:embed="rId5"/>
          <a:stretch/>
        </p:blipFill>
        <p:spPr>
          <a:xfrm>
            <a:off x="863640" y="5308560"/>
            <a:ext cx="4991040" cy="444600"/>
          </a:xfrm>
          <a:prstGeom prst="rect">
            <a:avLst/>
          </a:prstGeom>
          <a:ln w="0">
            <a:noFill/>
          </a:ln>
        </p:spPr>
      </p:pic>
      <p:sp>
        <p:nvSpPr>
          <p:cNvPr id="1155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F1D8-4B7C-4587-AFCF-8EAEC2DB093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Proof of our upper bound (2/2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680400" y="6997680"/>
            <a:ext cx="11689560" cy="1092240"/>
            <a:chOff x="680400" y="6997680"/>
            <a:chExt cx="11689560" cy="1092240"/>
          </a:xfrm>
        </p:grpSpPr>
        <p:sp>
          <p:nvSpPr>
            <p:cNvPr id="1158" name=""/>
            <p:cNvSpPr/>
            <p:nvPr/>
          </p:nvSpPr>
          <p:spPr>
            <a:xfrm>
              <a:off x="680400" y="6997680"/>
              <a:ext cx="2260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ff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orollary 2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159" name="" descr=""/>
            <p:cNvPicPr/>
            <p:nvPr/>
          </p:nvPicPr>
          <p:blipFill>
            <a:blip r:embed="rId1"/>
            <a:stretch/>
          </p:blipFill>
          <p:spPr>
            <a:xfrm>
              <a:off x="3403800" y="6997680"/>
              <a:ext cx="774684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" descr=""/>
            <p:cNvPicPr/>
            <p:nvPr/>
          </p:nvPicPr>
          <p:blipFill>
            <a:blip r:embed="rId2"/>
            <a:stretch/>
          </p:blipFill>
          <p:spPr>
            <a:xfrm>
              <a:off x="914400" y="7632720"/>
              <a:ext cx="1145556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"/>
          <p:cNvSpPr/>
          <p:nvPr/>
        </p:nvSpPr>
        <p:spPr>
          <a:xfrm>
            <a:off x="896760" y="4940280"/>
            <a:ext cx="965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Proof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imple calculation with lemma 2 and previous thm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799E-7C5F-4790-B5B3-F3E32E91B02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616680" y="1904760"/>
            <a:ext cx="10825920" cy="2489400"/>
            <a:chOff x="616680" y="1904760"/>
            <a:chExt cx="10825920" cy="2489400"/>
          </a:xfrm>
        </p:grpSpPr>
        <p:pic>
          <p:nvPicPr>
            <p:cNvPr id="1164" name="" descr=""/>
            <p:cNvPicPr/>
            <p:nvPr/>
          </p:nvPicPr>
          <p:blipFill>
            <a:blip r:embed="rId3"/>
            <a:stretch/>
          </p:blipFill>
          <p:spPr>
            <a:xfrm>
              <a:off x="3340080" y="3288960"/>
              <a:ext cx="3746520" cy="110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5" name=""/>
            <p:cNvGrpSpPr/>
            <p:nvPr/>
          </p:nvGrpSpPr>
          <p:grpSpPr>
            <a:xfrm>
              <a:off x="616680" y="1904760"/>
              <a:ext cx="10825920" cy="1054080"/>
              <a:chOff x="616680" y="1904760"/>
              <a:chExt cx="10825920" cy="1054080"/>
            </a:xfrm>
          </p:grpSpPr>
          <p:sp>
            <p:nvSpPr>
              <p:cNvPr id="1166" name=""/>
              <p:cNvSpPr/>
              <p:nvPr/>
            </p:nvSpPr>
            <p:spPr>
              <a:xfrm>
                <a:off x="616680" y="1904760"/>
                <a:ext cx="2260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0000ff"/>
                  </a:buClr>
                  <a:buSzPct val="125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30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Corollary 1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116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85920" y="1930320"/>
                <a:ext cx="8356680" cy="46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87320" y="2527200"/>
                <a:ext cx="9474120" cy="43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52280" y="-12600"/>
            <a:ext cx="1262376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Conclusion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1071000" y="2477520"/>
            <a:ext cx="7034760" cy="3645000"/>
            <a:chOff x="1071000" y="2477520"/>
            <a:chExt cx="7034760" cy="3645000"/>
          </a:xfrm>
        </p:grpSpPr>
        <p:sp>
          <p:nvSpPr>
            <p:cNvPr id="1171" name=""/>
            <p:cNvSpPr/>
            <p:nvPr/>
          </p:nvSpPr>
          <p:spPr>
            <a:xfrm>
              <a:off x="1071000" y="2477520"/>
              <a:ext cx="703476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s are easy to grow in the </a:t>
              </a:r>
              <a:r>
                <a:rPr b="0" lang="en-US" sz="3600" spc="-1" strike="noStrike">
                  <a:solidFill>
                    <a:srgbClr val="000000"/>
                  </a:solidFill>
                  <a:latin typeface="Helvetica Neue"/>
                  <a:ea typeface="Helvetica Neue"/>
                </a:rPr>
                <a:t>λ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calculus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077120" y="3567600"/>
              <a:ext cx="557784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t take time to consume terms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1079280" y="4621680"/>
              <a:ext cx="4433760" cy="548280"/>
              <a:chOff x="1079280" y="4621680"/>
              <a:chExt cx="4433760" cy="54828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79280" y="4621680"/>
                <a:ext cx="4433760" cy="5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2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ed for sharing !!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H="1">
                <a:off x="1166760" y="4914720"/>
                <a:ext cx="1030320" cy="9720"/>
              </a:xfrm>
              <a:prstGeom prst="line">
                <a:avLst/>
              </a:prstGeom>
              <a:ln w="139680">
                <a:solidFill>
                  <a:srgbClr val="fc3108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1176" name=""/>
            <p:cNvSpPr/>
            <p:nvPr/>
          </p:nvSpPr>
          <p:spPr>
            <a:xfrm>
              <a:off x="1101960" y="5574240"/>
              <a:ext cx="299628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ck to earth ....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557B-C030-4229-B957-4D9890EDD0E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0" y="0"/>
            <a:ext cx="13068360" cy="979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12216960" y="89913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44FE-76CE-4772-BB44-42F035206E9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79" name="plc60.ppt_media/large-3.mov" descr=""/>
          <p:cNvPicPr/>
          <p:nvPr/>
        </p:nvPicPr>
        <p:blipFill>
          <a:blip r:embed="rId1"/>
          <a:stretch/>
        </p:blipFill>
        <p:spPr>
          <a:xfrm>
            <a:off x="-9360" y="1212840"/>
            <a:ext cx="13026960" cy="732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AB7AE-44FD-44CD-AB52-114863B250AC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0" y="0"/>
            <a:ext cx="13068360" cy="979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12274200" y="8991360"/>
            <a:ext cx="228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FE74-ECF0-4D76-9DEF-59EDEF3C8E7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2" name="plc60.ppt_media/large-1.mov" descr=""/>
          <p:cNvPicPr/>
          <p:nvPr/>
        </p:nvPicPr>
        <p:blipFill>
          <a:blip r:embed="rId1"/>
          <a:stretch/>
        </p:blipFill>
        <p:spPr>
          <a:xfrm>
            <a:off x="0" y="1384200"/>
            <a:ext cx="13055760" cy="734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ADA99-CA8E-4E98-95AA-4C7A3E0E77E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2280" y="-12600"/>
            <a:ext cx="1262376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Plan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4" name=""/>
          <p:cNvSpPr/>
          <p:nvPr/>
        </p:nvSpPr>
        <p:spPr>
          <a:xfrm>
            <a:off x="419040" y="8051760"/>
            <a:ext cx="119509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 joint work with Andrea Asperti (LICS 2013) .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03320" y="3586680"/>
            <a:ext cx="11950560" cy="3488400"/>
            <a:chOff x="1003320" y="3586680"/>
            <a:chExt cx="11950560" cy="3488400"/>
          </a:xfrm>
        </p:grpSpPr>
        <p:sp>
          <p:nvSpPr>
            <p:cNvPr id="896" name=""/>
            <p:cNvSpPr/>
            <p:nvPr/>
          </p:nvSpPr>
          <p:spPr>
            <a:xfrm>
              <a:off x="1064160" y="3586680"/>
              <a:ext cx="846000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tandardization theorem (with upper bounds)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62360" y="4951800"/>
              <a:ext cx="719028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gid and minimum prefixes (stability thm)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003320" y="5753160"/>
              <a:ext cx="1195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Xi’s proof (with upper bounds)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58040" y="6526800"/>
              <a:ext cx="68979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Xi’s proof revisited with live occurences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061640" y="4266000"/>
              <a:ext cx="18579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r result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4417920" y="2129400"/>
            <a:ext cx="16160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300" spc="-1" strike="noStrike">
                <a:solidFill>
                  <a:srgbClr val="000000"/>
                </a:solidFill>
                <a:latin typeface="Gill Sans"/>
                <a:ea typeface="Heiti SC Medium"/>
              </a:rPr>
              <a:t>小菜⼀碟</a:t>
            </a:r>
            <a:endParaRPr b="0" lang="en-US" sz="5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4BA3B-9D6A-41AB-983C-139EB038E1A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91600" y="1066680"/>
            <a:ext cx="12166920" cy="613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tandardization</a:t>
            </a:r>
            <a:endParaRPr b="0" lang="en-US" sz="9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6215040" y="8142120"/>
            <a:ext cx="757872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tandard reductions (1/3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846000" y="1834920"/>
            <a:ext cx="9669600" cy="2940120"/>
            <a:chOff x="846000" y="1834920"/>
            <a:chExt cx="9669600" cy="2940120"/>
          </a:xfrm>
        </p:grpSpPr>
        <p:sp>
          <p:nvSpPr>
            <p:cNvPr id="906" name=""/>
            <p:cNvSpPr/>
            <p:nvPr/>
          </p:nvSpPr>
          <p:spPr>
            <a:xfrm>
              <a:off x="846000" y="1834920"/>
              <a:ext cx="8272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Definition: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following reduction is </a:t>
              </a:r>
              <a:r>
                <a:rPr b="1" lang="en-US" sz="3000" spc="-1" strike="noStrike">
                  <a:solidFill>
                    <a:srgbClr val="ff0080"/>
                  </a:solidFill>
                  <a:latin typeface="Arial"/>
                  <a:ea typeface="Arial"/>
                </a:rPr>
                <a:t>standard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907" name="" descr=""/>
            <p:cNvPicPr/>
            <p:nvPr/>
          </p:nvPicPr>
          <p:blipFill>
            <a:blip r:embed="rId1"/>
            <a:stretch/>
          </p:blipFill>
          <p:spPr>
            <a:xfrm>
              <a:off x="1828800" y="2539800"/>
              <a:ext cx="868680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2"/>
            <a:stretch/>
          </p:blipFill>
          <p:spPr>
            <a:xfrm>
              <a:off x="1143000" y="3708360"/>
              <a:ext cx="875016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"/>
          <p:cNvSpPr/>
          <p:nvPr/>
        </p:nvSpPr>
        <p:spPr>
          <a:xfrm>
            <a:off x="787320" y="5829480"/>
            <a:ext cx="1036332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leftmost-outermost reduction is also called the </a:t>
            </a:r>
            <a:r>
              <a:rPr b="1" lang="en-US" sz="3000" spc="-1" strike="noStrike">
                <a:solidFill>
                  <a:srgbClr val="ff0080"/>
                </a:solidFill>
                <a:latin typeface="Arial"/>
                <a:ea typeface="Arial"/>
              </a:rPr>
              <a:t>normal reduction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12274200" y="9321480"/>
            <a:ext cx="228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952C-D787-4FBA-B76D-45146436A6C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tandard reductions (2/3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1301400" y="971640"/>
            <a:ext cx="11430360" cy="9232920"/>
            <a:chOff x="1301400" y="971640"/>
            <a:chExt cx="11430360" cy="9232920"/>
          </a:xfrm>
        </p:grpSpPr>
        <p:pic>
          <p:nvPicPr>
            <p:cNvPr id="913" name="" descr=""/>
            <p:cNvPicPr/>
            <p:nvPr/>
          </p:nvPicPr>
          <p:blipFill>
            <a:blip r:embed="rId1"/>
            <a:stretch/>
          </p:blipFill>
          <p:spPr>
            <a:xfrm>
              <a:off x="2367000" y="971640"/>
              <a:ext cx="10364760" cy="923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"/>
            <p:cNvSpPr/>
            <p:nvPr/>
          </p:nvSpPr>
          <p:spPr>
            <a:xfrm>
              <a:off x="8864640" y="2297160"/>
              <a:ext cx="1218960" cy="12600"/>
            </a:xfrm>
            <a:custGeom>
              <a:avLst/>
              <a:gdLst/>
              <a:ahLst/>
              <a:rect l="l" t="t" r="r" b="b"/>
              <a:pathLst>
                <a:path w="21600" h="125606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07160" y="5040360"/>
              <a:ext cx="1219320" cy="12600"/>
            </a:xfrm>
            <a:custGeom>
              <a:avLst/>
              <a:gdLst/>
              <a:ahLst/>
              <a:rect l="l" t="t" r="r" b="b"/>
              <a:pathLst>
                <a:path w="21600" h="125606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30520" y="5052960"/>
              <a:ext cx="1219320" cy="12960"/>
            </a:xfrm>
            <a:custGeom>
              <a:avLst/>
              <a:gdLst/>
              <a:ahLst/>
              <a:rect l="l" t="t" r="r" b="b"/>
              <a:pathLst>
                <a:path w="21600" h="125606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438960" y="3656160"/>
              <a:ext cx="1218960" cy="12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861320" y="3630600"/>
              <a:ext cx="1218960" cy="12960"/>
            </a:xfrm>
            <a:custGeom>
              <a:avLst/>
              <a:gdLst/>
              <a:ahLst/>
              <a:rect l="l" t="t" r="r" b="b"/>
              <a:pathLst>
                <a:path w="21600" h="125606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737560" y="6373800"/>
              <a:ext cx="1219320" cy="12960"/>
            </a:xfrm>
            <a:custGeom>
              <a:avLst/>
              <a:gdLst/>
              <a:ahLst/>
              <a:rect l="l" t="t" r="r" b="b"/>
              <a:pathLst>
                <a:path w="21600" h="125606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645000" y="6386760"/>
              <a:ext cx="1218960" cy="12600"/>
            </a:xfrm>
            <a:custGeom>
              <a:avLst/>
              <a:gdLst/>
              <a:ahLst/>
              <a:rect l="l" t="t" r="r" b="b"/>
              <a:pathLst>
                <a:path w="21600" h="125606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069040" y="2333880"/>
              <a:ext cx="2040120" cy="69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7787"/>
                  </a:moveTo>
                  <a:lnTo>
                    <a:pt x="4017" y="0"/>
                  </a:lnTo>
                  <a:lnTo>
                    <a:pt x="6759" y="13813"/>
                  </a:lnTo>
                  <a:lnTo>
                    <a:pt x="10296" y="12424"/>
                  </a:lnTo>
                  <a:lnTo>
                    <a:pt x="12710" y="21600"/>
                  </a:lnTo>
                  <a:lnTo>
                    <a:pt x="16082" y="16318"/>
                  </a:lnTo>
                  <a:lnTo>
                    <a:pt x="21600" y="46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9817200" y="5052960"/>
              <a:ext cx="1720800" cy="5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308"/>
                  </a:moveTo>
                  <a:lnTo>
                    <a:pt x="4758" y="0"/>
                  </a:lnTo>
                  <a:lnTo>
                    <a:pt x="12195" y="16446"/>
                  </a:lnTo>
                  <a:lnTo>
                    <a:pt x="19050" y="21600"/>
                  </a:lnTo>
                  <a:lnTo>
                    <a:pt x="21600" y="61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0388520" y="7770960"/>
              <a:ext cx="971640" cy="4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2177"/>
                  </a:moveTo>
                  <a:lnTo>
                    <a:pt x="8427" y="0"/>
                  </a:lnTo>
                  <a:lnTo>
                    <a:pt x="14180" y="21600"/>
                  </a:lnTo>
                  <a:lnTo>
                    <a:pt x="21600" y="116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244600" y="3662280"/>
              <a:ext cx="3355920" cy="2857680"/>
            </a:xfrm>
            <a:custGeom>
              <a:avLst/>
              <a:gdLst/>
              <a:ahLst/>
              <a:rect l="l" t="t" r="r" b="b"/>
              <a:pathLst>
                <a:path w="21600" h="20095">
                  <a:moveTo>
                    <a:pt x="21600" y="2287"/>
                  </a:moveTo>
                  <a:cubicBezTo>
                    <a:pt x="21600" y="2287"/>
                    <a:pt x="12861" y="0"/>
                    <a:pt x="7840" y="3248"/>
                  </a:cubicBezTo>
                  <a:cubicBezTo>
                    <a:pt x="3518" y="6045"/>
                    <a:pt x="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301400" y="6532560"/>
              <a:ext cx="1829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80"/>
                  </a:solidFill>
                  <a:latin typeface="Courier New"/>
                  <a:ea typeface="Courier New"/>
                </a:rPr>
                <a:t>standard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8071560" y="2373480"/>
              <a:ext cx="885960" cy="914400"/>
            </a:xfrm>
            <a:prstGeom prst="line">
              <a:avLst/>
            </a:prstGeom>
            <a:ln w="63360">
              <a:solidFill>
                <a:srgbClr val="b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5263920" y="3769920"/>
              <a:ext cx="2021040" cy="870120"/>
            </a:xfrm>
            <a:prstGeom prst="line">
              <a:avLst/>
            </a:prstGeom>
            <a:ln w="633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4406040" y="5154480"/>
              <a:ext cx="198360" cy="850680"/>
            </a:xfrm>
            <a:prstGeom prst="line">
              <a:avLst/>
            </a:prstGeom>
            <a:ln w="633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flipV="1">
              <a:off x="7818120" y="3808440"/>
              <a:ext cx="4680" cy="851040"/>
            </a:xfrm>
            <a:prstGeom prst="line">
              <a:avLst/>
            </a:prstGeom>
            <a:ln w="63360">
              <a:solidFill>
                <a:srgbClr val="b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6993720" y="5116320"/>
              <a:ext cx="671400" cy="901800"/>
            </a:xfrm>
            <a:prstGeom prst="line">
              <a:avLst/>
            </a:prstGeom>
            <a:ln w="633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9295920" y="2423880"/>
              <a:ext cx="1266840" cy="2235240"/>
            </a:xfrm>
            <a:prstGeom prst="line">
              <a:avLst/>
            </a:prstGeom>
            <a:ln w="633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10718280" y="5154840"/>
              <a:ext cx="165240" cy="2224080"/>
            </a:xfrm>
            <a:prstGeom prst="line">
              <a:avLst/>
            </a:prstGeom>
            <a:ln w="633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flipV="1">
              <a:off x="8074080" y="5116320"/>
              <a:ext cx="979200" cy="901800"/>
            </a:xfrm>
            <a:prstGeom prst="line">
              <a:avLst/>
            </a:prstGeom>
            <a:ln w="63360">
              <a:solidFill>
                <a:srgbClr val="b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8991360" y="6500880"/>
              <a:ext cx="263520" cy="876240"/>
            </a:xfrm>
            <a:prstGeom prst="line">
              <a:avLst/>
            </a:prstGeom>
            <a:ln w="63360">
              <a:solidFill>
                <a:srgbClr val="b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8915040" y="7910640"/>
              <a:ext cx="3240" cy="851040"/>
            </a:xfrm>
            <a:prstGeom prst="line">
              <a:avLst/>
            </a:prstGeom>
            <a:ln w="63360">
              <a:solidFill>
                <a:srgbClr val="b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6793920" y="6500880"/>
              <a:ext cx="3240" cy="851040"/>
            </a:xfrm>
            <a:prstGeom prst="line">
              <a:avLst/>
            </a:prstGeom>
            <a:ln w="633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667560" y="4989600"/>
              <a:ext cx="799920" cy="6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003640" y="4989600"/>
              <a:ext cx="800280" cy="6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879880" y="6348600"/>
              <a:ext cx="800280" cy="6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807240" y="6348600"/>
              <a:ext cx="799920" cy="6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311880" y="7707240"/>
              <a:ext cx="799920" cy="6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610480" y="7707240"/>
              <a:ext cx="800280" cy="6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0731600" y="4964040"/>
              <a:ext cx="799920" cy="6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 rot="10800000">
              <a:off x="4889520" y="8091720"/>
              <a:ext cx="3938400" cy="466560"/>
            </a:xfrm>
            <a:custGeom>
              <a:avLst/>
              <a:gdLst/>
              <a:ahLst/>
              <a:rect l="l" t="t" r="r" b="b"/>
              <a:pathLst>
                <a:path w="21600" h="17483">
                  <a:moveTo>
                    <a:pt x="21600" y="21600"/>
                  </a:moveTo>
                  <a:cubicBezTo>
                    <a:pt x="21600" y="21600"/>
                    <a:pt x="15927" y="0"/>
                    <a:pt x="9958" y="7922"/>
                  </a:cubicBezTo>
                  <a:cubicBezTo>
                    <a:pt x="5758" y="13497"/>
                    <a:pt x="0" y="4117"/>
                    <a:pt x="0" y="4117"/>
                  </a:cubicBezTo>
                </a:path>
              </a:pathLst>
            </a:custGeom>
            <a:noFill/>
            <a:ln w="38160">
              <a:solidFill>
                <a:srgbClr val="a20b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460320" y="8253360"/>
              <a:ext cx="1372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aa1602"/>
                  </a:solidFill>
                  <a:latin typeface="Courier New"/>
                  <a:ea typeface="Courier New"/>
                </a:rPr>
                <a:t>normal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946" name=""/>
          <p:cNvSpPr txBox="1"/>
          <p:nvPr/>
        </p:nvSpPr>
        <p:spPr>
          <a:xfrm>
            <a:off x="12274200" y="9321480"/>
            <a:ext cx="228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BCB7-A2C2-4393-B082-08B0EB1AE36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tandard reductions (3/3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8" name=""/>
          <p:cNvSpPr/>
          <p:nvPr/>
        </p:nvSpPr>
        <p:spPr>
          <a:xfrm>
            <a:off x="674280" y="5105160"/>
            <a:ext cx="100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y reduction can be performed outside-in and left-to-right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520560" y="1720800"/>
            <a:ext cx="12115800" cy="2507760"/>
            <a:chOff x="520560" y="1720800"/>
            <a:chExt cx="12115800" cy="2507760"/>
          </a:xfrm>
        </p:grpSpPr>
        <p:sp>
          <p:nvSpPr>
            <p:cNvPr id="950" name=""/>
            <p:cNvSpPr/>
            <p:nvPr/>
          </p:nvSpPr>
          <p:spPr>
            <a:xfrm>
              <a:off x="520560" y="1720800"/>
              <a:ext cx="121158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Standardization thm</a:t>
              </a:r>
              <a:r>
                <a:rPr b="0" lang="en-US" sz="30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[Curry 50] 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863640" y="2413080"/>
              <a:ext cx="5930640" cy="582480"/>
              <a:chOff x="863640" y="2413080"/>
              <a:chExt cx="5930640" cy="582480"/>
            </a:xfrm>
          </p:grpSpPr>
          <p:pic>
            <p:nvPicPr>
              <p:cNvPr id="9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63640" y="2413080"/>
                <a:ext cx="5930640" cy="38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3" name=""/>
              <p:cNvSpPr/>
              <p:nvPr/>
            </p:nvSpPr>
            <p:spPr>
              <a:xfrm>
                <a:off x="5630760" y="2629440"/>
                <a:ext cx="272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st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8432280" y="2286000"/>
              <a:ext cx="3796920" cy="1942560"/>
              <a:chOff x="8432280" y="2286000"/>
              <a:chExt cx="3796920" cy="1942560"/>
            </a:xfrm>
          </p:grpSpPr>
          <p:sp>
            <p:nvSpPr>
              <p:cNvPr id="955" name=""/>
              <p:cNvSpPr/>
              <p:nvPr/>
            </p:nvSpPr>
            <p:spPr>
              <a:xfrm flipH="1">
                <a:off x="8432280" y="2641320"/>
                <a:ext cx="3796920" cy="0"/>
              </a:xfrm>
              <a:prstGeom prst="line">
                <a:avLst/>
              </a:prstGeom>
              <a:ln w="50760">
                <a:solidFill>
                  <a:srgbClr val="008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443800" y="2614320"/>
                <a:ext cx="3729960" cy="1144080"/>
              </a:xfrm>
              <a:custGeom>
                <a:avLst/>
                <a:gdLst/>
                <a:ahLst/>
                <a:rect l="l" t="t" r="r" b="b"/>
                <a:pathLst>
                  <a:path w="21600" h="21530">
                    <a:moveTo>
                      <a:pt x="0" y="0"/>
                    </a:moveTo>
                    <a:cubicBezTo>
                      <a:pt x="0" y="0"/>
                      <a:pt x="5508" y="21495"/>
                      <a:pt x="8952" y="21530"/>
                    </a:cubicBezTo>
                    <a:cubicBezTo>
                      <a:pt x="15783" y="21600"/>
                      <a:pt x="21600" y="1675"/>
                      <a:pt x="21600" y="1675"/>
                    </a:cubicBezTo>
                  </a:path>
                </a:pathLst>
              </a:custGeom>
              <a:noFill/>
              <a:ln w="50760">
                <a:solidFill>
                  <a:srgbClr val="0080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9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196640" y="2286000"/>
                <a:ext cx="22860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892080" y="3898440"/>
                <a:ext cx="482400" cy="330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9" name=""/>
          <p:cNvGrpSpPr/>
          <p:nvPr/>
        </p:nvGrpSpPr>
        <p:grpSpPr>
          <a:xfrm>
            <a:off x="520560" y="6635880"/>
            <a:ext cx="12318480" cy="2495520"/>
            <a:chOff x="520560" y="6635880"/>
            <a:chExt cx="12318480" cy="2495520"/>
          </a:xfrm>
        </p:grpSpPr>
        <p:sp>
          <p:nvSpPr>
            <p:cNvPr id="960" name=""/>
            <p:cNvSpPr/>
            <p:nvPr/>
          </p:nvSpPr>
          <p:spPr>
            <a:xfrm>
              <a:off x="520560" y="6635880"/>
              <a:ext cx="1211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Normalization  corollary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863640" y="7290000"/>
              <a:ext cx="6159240" cy="589320"/>
              <a:chOff x="863640" y="7290000"/>
              <a:chExt cx="6159240" cy="589320"/>
            </a:xfrm>
          </p:grpSpPr>
          <p:pic>
            <p:nvPicPr>
              <p:cNvPr id="96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63640" y="7290000"/>
                <a:ext cx="615924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3" name=""/>
              <p:cNvSpPr/>
              <p:nvPr/>
            </p:nvSpPr>
            <p:spPr>
              <a:xfrm>
                <a:off x="5568120" y="751320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norm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8432640" y="7162920"/>
              <a:ext cx="4406400" cy="1968480"/>
              <a:chOff x="8432640" y="7162920"/>
              <a:chExt cx="4406400" cy="1968480"/>
            </a:xfrm>
          </p:grpSpPr>
          <p:sp>
            <p:nvSpPr>
              <p:cNvPr id="965" name=""/>
              <p:cNvSpPr/>
              <p:nvPr/>
            </p:nvSpPr>
            <p:spPr>
              <a:xfrm flipH="1">
                <a:off x="8432640" y="7518600"/>
                <a:ext cx="3795840" cy="0"/>
              </a:xfrm>
              <a:prstGeom prst="line">
                <a:avLst/>
              </a:prstGeom>
              <a:ln w="50760">
                <a:solidFill>
                  <a:srgbClr val="008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grpSp>
            <p:nvGrpSpPr>
              <p:cNvPr id="966" name=""/>
              <p:cNvGrpSpPr/>
              <p:nvPr/>
            </p:nvGrpSpPr>
            <p:grpSpPr>
              <a:xfrm>
                <a:off x="8443800" y="7162920"/>
                <a:ext cx="4395240" cy="1968480"/>
                <a:chOff x="8443800" y="7162920"/>
                <a:chExt cx="4395240" cy="196848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8443800" y="7491600"/>
                  <a:ext cx="3728520" cy="1144440"/>
                </a:xfrm>
                <a:custGeom>
                  <a:avLst/>
                  <a:gdLst/>
                  <a:ahLst/>
                  <a:rect l="l" t="t" r="r" b="b"/>
                  <a:pathLst>
                    <a:path w="21600" h="21530">
                      <a:moveTo>
                        <a:pt x="0" y="0"/>
                      </a:moveTo>
                      <a:cubicBezTo>
                        <a:pt x="0" y="0"/>
                        <a:pt x="5508" y="21495"/>
                        <a:pt x="8952" y="21530"/>
                      </a:cubicBezTo>
                      <a:cubicBezTo>
                        <a:pt x="15783" y="21600"/>
                        <a:pt x="21600" y="1675"/>
                        <a:pt x="21600" y="1675"/>
                      </a:cubicBezTo>
                    </a:path>
                  </a:pathLst>
                </a:custGeom>
                <a:noFill/>
                <a:ln w="50760">
                  <a:solidFill>
                    <a:srgbClr val="008000"/>
                  </a:solidFill>
                  <a:prstDash val="sysDot"/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pic>
              <p:nvPicPr>
                <p:cNvPr id="96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96640" y="7162920"/>
                  <a:ext cx="228600" cy="317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726840" y="8801280"/>
                  <a:ext cx="927000" cy="330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394440" y="7290000"/>
                  <a:ext cx="44460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971" name=""/>
          <p:cNvSpPr txBox="1"/>
          <p:nvPr/>
        </p:nvSpPr>
        <p:spPr>
          <a:xfrm>
            <a:off x="12274200" y="9321480"/>
            <a:ext cx="228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5A26-996B-4129-B57E-65E2979D246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Our result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3" name=""/>
          <p:cNvSpPr/>
          <p:nvPr/>
        </p:nvSpPr>
        <p:spPr>
          <a:xfrm>
            <a:off x="457200" y="1987560"/>
            <a:ext cx="121158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Upper-bound on standard reductions </a:t>
            </a:r>
            <a:r>
              <a:rPr b="0" lang="en-US" sz="3000" spc="-1" strike="noStrike">
                <a:solidFill>
                  <a:srgbClr val="ff0000"/>
                </a:solidFill>
                <a:latin typeface="Courier New"/>
                <a:ea typeface="Courier New"/>
              </a:rPr>
              <a:t>[Hongwey Xi, 99]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4" name=""/>
          <p:cNvSpPr/>
          <p:nvPr/>
        </p:nvSpPr>
        <p:spPr>
          <a:xfrm>
            <a:off x="457200" y="4876920"/>
            <a:ext cx="121158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Upper-bound to normal forms </a:t>
            </a:r>
            <a:r>
              <a:rPr b="0" lang="en-US" sz="3000" spc="-1" strike="noStrike">
                <a:solidFill>
                  <a:srgbClr val="ff0000"/>
                </a:solidFill>
                <a:latin typeface="Courier New"/>
                <a:ea typeface="Courier New"/>
              </a:rPr>
              <a:t>[Asperti-JJL, 13]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5" name=""/>
          <p:cNvSpPr/>
          <p:nvPr/>
        </p:nvSpPr>
        <p:spPr>
          <a:xfrm>
            <a:off x="685800" y="8166240"/>
            <a:ext cx="10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e gain one exponential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825480" y="5613480"/>
            <a:ext cx="8928000" cy="1255680"/>
            <a:chOff x="825480" y="5613480"/>
            <a:chExt cx="8928000" cy="1255680"/>
          </a:xfrm>
        </p:grpSpPr>
        <p:pic>
          <p:nvPicPr>
            <p:cNvPr id="977" name="" descr=""/>
            <p:cNvPicPr/>
            <p:nvPr/>
          </p:nvPicPr>
          <p:blipFill>
            <a:blip r:embed="rId1"/>
            <a:stretch/>
          </p:blipFill>
          <p:spPr>
            <a:xfrm>
              <a:off x="825480" y="5613480"/>
              <a:ext cx="8928000" cy="48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8" name=""/>
            <p:cNvGrpSpPr/>
            <p:nvPr/>
          </p:nvGrpSpPr>
          <p:grpSpPr>
            <a:xfrm>
              <a:off x="851040" y="6286680"/>
              <a:ext cx="4419360" cy="582480"/>
              <a:chOff x="851040" y="6286680"/>
              <a:chExt cx="4419360" cy="582480"/>
            </a:xfrm>
          </p:grpSpPr>
          <p:pic>
            <p:nvPicPr>
              <p:cNvPr id="97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51040" y="6286680"/>
                <a:ext cx="4419360" cy="46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0" name=""/>
              <p:cNvSpPr/>
              <p:nvPr/>
            </p:nvSpPr>
            <p:spPr>
              <a:xfrm>
                <a:off x="3980520" y="650304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norm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grpSp>
        <p:nvGrpSpPr>
          <p:cNvPr id="981" name=""/>
          <p:cNvGrpSpPr/>
          <p:nvPr/>
        </p:nvGrpSpPr>
        <p:grpSpPr>
          <a:xfrm>
            <a:off x="851040" y="2666880"/>
            <a:ext cx="9283680" cy="1408680"/>
            <a:chOff x="851040" y="2666880"/>
            <a:chExt cx="9283680" cy="1408680"/>
          </a:xfrm>
        </p:grpSpPr>
        <p:pic>
          <p:nvPicPr>
            <p:cNvPr id="982" name="" descr=""/>
            <p:cNvPicPr/>
            <p:nvPr/>
          </p:nvPicPr>
          <p:blipFill>
            <a:blip r:embed="rId3"/>
            <a:stretch/>
          </p:blipFill>
          <p:spPr>
            <a:xfrm>
              <a:off x="851040" y="3504960"/>
              <a:ext cx="407664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>
              <a:off x="3764520" y="3709440"/>
              <a:ext cx="27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st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984" name="" descr=""/>
            <p:cNvPicPr/>
            <p:nvPr/>
          </p:nvPicPr>
          <p:blipFill>
            <a:blip r:embed="rId4"/>
            <a:stretch/>
          </p:blipFill>
          <p:spPr>
            <a:xfrm>
              <a:off x="851040" y="2666880"/>
              <a:ext cx="928368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5" name=""/>
          <p:cNvSpPr txBox="1"/>
          <p:nvPr/>
        </p:nvSpPr>
        <p:spPr>
          <a:xfrm>
            <a:off x="12274200" y="9321480"/>
            <a:ext cx="228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062B-3132-4CEF-A3BC-244FE438088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