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44240" y="3174480"/>
            <a:ext cx="12115800" cy="3403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9120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10310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2" marL="137016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3" marL="17222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4" marL="206208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5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6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9120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10310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2" marL="137016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3" marL="17222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4" marL="206208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5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6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69720" y="121932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J-O-Caml (6)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30040" y="312408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ean-jacques.levy@inria.f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auillac.inria.fr/~levy/qinghua/j-o-cam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Qinghua, December 4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3276720" y="5105520"/>
            <a:ext cx="6159240" cy="69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00280" y="254160"/>
            <a:ext cx="1046448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Join-Patter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1" name=""/>
          <p:cNvSpPr/>
          <p:nvPr/>
        </p:nvSpPr>
        <p:spPr>
          <a:xfrm>
            <a:off x="-304920" y="1930320"/>
            <a:ext cx="758196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"/>
          <p:cNvSpPr/>
          <p:nvPr/>
        </p:nvSpPr>
        <p:spPr>
          <a:xfrm>
            <a:off x="-190440" y="3137040"/>
            <a:ext cx="75819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3" name=""/>
          <p:cNvSpPr/>
          <p:nvPr/>
        </p:nvSpPr>
        <p:spPr>
          <a:xfrm>
            <a:off x="25560" y="4305240"/>
            <a:ext cx="758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4" name=""/>
          <p:cNvSpPr/>
          <p:nvPr/>
        </p:nvSpPr>
        <p:spPr>
          <a:xfrm>
            <a:off x="25560" y="5715000"/>
            <a:ext cx="7581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0" y="0"/>
            <a:ext cx="5054760" cy="6286680"/>
            <a:chOff x="0" y="0"/>
            <a:chExt cx="5054760" cy="6286680"/>
          </a:xfrm>
        </p:grpSpPr>
        <p:pic>
          <p:nvPicPr>
            <p:cNvPr id="746" name="" descr=""/>
            <p:cNvPicPr/>
            <p:nvPr/>
          </p:nvPicPr>
          <p:blipFill>
            <a:blip r:embed="rId1"/>
            <a:stretch/>
          </p:blipFill>
          <p:spPr>
            <a:xfrm>
              <a:off x="158760" y="0"/>
              <a:ext cx="4896000" cy="28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" descr=""/>
            <p:cNvPicPr/>
            <p:nvPr/>
          </p:nvPicPr>
          <p:blipFill>
            <a:blip r:embed="rId2"/>
            <a:stretch/>
          </p:blipFill>
          <p:spPr>
            <a:xfrm>
              <a:off x="0" y="3530520"/>
              <a:ext cx="5043600" cy="275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8" name=""/>
          <p:cNvSpPr/>
          <p:nvPr/>
        </p:nvSpPr>
        <p:spPr>
          <a:xfrm>
            <a:off x="939960" y="1994040"/>
            <a:ext cx="101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ynchronous chann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939960" y="2692440"/>
            <a:ext cx="6819840" cy="40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00280" y="254160"/>
            <a:ext cx="1046448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Join-Patter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"/>
          <p:cNvSpPr/>
          <p:nvPr/>
        </p:nvSpPr>
        <p:spPr>
          <a:xfrm>
            <a:off x="-304920" y="1930320"/>
            <a:ext cx="758196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2" name=""/>
          <p:cNvSpPr/>
          <p:nvPr/>
        </p:nvSpPr>
        <p:spPr>
          <a:xfrm>
            <a:off x="-190440" y="3137040"/>
            <a:ext cx="75819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3" name=""/>
          <p:cNvSpPr/>
          <p:nvPr/>
        </p:nvSpPr>
        <p:spPr>
          <a:xfrm>
            <a:off x="25560" y="4305240"/>
            <a:ext cx="758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"/>
          <p:cNvSpPr/>
          <p:nvPr/>
        </p:nvSpPr>
        <p:spPr>
          <a:xfrm>
            <a:off x="25560" y="5715000"/>
            <a:ext cx="7581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0" y="0"/>
            <a:ext cx="5054760" cy="6286680"/>
            <a:chOff x="0" y="0"/>
            <a:chExt cx="5054760" cy="6286680"/>
          </a:xfrm>
        </p:grpSpPr>
        <p:pic>
          <p:nvPicPr>
            <p:cNvPr id="756" name="" descr=""/>
            <p:cNvPicPr/>
            <p:nvPr/>
          </p:nvPicPr>
          <p:blipFill>
            <a:blip r:embed="rId1"/>
            <a:stretch/>
          </p:blipFill>
          <p:spPr>
            <a:xfrm>
              <a:off x="158760" y="0"/>
              <a:ext cx="4896000" cy="28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" descr=""/>
            <p:cNvPicPr/>
            <p:nvPr/>
          </p:nvPicPr>
          <p:blipFill>
            <a:blip r:embed="rId2"/>
            <a:stretch/>
          </p:blipFill>
          <p:spPr>
            <a:xfrm>
              <a:off x="0" y="3530520"/>
              <a:ext cx="5043600" cy="275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"/>
          <p:cNvSpPr/>
          <p:nvPr/>
        </p:nvSpPr>
        <p:spPr>
          <a:xfrm>
            <a:off x="939960" y="1994040"/>
            <a:ext cx="101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chronous chann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3"/>
          <a:stretch/>
        </p:blipFill>
        <p:spPr>
          <a:xfrm>
            <a:off x="939960" y="2793960"/>
            <a:ext cx="7061040" cy="115560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939960" y="4508640"/>
            <a:ext cx="101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oin patterns [waiting for presence of several messages]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4"/>
          <a:stretch/>
        </p:blipFill>
        <p:spPr>
          <a:xfrm>
            <a:off x="1066680" y="5194440"/>
            <a:ext cx="942336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00280" y="254160"/>
            <a:ext cx="1046448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Join-Patter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"/>
          <p:cNvSpPr/>
          <p:nvPr/>
        </p:nvSpPr>
        <p:spPr>
          <a:xfrm>
            <a:off x="-304920" y="1930320"/>
            <a:ext cx="758196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"/>
          <p:cNvSpPr/>
          <p:nvPr/>
        </p:nvSpPr>
        <p:spPr>
          <a:xfrm>
            <a:off x="-190440" y="3137040"/>
            <a:ext cx="75819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5" name=""/>
          <p:cNvSpPr/>
          <p:nvPr/>
        </p:nvSpPr>
        <p:spPr>
          <a:xfrm>
            <a:off x="25560" y="4305240"/>
            <a:ext cx="758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"/>
          <p:cNvSpPr/>
          <p:nvPr/>
        </p:nvSpPr>
        <p:spPr>
          <a:xfrm>
            <a:off x="25560" y="5715000"/>
            <a:ext cx="7581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0" y="0"/>
            <a:ext cx="5054760" cy="6286680"/>
            <a:chOff x="0" y="0"/>
            <a:chExt cx="5054760" cy="6286680"/>
          </a:xfrm>
        </p:grpSpPr>
        <p:pic>
          <p:nvPicPr>
            <p:cNvPr id="768" name="" descr=""/>
            <p:cNvPicPr/>
            <p:nvPr/>
          </p:nvPicPr>
          <p:blipFill>
            <a:blip r:embed="rId1"/>
            <a:stretch/>
          </p:blipFill>
          <p:spPr>
            <a:xfrm>
              <a:off x="158760" y="0"/>
              <a:ext cx="4896000" cy="28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" descr=""/>
            <p:cNvPicPr/>
            <p:nvPr/>
          </p:nvPicPr>
          <p:blipFill>
            <a:blip r:embed="rId2"/>
            <a:stretch/>
          </p:blipFill>
          <p:spPr>
            <a:xfrm>
              <a:off x="0" y="3530520"/>
              <a:ext cx="5043600" cy="275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0" name=""/>
          <p:cNvSpPr/>
          <p:nvPr/>
        </p:nvSpPr>
        <p:spPr>
          <a:xfrm>
            <a:off x="939960" y="1930320"/>
            <a:ext cx="101725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ors without memory state 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lf of J.-P. Banatre multi-functions paradig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3"/>
          <a:stretch/>
        </p:blipFill>
        <p:spPr>
          <a:xfrm>
            <a:off x="939960" y="3479760"/>
            <a:ext cx="6832440" cy="143532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4"/>
          <a:stretch/>
        </p:blipFill>
        <p:spPr>
          <a:xfrm>
            <a:off x="939960" y="6222960"/>
            <a:ext cx="8712000" cy="171468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939960" y="5346720"/>
            <a:ext cx="10172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ding internal chann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00280" y="254160"/>
            <a:ext cx="1046448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Join-Patter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"/>
          <p:cNvSpPr/>
          <p:nvPr/>
        </p:nvSpPr>
        <p:spPr>
          <a:xfrm>
            <a:off x="-304920" y="1930320"/>
            <a:ext cx="758196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"/>
          <p:cNvSpPr/>
          <p:nvPr/>
        </p:nvSpPr>
        <p:spPr>
          <a:xfrm>
            <a:off x="-190440" y="3137040"/>
            <a:ext cx="75819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"/>
          <p:cNvSpPr/>
          <p:nvPr/>
        </p:nvSpPr>
        <p:spPr>
          <a:xfrm>
            <a:off x="25560" y="4305240"/>
            <a:ext cx="758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"/>
          <p:cNvSpPr/>
          <p:nvPr/>
        </p:nvSpPr>
        <p:spPr>
          <a:xfrm>
            <a:off x="25560" y="5715000"/>
            <a:ext cx="7581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0" y="0"/>
            <a:ext cx="5054760" cy="6286680"/>
            <a:chOff x="0" y="0"/>
            <a:chExt cx="5054760" cy="6286680"/>
          </a:xfrm>
        </p:grpSpPr>
        <p:pic>
          <p:nvPicPr>
            <p:cNvPr id="780" name="" descr=""/>
            <p:cNvPicPr/>
            <p:nvPr/>
          </p:nvPicPr>
          <p:blipFill>
            <a:blip r:embed="rId1"/>
            <a:stretch/>
          </p:blipFill>
          <p:spPr>
            <a:xfrm>
              <a:off x="158760" y="0"/>
              <a:ext cx="4896000" cy="28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" descr=""/>
            <p:cNvPicPr/>
            <p:nvPr/>
          </p:nvPicPr>
          <p:blipFill>
            <a:blip r:embed="rId2"/>
            <a:stretch/>
          </p:blipFill>
          <p:spPr>
            <a:xfrm>
              <a:off x="0" y="3530520"/>
              <a:ext cx="5043600" cy="275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2" name=""/>
          <p:cNvSpPr/>
          <p:nvPr/>
        </p:nvSpPr>
        <p:spPr>
          <a:xfrm>
            <a:off x="939960" y="1994040"/>
            <a:ext cx="101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ors are frequent programming schem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3" name=""/>
          <p:cNvSpPr/>
          <p:nvPr/>
        </p:nvSpPr>
        <p:spPr>
          <a:xfrm>
            <a:off x="939960" y="5448240"/>
            <a:ext cx="10172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 of a compute 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3"/>
          <a:stretch/>
        </p:blipFill>
        <p:spPr>
          <a:xfrm>
            <a:off x="1181160" y="2552760"/>
            <a:ext cx="6426000" cy="281952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4"/>
          <a:stretch/>
        </p:blipFill>
        <p:spPr>
          <a:xfrm>
            <a:off x="1181160" y="6083280"/>
            <a:ext cx="991872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0280" y="254160"/>
            <a:ext cx="1046448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Distribution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7" name=""/>
          <p:cNvSpPr/>
          <p:nvPr/>
        </p:nvSpPr>
        <p:spPr>
          <a:xfrm>
            <a:off x="-304920" y="1930320"/>
            <a:ext cx="758196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8" name=""/>
          <p:cNvSpPr/>
          <p:nvPr/>
        </p:nvSpPr>
        <p:spPr>
          <a:xfrm>
            <a:off x="-190440" y="3137040"/>
            <a:ext cx="75819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9" name=""/>
          <p:cNvSpPr/>
          <p:nvPr/>
        </p:nvSpPr>
        <p:spPr>
          <a:xfrm>
            <a:off x="25560" y="4305240"/>
            <a:ext cx="758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0" name=""/>
          <p:cNvSpPr/>
          <p:nvPr/>
        </p:nvSpPr>
        <p:spPr>
          <a:xfrm>
            <a:off x="25560" y="5715000"/>
            <a:ext cx="7581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0" y="0"/>
            <a:ext cx="5054760" cy="6286680"/>
            <a:chOff x="0" y="0"/>
            <a:chExt cx="5054760" cy="6286680"/>
          </a:xfrm>
        </p:grpSpPr>
        <p:pic>
          <p:nvPicPr>
            <p:cNvPr id="792" name="" descr=""/>
            <p:cNvPicPr/>
            <p:nvPr/>
          </p:nvPicPr>
          <p:blipFill>
            <a:blip r:embed="rId1"/>
            <a:stretch/>
          </p:blipFill>
          <p:spPr>
            <a:xfrm>
              <a:off x="158760" y="0"/>
              <a:ext cx="4896000" cy="28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2"/>
            <a:stretch/>
          </p:blipFill>
          <p:spPr>
            <a:xfrm>
              <a:off x="0" y="3530520"/>
              <a:ext cx="5043600" cy="275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4" name=""/>
          <p:cNvSpPr/>
          <p:nvPr/>
        </p:nvSpPr>
        <p:spPr>
          <a:xfrm>
            <a:off x="939960" y="1994040"/>
            <a:ext cx="101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r side (with help of nameserver) on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here.inria.f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"/>
          <p:cNvSpPr/>
          <p:nvPr/>
        </p:nvSpPr>
        <p:spPr>
          <a:xfrm>
            <a:off x="939960" y="6070680"/>
            <a:ext cx="10172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ent side (with help of nameserver)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3"/>
          <a:stretch/>
        </p:blipFill>
        <p:spPr>
          <a:xfrm>
            <a:off x="1257480" y="2590920"/>
            <a:ext cx="9334440" cy="322560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4"/>
          <a:stretch/>
        </p:blipFill>
        <p:spPr>
          <a:xfrm>
            <a:off x="1257480" y="6629400"/>
            <a:ext cx="9969480" cy="27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800280" y="254160"/>
            <a:ext cx="1046448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Real exampl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"/>
          <p:cNvSpPr/>
          <p:nvPr/>
        </p:nvSpPr>
        <p:spPr>
          <a:xfrm>
            <a:off x="939960" y="1892160"/>
            <a:ext cx="1017252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y tracers (given in standard jocaml releas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of which won the ICFP programming contes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light modifications to get the concurrent or distributed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oin patterns are polyphonic C# (Benton), VB 9.0 (Russo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ocaml [without mobility] now follows Ocaml rele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mobility 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0" name=""/>
          <p:cNvSpPr/>
          <p:nvPr/>
        </p:nvSpPr>
        <p:spPr>
          <a:xfrm>
            <a:off x="939960" y="4876920"/>
            <a:ext cx="1046448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General philosophy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"/>
          <p:cNvSpPr/>
          <p:nvPr/>
        </p:nvSpPr>
        <p:spPr>
          <a:xfrm>
            <a:off x="939960" y="6426360"/>
            <a:ext cx="101725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urrent programming is very har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ion is impossible to debu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 and remote behaviors should be identic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61760" y="1625400"/>
            <a:ext cx="11480760" cy="2920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ombien d’objets</a:t>
            </a:r>
            <a:br>
              <a:rPr sz="9200"/>
            </a:b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dans une image?</a:t>
            </a:r>
            <a:endParaRPr b="0" lang="en-US" sz="9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67920" y="5207040"/>
            <a:ext cx="12255480" cy="158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Skia"/>
                <a:ea typeface="Skia"/>
              </a:rPr>
              <a:t>Jean-Jacques Lévy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Skia"/>
                <a:ea typeface="Skia"/>
              </a:rPr>
              <a:t>INRIA 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2"/>
          <a:stretch/>
        </p:blipFill>
        <p:spPr>
          <a:xfrm>
            <a:off x="6215040" y="8142120"/>
            <a:ext cx="757872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14400" y="50760"/>
            <a:ext cx="1174752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Labeling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1168560" y="2681280"/>
            <a:ext cx="4749480" cy="493092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3"/>
          <a:stretch/>
        </p:blipFill>
        <p:spPr>
          <a:xfrm>
            <a:off x="7548480" y="2627280"/>
            <a:ext cx="4843440" cy="502920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 flipH="1">
            <a:off x="6286680" y="5151600"/>
            <a:ext cx="984240" cy="1440"/>
          </a:xfrm>
          <a:prstGeom prst="line">
            <a:avLst/>
          </a:prstGeom>
          <a:ln w="8892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9" name=""/>
          <p:cNvSpPr/>
          <p:nvPr/>
        </p:nvSpPr>
        <p:spPr>
          <a:xfrm>
            <a:off x="4765680" y="8182440"/>
            <a:ext cx="300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6 objects in this picture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0" name=""/>
          <p:cNvSpPr/>
          <p:nvPr/>
        </p:nvSpPr>
        <p:spPr>
          <a:xfrm>
            <a:off x="7917120" y="32166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1" name=""/>
          <p:cNvSpPr/>
          <p:nvPr/>
        </p:nvSpPr>
        <p:spPr>
          <a:xfrm>
            <a:off x="9263520" y="-212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2" name=""/>
          <p:cNvSpPr/>
          <p:nvPr/>
        </p:nvSpPr>
        <p:spPr>
          <a:xfrm>
            <a:off x="9098280" y="32166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3" name=""/>
          <p:cNvSpPr/>
          <p:nvPr/>
        </p:nvSpPr>
        <p:spPr>
          <a:xfrm>
            <a:off x="11117520" y="30769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4" name=""/>
          <p:cNvSpPr/>
          <p:nvPr/>
        </p:nvSpPr>
        <p:spPr>
          <a:xfrm>
            <a:off x="7777440" y="48549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5" name=""/>
          <p:cNvSpPr/>
          <p:nvPr/>
        </p:nvSpPr>
        <p:spPr>
          <a:xfrm>
            <a:off x="9098280" y="48549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6" name=""/>
          <p:cNvSpPr/>
          <p:nvPr/>
        </p:nvSpPr>
        <p:spPr>
          <a:xfrm>
            <a:off x="11117520" y="49820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7" name=""/>
          <p:cNvSpPr/>
          <p:nvPr/>
        </p:nvSpPr>
        <p:spPr>
          <a:xfrm>
            <a:off x="8768160" y="5833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8" name=""/>
          <p:cNvSpPr/>
          <p:nvPr/>
        </p:nvSpPr>
        <p:spPr>
          <a:xfrm>
            <a:off x="9504720" y="54518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9" name=""/>
          <p:cNvSpPr/>
          <p:nvPr/>
        </p:nvSpPr>
        <p:spPr>
          <a:xfrm>
            <a:off x="10368360" y="55789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0" name=""/>
          <p:cNvSpPr/>
          <p:nvPr/>
        </p:nvSpPr>
        <p:spPr>
          <a:xfrm>
            <a:off x="9504720" y="6874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1" name=""/>
          <p:cNvSpPr/>
          <p:nvPr/>
        </p:nvSpPr>
        <p:spPr>
          <a:xfrm>
            <a:off x="10294560" y="63918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2" name=""/>
          <p:cNvSpPr/>
          <p:nvPr/>
        </p:nvSpPr>
        <p:spPr>
          <a:xfrm>
            <a:off x="11790720" y="6544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3" name=""/>
          <p:cNvSpPr/>
          <p:nvPr/>
        </p:nvSpPr>
        <p:spPr>
          <a:xfrm>
            <a:off x="10533240" y="4042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4" name=""/>
          <p:cNvSpPr/>
          <p:nvPr/>
        </p:nvSpPr>
        <p:spPr>
          <a:xfrm>
            <a:off x="11587680" y="4042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50760"/>
            <a:ext cx="1174752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Concurrent algorithm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6" name=""/>
          <p:cNvSpPr/>
          <p:nvPr/>
        </p:nvSpPr>
        <p:spPr>
          <a:xfrm>
            <a:off x="1903320" y="2095560"/>
            <a:ext cx="1033776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irst pas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can pixels left-to-right, top-to-bottom giving a new object id each time a new object is met, can be done on dual-core with half image per core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econd pas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nerate equivalences between ids due to new adjacent relations met during scan of pixels, taking care of border (generating new equivalences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ird pas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pute the number of equivalence classes and give result in parall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ink of the distributed setting with several machines on the ne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Plan of this clas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"/>
          <p:cNvSpPr/>
          <p:nvPr/>
        </p:nvSpPr>
        <p:spPr>
          <a:xfrm>
            <a:off x="1508760" y="2928600"/>
            <a:ext cx="6037560" cy="29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ads, locks, conditions, shared memor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ion channels, CM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d sett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ciples of Jocam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oncurrent labeling program ?!!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Exercic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9" name=""/>
          <p:cNvSpPr/>
          <p:nvPr/>
        </p:nvSpPr>
        <p:spPr>
          <a:xfrm>
            <a:off x="1409760" y="2095560"/>
            <a:ext cx="11518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Threads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1" name=""/>
          <p:cNvSpPr/>
          <p:nvPr/>
        </p:nvSpPr>
        <p:spPr>
          <a:xfrm>
            <a:off x="1270080" y="2095560"/>
            <a:ext cx="115189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ght weight processes are implemented in Thread modu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VM threads (byte code) and Linux threads (binary if availabl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1422360" y="3416400"/>
            <a:ext cx="6299280" cy="241308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2"/>
          <a:stretch/>
        </p:blipFill>
        <p:spPr>
          <a:xfrm>
            <a:off x="1422360" y="6654960"/>
            <a:ext cx="9004320" cy="187956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1458720" y="5963760"/>
            <a:ext cx="1294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Concurrency - Shared memory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6" name=""/>
          <p:cNvSpPr/>
          <p:nvPr/>
        </p:nvSpPr>
        <p:spPr>
          <a:xfrm>
            <a:off x="1270080" y="2108160"/>
            <a:ext cx="11518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sections -- loc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1536840" y="2946240"/>
            <a:ext cx="7022880" cy="43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18680" y="533520"/>
            <a:ext cx="104648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Concurrency - Shared memory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190440" y="1765440"/>
            <a:ext cx="11354040" cy="812772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7785000" y="5295960"/>
            <a:ext cx="37594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urrent FIFO  with locks + condition variab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1" name=""/>
          <p:cNvSpPr/>
          <p:nvPr/>
        </p:nvSpPr>
        <p:spPr>
          <a:xfrm>
            <a:off x="2387520" y="3772080"/>
            <a:ext cx="2324160" cy="6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8026" y="21600"/>
                </a:lnTo>
                <a:lnTo>
                  <a:pt x="14518" y="12960"/>
                </a:lnTo>
                <a:lnTo>
                  <a:pt x="19593" y="17280"/>
                </a:lnTo>
                <a:lnTo>
                  <a:pt x="21600" y="12960"/>
                </a:ln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2" name=""/>
          <p:cNvSpPr/>
          <p:nvPr/>
        </p:nvSpPr>
        <p:spPr>
          <a:xfrm flipH="1" rot="10800000">
            <a:off x="4915080" y="3835080"/>
            <a:ext cx="2844720" cy="1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8026" y="21600"/>
                </a:lnTo>
                <a:lnTo>
                  <a:pt x="14518" y="12960"/>
                </a:lnTo>
                <a:lnTo>
                  <a:pt x="19593" y="17280"/>
                </a:lnTo>
                <a:lnTo>
                  <a:pt x="21600" y="12960"/>
                </a:ln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18680" y="533520"/>
            <a:ext cx="104648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Concurrency - Shared memory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4" name=""/>
          <p:cNvSpPr/>
          <p:nvPr/>
        </p:nvSpPr>
        <p:spPr>
          <a:xfrm>
            <a:off x="546120" y="1943280"/>
            <a:ext cx="1000764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ks and condition variables are light implementations of old Hoare/Hansen/Dijkstra monitor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ed in many languages with shared memory [Modula3, C#]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iously missing in Java [locks but no conditions !]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ssible to write correct version of readers/writers without the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Communication channel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"/>
          <p:cNvSpPr/>
          <p:nvPr/>
        </p:nvSpPr>
        <p:spPr>
          <a:xfrm>
            <a:off x="991080" y="1791720"/>
            <a:ext cx="783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ohn Reppy’s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dule for CML (SML/NJ) in Ocam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1270080" y="2362320"/>
            <a:ext cx="7149960" cy="64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Distributed environment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"/>
          <p:cNvSpPr/>
          <p:nvPr/>
        </p:nvSpPr>
        <p:spPr>
          <a:xfrm>
            <a:off x="1270080" y="2120760"/>
            <a:ext cx="92581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ynchronous communic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ndez-vous on unlocalized channels are impossib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of distributed consensu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for join patter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