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5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30040" y="312408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auillac.inria.fr/~levy/qinghua/j-o-ca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inghua, December 3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18960" y="216000"/>
            <a:ext cx="1017252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AST and calculi on term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"/>
          <p:cNvSpPr/>
          <p:nvPr/>
        </p:nvSpPr>
        <p:spPr>
          <a:xfrm>
            <a:off x="1219320" y="208296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al induction  == recursion + pattern-matc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1219320" y="3098880"/>
            <a:ext cx="8724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vs Objec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1270080" y="2127240"/>
            <a:ext cx="10464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programming : Fortran, Algol, Pascal, C, ML, Haskell, all functional pro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programming: OOP, Simula, Smalltalk, C++, Java, C#, Eiffel, Python, Scal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1905120" y="4114800"/>
          <a:ext cx="8191440" cy="2260440"/>
        </p:xfrm>
        <a:graphic>
          <a:graphicData uri="http://schemas.openxmlformats.org/drawingml/2006/table">
            <a:tbl>
              <a:tblPr/>
              <a:tblGrid>
                <a:gridCol w="2730600"/>
                <a:gridCol w="2730240"/>
                <a:gridCol w="2730600"/>
              </a:tblGrid>
              <a:tr h="75348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al pro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O pro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"/>
          <p:cNvSpPr/>
          <p:nvPr/>
        </p:nvSpPr>
        <p:spPr>
          <a:xfrm>
            <a:off x="1270080" y="6889680"/>
            <a:ext cx="90676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OP promotes incremental programming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«modules are open»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gant for graphics or remote compu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ange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! and often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hard to re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Objects in Ocam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939960" y="2171880"/>
            <a:ext cx="103377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romise between multiple inheritance and type infer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theory and implemen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939960" y="3289320"/>
            <a:ext cx="6507000" cy="64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6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Algorithm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>
            <a:off x="1547640" y="1790640"/>
            <a:ext cx="103381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pixels left-to-right, top-to-bottom giving a new object id each time a new object is me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con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erate equivalences between ids due to new adjacent relations met during scan of pixels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r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the number of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>
            <a:off x="1498680" y="6521400"/>
            <a:ext cx="105789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lexity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twice full image (linear cost)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y to efficiently manage equivalence classes (Union-Find by Tarjan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91880" y="380880"/>
            <a:ext cx="1046484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rogram struct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>
            <a:off x="1828800" y="2063880"/>
            <a:ext cx="1046484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41200" indent="-241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colored pixels as inpu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1200" indent="-241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object ids (end of pass 1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1200" indent="-241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inal object ids (end of pass 2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1200" indent="-241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m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mped on screen by Ocaml graphics primitiv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1200" indent="-241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colorful array of great number of colors to pick in to show final objects with distinct colors [take the one given on next slide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-15908400" y="3942000"/>
            <a:ext cx="3597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(* colors *)let maroon = 0x800000 ;;let darkred = 0x8B0000 ;;let red = 0xFF0000 ;;let lightpink = 0xFFB6C1 ;;let crimson = 0xDC143C ;;let palevioletred = 0xDB7093 ;;let hotpink = 0xFF69B4 ;;let deeppink = 0xFF1493 ;;let mediumvioletred = 0xC71585 ;;let purple = 0x800080 ;;let darkmagenta = 0x8B008B ;;let orchid = 0xDA70D6 ;;let thistle = 0xD8BFD8 ;;let plum = 0xDDA0DD ;;let violet = 0xEE82EE ;;let magenta = 0xFF00FF ;;let mediumorchid = 0xBA55D3 ;;let darkviolet = 0x9400D3 ;;let blue = 0x0000FF ;;let navy = 0x000080 ;;let royalblue = 0x4169E1 ;;let skyblue = 0x87CEEB ;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-12164040" y="4335480"/>
            <a:ext cx="358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let teal = 0x008080 ;;let cyan = 0x00FFFF ;;let paleturquoise = 0xAFEEEE ;;let turquoise = 0x40E0D0 ;;let darkslategray = 0x2F4F4F ;;let mediumspringgreen = 0x00FA9A ;;let mediumaquamarine = 0x66CDAA ;;let springgreen = 0x00FF7F ;;let green = 0x008000 ;;let olivedrab = 0x6B8E23 ;;let darkkhaki = 0xBDB76B ;;let gold = 0xFFD700 ;;let darkgoldenrod = 0xB8860B ;;let darkorange = 0xFF8C00 ;;let chocolate = 0xD2691E ;;let sienna = 0xA0522D ;;let lightsalmon = 0xFFA07A ;;let darksalmon = 0xE9967A ;;let mistyrose = 0xFFE4E1 ;;let orangered = 0xFF4500 ;;let pink = 0xFFC0CB ;;let lightcoral = 0xF08080 ;;let brown = 0xA52A2A ;;let firebrick = 0xB22222 ;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-5516280" y="4466160"/>
            <a:ext cx="289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let colors = [|   maroon ;  royalblue ;  darksalmon ;  darkred ;  cyan ;  darkkhaki ;  orchid ;  orangered ;  purple ;  hotpink ;  turquoise ;  chocolate ;  red ;  navy ;  sienna ;  mediumorchid ;  lightpink ;  springgreen ;  violet ;  mediumaquamarine ;  firebrick ;  olivedrab ;  crimson 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10032840" y="2288520"/>
            <a:ext cx="217188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skyblue ;  lightcoral ;  paleturquoise ;  deeppink ;  green ;  darkorange ;  blue ;  darkgoldenrod ;  darkmagenta ;  teal ;  mistyrose ;  darkslategray ;  magenta ;  lightsalmon ;  darkviolet ;  mediumspringgreen ;  pink ;  plum ;  gold ;  brown ;  mediumvioletred ;  thistle  |] ;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1496880" y="2410560"/>
            <a:ext cx="718992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of exerc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and signatur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ised modules, func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ipulating terms as AST (moved to next lectur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ality between objects and modu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itives for concurr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ne 5 story (en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structure of labeling progra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ignatures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1270080" y="2203560"/>
            <a:ext cx="115189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syntactic fo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odule M : sig ... end = struct ... e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odule M = (struct ... end : sig ... end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odule type T = sig ... e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odule M = (M’ : 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ignatur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673200"/>
            <a:ext cx="291960" cy="33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7873920" cy="61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91880" y="380880"/>
            <a:ext cx="1046484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>
            <a:off x="1397160" y="161280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FO as circular buffer [careful with duality allocation -- polymorphism!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1401840" y="2184480"/>
            <a:ext cx="11355480" cy="72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413000" y="1320840"/>
            <a:ext cx="9440640" cy="711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-68580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arameterized modul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8852040" y="1384200"/>
            <a:ext cx="3200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ors are functions from modules to modu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51040" y="164880"/>
            <a:ext cx="124077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 and Separate Compila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943280" y="2527200"/>
            <a:ext cx="9105840" cy="1688040"/>
            <a:chOff x="1943280" y="2527200"/>
            <a:chExt cx="9105840" cy="1688040"/>
          </a:xfrm>
        </p:grpSpPr>
        <p:grpSp>
          <p:nvGrpSpPr>
            <p:cNvPr id="731" name=""/>
            <p:cNvGrpSpPr/>
            <p:nvPr/>
          </p:nvGrpSpPr>
          <p:grpSpPr>
            <a:xfrm>
              <a:off x="1943280" y="2527200"/>
              <a:ext cx="9105840" cy="1681560"/>
              <a:chOff x="1943280" y="2527200"/>
              <a:chExt cx="9105840" cy="1681560"/>
            </a:xfrm>
          </p:grpSpPr>
          <p:sp>
            <p:nvSpPr>
              <p:cNvPr id="732" name=""/>
              <p:cNvSpPr/>
              <p:nvPr/>
            </p:nvSpPr>
            <p:spPr>
              <a:xfrm>
                <a:off x="2804400" y="3842640"/>
                <a:ext cx="922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fo.mli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943280" y="2527200"/>
                <a:ext cx="2946240" cy="1270080"/>
              </a:xfrm>
              <a:prstGeom prst="roundRect">
                <a:avLst>
                  <a:gd name="adj" fmla="val 15000"/>
                </a:avLst>
              </a:prstGeom>
              <a:solidFill>
                <a:srgbClr val="ff8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dy of signature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372280" y="3149640"/>
                <a:ext cx="2222640" cy="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918400" y="2717280"/>
                <a:ext cx="1155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aco"/>
                    <a:ea typeface="Monaco"/>
                  </a:rPr>
                  <a:t>ocamlc -c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02880" y="2527200"/>
                <a:ext cx="2946240" cy="1270080"/>
              </a:xfrm>
              <a:prstGeom prst="roundRect">
                <a:avLst>
                  <a:gd name="adj" fmla="val 15000"/>
                </a:avLst>
              </a:prstGeom>
              <a:solidFill>
                <a:srgbClr val="ff8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iled interface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9141840" y="3849120"/>
              <a:ext cx="100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fo.cm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943280" y="5321160"/>
            <a:ext cx="9105840" cy="1688040"/>
            <a:chOff x="1943280" y="5321160"/>
            <a:chExt cx="9105840" cy="1688040"/>
          </a:xfrm>
        </p:grpSpPr>
        <p:grpSp>
          <p:nvGrpSpPr>
            <p:cNvPr id="739" name=""/>
            <p:cNvGrpSpPr/>
            <p:nvPr/>
          </p:nvGrpSpPr>
          <p:grpSpPr>
            <a:xfrm>
              <a:off x="1943280" y="5321160"/>
              <a:ext cx="9105840" cy="1681560"/>
              <a:chOff x="1943280" y="5321160"/>
              <a:chExt cx="9105840" cy="1681560"/>
            </a:xfrm>
          </p:grpSpPr>
          <p:sp>
            <p:nvSpPr>
              <p:cNvPr id="740" name=""/>
              <p:cNvSpPr/>
              <p:nvPr/>
            </p:nvSpPr>
            <p:spPr>
              <a:xfrm>
                <a:off x="2804400" y="6636600"/>
                <a:ext cx="855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fo.ml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43280" y="5321160"/>
                <a:ext cx="2946240" cy="1270080"/>
              </a:xfrm>
              <a:prstGeom prst="roundRect">
                <a:avLst>
                  <a:gd name="adj" fmla="val 15000"/>
                </a:avLst>
              </a:prstGeom>
              <a:solidFill>
                <a:srgbClr val="ff8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dy of implementation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372280" y="5943600"/>
                <a:ext cx="2222640" cy="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8400" y="5511240"/>
                <a:ext cx="1155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Monaco"/>
                    <a:ea typeface="Monaco"/>
                  </a:rPr>
                  <a:t>ocamlc -c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102880" y="5321160"/>
                <a:ext cx="2946240" cy="1270080"/>
              </a:xfrm>
              <a:prstGeom prst="roundRect">
                <a:avLst>
                  <a:gd name="adj" fmla="val 15000"/>
                </a:avLst>
              </a:prstGeom>
              <a:solidFill>
                <a:srgbClr val="ff8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4068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iled module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9141840" y="6643080"/>
              <a:ext cx="110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fo.cmo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690640" y="7747920"/>
            <a:ext cx="740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 fifo.cmo module2.cmo ... main.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a.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18960" y="216000"/>
            <a:ext cx="1017252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AST and calculi on term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53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219320" y="208296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al induction  == recursion + pattern-matc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1219320" y="2895480"/>
            <a:ext cx="1089648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18960" y="216000"/>
            <a:ext cx="1017252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AST and calculi on term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63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"/>
          <p:cNvSpPr/>
          <p:nvPr/>
        </p:nvSpPr>
        <p:spPr>
          <a:xfrm>
            <a:off x="1219320" y="2082960"/>
            <a:ext cx="101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al induction  == recursion + pattern-matc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219320" y="2895480"/>
            <a:ext cx="10553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219320" y="5931000"/>
            <a:ext cx="3784320" cy="4824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245960" y="5303160"/>
            <a:ext cx="638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expression below. What’s missing 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>
            <a:off x="1251360" y="6859080"/>
            <a:ext cx="70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utiful program. How to make it more efficient 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