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44240" y="3174480"/>
            <a:ext cx="12115800" cy="3403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6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9120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10310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2" marL="137016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3" marL="17222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4" marL="206208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5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6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9120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10310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2" marL="1370160" indent="-43956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3" marL="172224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4" marL="2062080" indent="-439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5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6" marL="2062080" indent="-439920">
              <a:spcBef>
                <a:spcPts val="1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69720" y="121932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J-O-Caml (3)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30040" y="3124080"/>
            <a:ext cx="1046484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ean-jacques.levy@inria.f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auillac.inria.fr/~levy/qinghua/j-o-cam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Qinghua, November 26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3276720" y="5105520"/>
            <a:ext cx="6159240" cy="69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Imperative programming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8" name=""/>
          <p:cNvSpPr/>
          <p:nvPr/>
        </p:nvSpPr>
        <p:spPr>
          <a:xfrm>
            <a:off x="1422360" y="2095560"/>
            <a:ext cx="11518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rting arrays (a la Sedgewick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1422360" y="3035160"/>
            <a:ext cx="765828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Except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1" name=""/>
          <p:cNvSpPr/>
          <p:nvPr/>
        </p:nvSpPr>
        <p:spPr>
          <a:xfrm>
            <a:off x="1270080" y="1968480"/>
            <a:ext cx="1014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several built-in excep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Failure, Division_by_zero, Invalid_argument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exceptions may also be declared by: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rai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try ... with ..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ndle exceptions with pattern-match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2" name=""/>
          <p:cNvSpPr/>
          <p:nvPr/>
        </p:nvSpPr>
        <p:spPr>
          <a:xfrm>
            <a:off x="2158920" y="4248000"/>
            <a:ext cx="1014732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try e with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| exception_1 -&gt; e_1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| exception_2 -&gt; e_2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| exception_n -&gt; e_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Input/Outpu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1274760" y="1930320"/>
            <a:ext cx="6275520" cy="410220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5578560" y="5880240"/>
            <a:ext cx="6151320" cy="31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Input/Outpu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914400" y="1771560"/>
            <a:ext cx="9742320" cy="76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Input/Outpu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1041480" y="1905120"/>
            <a:ext cx="8204040" cy="783576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7251840" y="1905120"/>
            <a:ext cx="6464160" cy="275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Modul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"/>
          <p:cNvSpPr/>
          <p:nvPr/>
        </p:nvSpPr>
        <p:spPr>
          <a:xfrm>
            <a:off x="1155600" y="2654280"/>
            <a:ext cx="1057932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es group functions of same natu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qualified no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Array.make, List.leng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in Java, Modula, et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pe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in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open Printf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Grande"/>
              </a:rPr>
              <a:t>module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Pervasiv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ways ope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tch modules in documentation 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caml.inria.fr/pub/docs/manual-ocam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e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Graphic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 portabl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brary (needs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graphics.c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be compiled as first argument of the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ocaml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and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e names (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 with uppercase le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correspond to interfaces (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list.c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starting with lowercase letter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800280" y="254160"/>
            <a:ext cx="1046448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Graphic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"/>
          <p:cNvSpPr/>
          <p:nvPr/>
        </p:nvSpPr>
        <p:spPr>
          <a:xfrm>
            <a:off x="-304920" y="1930320"/>
            <a:ext cx="758196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"/>
          <p:cNvSpPr/>
          <p:nvPr/>
        </p:nvSpPr>
        <p:spPr>
          <a:xfrm>
            <a:off x="25560" y="5715000"/>
            <a:ext cx="7581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0" y="0"/>
            <a:ext cx="5054760" cy="6286680"/>
            <a:chOff x="0" y="0"/>
            <a:chExt cx="5054760" cy="6286680"/>
          </a:xfrm>
        </p:grpSpPr>
        <p:pic>
          <p:nvPicPr>
            <p:cNvPr id="777" name="" descr=""/>
            <p:cNvPicPr/>
            <p:nvPr/>
          </p:nvPicPr>
          <p:blipFill>
            <a:blip r:embed="rId1"/>
            <a:stretch/>
          </p:blipFill>
          <p:spPr>
            <a:xfrm>
              <a:off x="158760" y="0"/>
              <a:ext cx="4896000" cy="28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" descr=""/>
            <p:cNvPicPr/>
            <p:nvPr/>
          </p:nvPicPr>
          <p:blipFill>
            <a:blip r:embed="rId2"/>
            <a:stretch/>
          </p:blipFill>
          <p:spPr>
            <a:xfrm>
              <a:off x="0" y="3530520"/>
              <a:ext cx="5043600" cy="275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9" name=""/>
          <p:cNvSpPr/>
          <p:nvPr/>
        </p:nvSpPr>
        <p:spPr>
          <a:xfrm>
            <a:off x="1854360" y="6146640"/>
            <a:ext cx="41400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ocamlc graphics.cma g1.m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3"/>
          <a:stretch/>
        </p:blipFill>
        <p:spPr>
          <a:xfrm>
            <a:off x="1384200" y="2425680"/>
            <a:ext cx="5118120" cy="262908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952560" y="2336760"/>
            <a:ext cx="5931000" cy="2832120"/>
          </a:xfrm>
          <a:prstGeom prst="roundRect">
            <a:avLst>
              <a:gd name="adj" fmla="val 6722"/>
            </a:avLst>
          </a:prstGeom>
          <a:solidFill>
            <a:srgbClr val="753a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3479400" y="5371920"/>
            <a:ext cx="12600" cy="685800"/>
          </a:xfrm>
          <a:prstGeom prst="line">
            <a:avLst/>
          </a:prstGeom>
          <a:ln w="11448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3479400" y="6692400"/>
            <a:ext cx="12600" cy="685800"/>
          </a:xfrm>
          <a:prstGeom prst="line">
            <a:avLst/>
          </a:prstGeom>
          <a:ln w="11448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"/>
          <p:cNvSpPr/>
          <p:nvPr/>
        </p:nvSpPr>
        <p:spPr>
          <a:xfrm>
            <a:off x="1422360" y="7518240"/>
            <a:ext cx="414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a.ou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00280" y="254160"/>
            <a:ext cx="1046448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Graphic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"/>
          <p:cNvSpPr/>
          <p:nvPr/>
        </p:nvSpPr>
        <p:spPr>
          <a:xfrm>
            <a:off x="-304920" y="1930320"/>
            <a:ext cx="758196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0" y="0"/>
            <a:ext cx="5054760" cy="6286680"/>
            <a:chOff x="0" y="0"/>
            <a:chExt cx="5054760" cy="6286680"/>
          </a:xfrm>
        </p:grpSpPr>
        <p:pic>
          <p:nvPicPr>
            <p:cNvPr id="788" name="" descr=""/>
            <p:cNvPicPr/>
            <p:nvPr/>
          </p:nvPicPr>
          <p:blipFill>
            <a:blip r:embed="rId1"/>
            <a:stretch/>
          </p:blipFill>
          <p:spPr>
            <a:xfrm>
              <a:off x="158760" y="0"/>
              <a:ext cx="4896000" cy="28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" descr=""/>
            <p:cNvPicPr/>
            <p:nvPr/>
          </p:nvPicPr>
          <p:blipFill>
            <a:blip r:embed="rId2"/>
            <a:stretch/>
          </p:blipFill>
          <p:spPr>
            <a:xfrm>
              <a:off x="0" y="3530520"/>
              <a:ext cx="5043600" cy="275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0" name=""/>
          <p:cNvSpPr/>
          <p:nvPr/>
        </p:nvSpPr>
        <p:spPr>
          <a:xfrm>
            <a:off x="1206360" y="3086280"/>
            <a:ext cx="105793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mentary functions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moveto, lineto, draw_rect, fill_rect, ..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col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mag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internal representation of bitmap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atrix of colors can be made into an image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make_imag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Grande"/>
              </a:rPr>
              <a:t>an image can be displayes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dump_imag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761760" y="1625400"/>
            <a:ext cx="11480760" cy="2920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ombien d’objets</a:t>
            </a:r>
            <a:br>
              <a:rPr sz="9200"/>
            </a:b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dans une image?</a:t>
            </a:r>
            <a:endParaRPr b="0" lang="en-US" sz="9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67920" y="5207040"/>
            <a:ext cx="12255480" cy="158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Skia"/>
                <a:ea typeface="Skia"/>
              </a:rPr>
              <a:t>Jean-Jacques Lévy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Skia"/>
                <a:ea typeface="Skia"/>
              </a:rPr>
              <a:t>INRIA 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2"/>
          <a:stretch/>
        </p:blipFill>
        <p:spPr>
          <a:xfrm>
            <a:off x="6215040" y="8142120"/>
            <a:ext cx="757872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14400" y="50760"/>
            <a:ext cx="1174752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Labeling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1168560" y="2681280"/>
            <a:ext cx="4749480" cy="493092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3"/>
          <a:stretch/>
        </p:blipFill>
        <p:spPr>
          <a:xfrm>
            <a:off x="7548480" y="2627280"/>
            <a:ext cx="4843440" cy="502920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 flipH="1">
            <a:off x="6286680" y="5151600"/>
            <a:ext cx="984240" cy="1440"/>
          </a:xfrm>
          <a:prstGeom prst="line">
            <a:avLst/>
          </a:prstGeom>
          <a:ln w="8892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8" name=""/>
          <p:cNvSpPr/>
          <p:nvPr/>
        </p:nvSpPr>
        <p:spPr>
          <a:xfrm>
            <a:off x="4765680" y="8182440"/>
            <a:ext cx="300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6 objects in this picture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"/>
          <p:cNvSpPr/>
          <p:nvPr/>
        </p:nvSpPr>
        <p:spPr>
          <a:xfrm>
            <a:off x="7917120" y="32166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0" name=""/>
          <p:cNvSpPr/>
          <p:nvPr/>
        </p:nvSpPr>
        <p:spPr>
          <a:xfrm>
            <a:off x="9263520" y="-212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"/>
          <p:cNvSpPr/>
          <p:nvPr/>
        </p:nvSpPr>
        <p:spPr>
          <a:xfrm>
            <a:off x="9098280" y="32166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"/>
          <p:cNvSpPr/>
          <p:nvPr/>
        </p:nvSpPr>
        <p:spPr>
          <a:xfrm>
            <a:off x="11117520" y="30769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3" name=""/>
          <p:cNvSpPr/>
          <p:nvPr/>
        </p:nvSpPr>
        <p:spPr>
          <a:xfrm>
            <a:off x="7777440" y="48549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4" name=""/>
          <p:cNvSpPr/>
          <p:nvPr/>
        </p:nvSpPr>
        <p:spPr>
          <a:xfrm>
            <a:off x="9098280" y="48549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5" name=""/>
          <p:cNvSpPr/>
          <p:nvPr/>
        </p:nvSpPr>
        <p:spPr>
          <a:xfrm>
            <a:off x="11117520" y="49820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6" name=""/>
          <p:cNvSpPr/>
          <p:nvPr/>
        </p:nvSpPr>
        <p:spPr>
          <a:xfrm>
            <a:off x="8768160" y="5833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7" name=""/>
          <p:cNvSpPr/>
          <p:nvPr/>
        </p:nvSpPr>
        <p:spPr>
          <a:xfrm>
            <a:off x="9504720" y="54518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8" name=""/>
          <p:cNvSpPr/>
          <p:nvPr/>
        </p:nvSpPr>
        <p:spPr>
          <a:xfrm>
            <a:off x="10368360" y="55789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9" name=""/>
          <p:cNvSpPr/>
          <p:nvPr/>
        </p:nvSpPr>
        <p:spPr>
          <a:xfrm>
            <a:off x="9504720" y="6874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0" name=""/>
          <p:cNvSpPr/>
          <p:nvPr/>
        </p:nvSpPr>
        <p:spPr>
          <a:xfrm>
            <a:off x="10294560" y="63918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1" name=""/>
          <p:cNvSpPr/>
          <p:nvPr/>
        </p:nvSpPr>
        <p:spPr>
          <a:xfrm>
            <a:off x="11790720" y="6544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2" name=""/>
          <p:cNvSpPr/>
          <p:nvPr/>
        </p:nvSpPr>
        <p:spPr>
          <a:xfrm>
            <a:off x="10533240" y="4042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3" name=""/>
          <p:cNvSpPr/>
          <p:nvPr/>
        </p:nvSpPr>
        <p:spPr>
          <a:xfrm>
            <a:off x="11587680" y="4042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Plan of this clas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"/>
          <p:cNvSpPr/>
          <p:nvPr/>
        </p:nvSpPr>
        <p:spPr>
          <a:xfrm>
            <a:off x="1509480" y="2669760"/>
            <a:ext cx="420732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s and mutable 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cep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tour in library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es and interfa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beling algorith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400" y="50760"/>
            <a:ext cx="1174752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Algorithm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5" name=""/>
          <p:cNvSpPr/>
          <p:nvPr/>
        </p:nvSpPr>
        <p:spPr>
          <a:xfrm>
            <a:off x="1547640" y="1790640"/>
            <a:ext cx="1033812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irst pas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can pixels left-to-right, top-to-bottom giving a new object id each time a new object is me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econd pas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nerate equivalences between ids due to new adjacent relations met during scan of pixels.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ird pas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pute the number of equivalence class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6" name=""/>
          <p:cNvSpPr/>
          <p:nvPr/>
        </p:nvSpPr>
        <p:spPr>
          <a:xfrm>
            <a:off x="1498680" y="6521400"/>
            <a:ext cx="105789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mplexity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can twice full image (linear cost)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y to efficiently manage equivalence classes (Union-Find by Tarjan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Exercices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9" name=""/>
          <p:cNvSpPr/>
          <p:nvPr/>
        </p:nvSpPr>
        <p:spPr>
          <a:xfrm>
            <a:off x="1409760" y="2095560"/>
            <a:ext cx="11518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way sequences - solution 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409760" y="2755800"/>
            <a:ext cx="9651960" cy="381024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1409760" y="7315200"/>
            <a:ext cx="11518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way sequences - solution 2 (with less many conses) 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Zero-ary functions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3" name=""/>
          <p:cNvSpPr/>
          <p:nvPr/>
        </p:nvSpPr>
        <p:spPr>
          <a:xfrm>
            <a:off x="1371600" y="2133720"/>
            <a:ext cx="115189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 are monadic in Cam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constructors (which are not functions) have arity (maybe 0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1549440" y="3289320"/>
            <a:ext cx="67057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Record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6" name=""/>
          <p:cNvSpPr/>
          <p:nvPr/>
        </p:nvSpPr>
        <p:spPr>
          <a:xfrm>
            <a:off x="1438200" y="1918800"/>
            <a:ext cx="478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``record’’ needs be declar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1409760" y="2540160"/>
            <a:ext cx="9397800" cy="673092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1409760" y="2832120"/>
            <a:ext cx="974088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9" name=""/>
          <p:cNvSpPr/>
          <p:nvPr/>
        </p:nvSpPr>
        <p:spPr>
          <a:xfrm>
            <a:off x="1371600" y="3429000"/>
            <a:ext cx="974088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0" name=""/>
          <p:cNvSpPr/>
          <p:nvPr/>
        </p:nvSpPr>
        <p:spPr>
          <a:xfrm>
            <a:off x="1371600" y="3962520"/>
            <a:ext cx="974088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1" name=""/>
          <p:cNvSpPr/>
          <p:nvPr/>
        </p:nvSpPr>
        <p:spPr>
          <a:xfrm>
            <a:off x="1333440" y="4559400"/>
            <a:ext cx="974088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2" name=""/>
          <p:cNvSpPr/>
          <p:nvPr/>
        </p:nvSpPr>
        <p:spPr>
          <a:xfrm>
            <a:off x="1371600" y="6578640"/>
            <a:ext cx="974088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"/>
          <p:cNvSpPr/>
          <p:nvPr/>
        </p:nvSpPr>
        <p:spPr>
          <a:xfrm>
            <a:off x="1333440" y="7505640"/>
            <a:ext cx="974088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4" name=""/>
          <p:cNvSpPr/>
          <p:nvPr/>
        </p:nvSpPr>
        <p:spPr>
          <a:xfrm>
            <a:off x="1333440" y="8077320"/>
            <a:ext cx="974088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Record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"/>
          <p:cNvSpPr/>
          <p:nvPr/>
        </p:nvSpPr>
        <p:spPr>
          <a:xfrm>
            <a:off x="1438200" y="1918800"/>
            <a:ext cx="478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``record’’ needs be declar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1409760" y="2540160"/>
            <a:ext cx="9397800" cy="67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00280" y="254160"/>
            <a:ext cx="1046448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Mutable fields in record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"/>
          <p:cNvSpPr/>
          <p:nvPr/>
        </p:nvSpPr>
        <p:spPr>
          <a:xfrm>
            <a:off x="-304920" y="1930320"/>
            <a:ext cx="758196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0" name=""/>
          <p:cNvSpPr/>
          <p:nvPr/>
        </p:nvSpPr>
        <p:spPr>
          <a:xfrm>
            <a:off x="-190440" y="3137040"/>
            <a:ext cx="75819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1" name=""/>
          <p:cNvSpPr/>
          <p:nvPr/>
        </p:nvSpPr>
        <p:spPr>
          <a:xfrm>
            <a:off x="25560" y="4305240"/>
            <a:ext cx="758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"/>
          <p:cNvSpPr/>
          <p:nvPr/>
        </p:nvSpPr>
        <p:spPr>
          <a:xfrm>
            <a:off x="25560" y="5715000"/>
            <a:ext cx="7581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0" y="0"/>
            <a:ext cx="5054760" cy="6286680"/>
            <a:chOff x="0" y="0"/>
            <a:chExt cx="5054760" cy="6286680"/>
          </a:xfrm>
        </p:grpSpPr>
        <p:pic>
          <p:nvPicPr>
            <p:cNvPr id="744" name="" descr=""/>
            <p:cNvPicPr/>
            <p:nvPr/>
          </p:nvPicPr>
          <p:blipFill>
            <a:blip r:embed="rId1"/>
            <a:stretch/>
          </p:blipFill>
          <p:spPr>
            <a:xfrm>
              <a:off x="158760" y="0"/>
              <a:ext cx="4896000" cy="28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" descr=""/>
            <p:cNvPicPr/>
            <p:nvPr/>
          </p:nvPicPr>
          <p:blipFill>
            <a:blip r:embed="rId2"/>
            <a:stretch/>
          </p:blipFill>
          <p:spPr>
            <a:xfrm>
              <a:off x="0" y="3530520"/>
              <a:ext cx="5043600" cy="275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6" name=""/>
          <p:cNvSpPr/>
          <p:nvPr/>
        </p:nvSpPr>
        <p:spPr>
          <a:xfrm>
            <a:off x="1092240" y="2495520"/>
            <a:ext cx="101725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veral fields may be declar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u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records (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stud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previous example)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til now, all variables were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Grande"/>
              </a:rPr>
              <a:t>important information for garbage collector, parallel evaluator, caches, et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Grande"/>
              </a:rPr>
              <a:t>constant values are less error-prone than mutable values, especially with sharing, concurrency, etc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Grande"/>
              </a:rPr>
              <a:t>in C, C++, Java, etc, variables are mutable by defaul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Grande"/>
              </a:rPr>
              <a:t>in ML, it’s the opposi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Grande"/>
              </a:rPr>
              <a:t>Keeping variables constant is the basis of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Functional Programm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 side-eff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Haskell, mutable world (monads) and constant world (usual expressions) are distinct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Referenc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"/>
          <p:cNvSpPr/>
          <p:nvPr/>
        </p:nvSpPr>
        <p:spPr>
          <a:xfrm>
            <a:off x="1486080" y="2089080"/>
            <a:ext cx="1116324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ref 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L-value of the mutable value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 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 pointer address!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!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references x and produces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: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ies the value of a reference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eware: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: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references;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&lt;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arrays and strings!!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eference is equivalent to a record with a single mutable field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  <a:ea typeface="Monaco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1486080" y="5156280"/>
            <a:ext cx="5854680" cy="2425680"/>
          </a:xfrm>
          <a:prstGeom prst="rect">
            <a:avLst/>
          </a:prstGeom>
          <a:ln w="0">
            <a:noFill/>
          </a:ln>
        </p:spPr>
      </p:pic>
      <p:grpSp>
        <p:nvGrpSpPr>
          <p:cNvPr id="750" name=""/>
          <p:cNvGrpSpPr/>
          <p:nvPr/>
        </p:nvGrpSpPr>
        <p:grpSpPr>
          <a:xfrm>
            <a:off x="7950240" y="5651640"/>
            <a:ext cx="2832120" cy="1403640"/>
            <a:chOff x="7950240" y="5651640"/>
            <a:chExt cx="2832120" cy="1403640"/>
          </a:xfrm>
        </p:grpSpPr>
        <p:sp>
          <p:nvSpPr>
            <p:cNvPr id="751" name=""/>
            <p:cNvSpPr/>
            <p:nvPr/>
          </p:nvSpPr>
          <p:spPr>
            <a:xfrm>
              <a:off x="9601200" y="5651640"/>
              <a:ext cx="1181160" cy="558720"/>
            </a:xfrm>
            <a:prstGeom prst="roundRect">
              <a:avLst>
                <a:gd name="adj" fmla="val 34088"/>
              </a:avLst>
            </a:pr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aco"/>
                  <a:ea typeface="Monaco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950240" y="6750000"/>
              <a:ext cx="571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aco"/>
                  <a:ea typeface="Monaco"/>
                </a:rPr>
                <a:t>ref v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267760" y="5931000"/>
              <a:ext cx="1193760" cy="736560"/>
            </a:xfrm>
            <a:prstGeom prst="pie">
              <a:avLst/>
            </a:prstGeom>
            <a:noFill/>
            <a:ln w="50760">
              <a:solidFill>
                <a:srgbClr val="008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ctr">
            <a:noAutofit/>
          </a:bodyPr>
          <a:p>
            <a:pPr marL="3960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 Black"/>
                <a:ea typeface="Arial Black"/>
              </a:rPr>
              <a:t>Imperative programming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5" name=""/>
          <p:cNvSpPr/>
          <p:nvPr/>
        </p:nvSpPr>
        <p:spPr>
          <a:xfrm>
            <a:off x="1422360" y="2324160"/>
            <a:ext cx="115189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references, records, strings and arrays, one can use the imperative style of C, C++, Java, etc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ever dereferencing of references must be explicit (no R-valu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1638360" y="4076640"/>
            <a:ext cx="6464160" cy="210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