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4240" y="3174480"/>
            <a:ext cx="12115800" cy="340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13006440" cy="97520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98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70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70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70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-O-Caml (2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30040" y="312408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ean-jacques.levy@inria.f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auillac.inria.fr/~levy/qinghua/j-o-ca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inghua, November 2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3276720" y="5105520"/>
            <a:ext cx="615924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1420200" y="2128320"/>
            <a:ext cx="14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384200" y="2768760"/>
            <a:ext cx="87375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>
            <a:off x="1419840" y="2128320"/>
            <a:ext cx="105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1384200" y="2882880"/>
            <a:ext cx="9855360" cy="46483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1384200" y="3137040"/>
            <a:ext cx="85600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1562040" y="4280040"/>
            <a:ext cx="85597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1739880" y="5448240"/>
            <a:ext cx="855972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1955880" y="7238880"/>
            <a:ext cx="855972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>
            <a:off x="1419840" y="2128320"/>
            <a:ext cx="105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1384200" y="2882880"/>
            <a:ext cx="9855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"/>
          <p:cNvSpPr/>
          <p:nvPr/>
        </p:nvSpPr>
        <p:spPr>
          <a:xfrm>
            <a:off x="1420200" y="1912320"/>
            <a:ext cx="237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1689120" y="2324160"/>
            <a:ext cx="7607160" cy="2311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1384200" y="26161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"/>
          <p:cNvSpPr/>
          <p:nvPr/>
        </p:nvSpPr>
        <p:spPr>
          <a:xfrm>
            <a:off x="1879560" y="373392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434340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1420200" y="1912320"/>
            <a:ext cx="237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1689120" y="2324160"/>
            <a:ext cx="760716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1420200" y="1912320"/>
            <a:ext cx="237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689120" y="2324160"/>
            <a:ext cx="7607160" cy="231120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89120" y="5384880"/>
            <a:ext cx="8902800" cy="43560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1420560" y="4909680"/>
            <a:ext cx="41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polymorphic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"/>
          <p:cNvSpPr/>
          <p:nvPr/>
        </p:nvSpPr>
        <p:spPr>
          <a:xfrm>
            <a:off x="1384200" y="26161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373392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"/>
          <p:cNvSpPr/>
          <p:nvPr/>
        </p:nvSpPr>
        <p:spPr>
          <a:xfrm>
            <a:off x="1523880" y="434340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"/>
          <p:cNvSpPr/>
          <p:nvPr/>
        </p:nvSpPr>
        <p:spPr>
          <a:xfrm>
            <a:off x="1689120" y="5600880"/>
            <a:ext cx="8674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"/>
          <p:cNvSpPr/>
          <p:nvPr/>
        </p:nvSpPr>
        <p:spPr>
          <a:xfrm>
            <a:off x="1523880" y="6819840"/>
            <a:ext cx="8674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"/>
          <p:cNvSpPr/>
          <p:nvPr/>
        </p:nvSpPr>
        <p:spPr>
          <a:xfrm>
            <a:off x="1689120" y="7391520"/>
            <a:ext cx="8674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"/>
          <p:cNvSpPr/>
          <p:nvPr/>
        </p:nvSpPr>
        <p:spPr>
          <a:xfrm>
            <a:off x="1523880" y="7988400"/>
            <a:ext cx="867420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"/>
          <p:cNvSpPr/>
          <p:nvPr/>
        </p:nvSpPr>
        <p:spPr>
          <a:xfrm>
            <a:off x="1420200" y="1912320"/>
            <a:ext cx="237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689120" y="2324160"/>
            <a:ext cx="7607160" cy="23112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1689120" y="5384880"/>
            <a:ext cx="8902800" cy="4356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20560" y="4909680"/>
            <a:ext cx="41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polymorphic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"/>
          <p:cNvSpPr/>
          <p:nvPr/>
        </p:nvSpPr>
        <p:spPr>
          <a:xfrm>
            <a:off x="1420200" y="2356920"/>
            <a:ext cx="922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polymorphic types (alternative definition for binary tre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384200" y="3289320"/>
            <a:ext cx="10236240" cy="47372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384200" y="3543480"/>
            <a:ext cx="8166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>
            <a:off x="1384200" y="4724280"/>
            <a:ext cx="8166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"/>
          <p:cNvSpPr/>
          <p:nvPr/>
        </p:nvSpPr>
        <p:spPr>
          <a:xfrm>
            <a:off x="1384200" y="5308560"/>
            <a:ext cx="8166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"/>
          <p:cNvSpPr/>
          <p:nvPr/>
        </p:nvSpPr>
        <p:spPr>
          <a:xfrm>
            <a:off x="1384200" y="5905440"/>
            <a:ext cx="8166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"/>
          <p:cNvSpPr/>
          <p:nvPr/>
        </p:nvSpPr>
        <p:spPr>
          <a:xfrm>
            <a:off x="1384200" y="7099200"/>
            <a:ext cx="816624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"/>
          <p:cNvSpPr/>
          <p:nvPr/>
        </p:nvSpPr>
        <p:spPr>
          <a:xfrm>
            <a:off x="1420200" y="2356920"/>
            <a:ext cx="922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ursive polymorphic types (alternative definition for binary tre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1384200" y="3289320"/>
            <a:ext cx="1023624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aring about spa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"/>
          <p:cNvSpPr/>
          <p:nvPr/>
        </p:nvSpPr>
        <p:spPr>
          <a:xfrm>
            <a:off x="1418400" y="2356920"/>
            <a:ext cx="768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n extra argument as an accumulator of the resul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536840" y="3086280"/>
            <a:ext cx="93852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lan of this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>
            <a:off x="1408680" y="3137040"/>
            <a:ext cx="2985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iling prog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 process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tern-matching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data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beling algorith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61760" y="1625400"/>
            <a:ext cx="11480760" cy="292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mbien d’objets</a:t>
            </a:r>
            <a:br>
              <a:rPr sz="9200"/>
            </a:b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ns une image?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67920" y="5207040"/>
            <a:ext cx="1225548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Jean-Jacques Lévy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INRIA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Labeling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1168560" y="2681280"/>
            <a:ext cx="4749480" cy="49309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3"/>
          <a:stretch/>
        </p:blipFill>
        <p:spPr>
          <a:xfrm>
            <a:off x="7548480" y="2627280"/>
            <a:ext cx="4843440" cy="5029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 flipH="1">
            <a:off x="6286680" y="5151600"/>
            <a:ext cx="984240" cy="1440"/>
          </a:xfrm>
          <a:prstGeom prst="line">
            <a:avLst/>
          </a:prstGeom>
          <a:ln w="889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"/>
          <p:cNvSpPr/>
          <p:nvPr/>
        </p:nvSpPr>
        <p:spPr>
          <a:xfrm>
            <a:off x="4765680" y="8182440"/>
            <a:ext cx="300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6 objects in this pi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7" name=""/>
          <p:cNvSpPr/>
          <p:nvPr/>
        </p:nvSpPr>
        <p:spPr>
          <a:xfrm>
            <a:off x="791712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"/>
          <p:cNvSpPr/>
          <p:nvPr/>
        </p:nvSpPr>
        <p:spPr>
          <a:xfrm>
            <a:off x="9263520" y="-212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"/>
          <p:cNvSpPr/>
          <p:nvPr/>
        </p:nvSpPr>
        <p:spPr>
          <a:xfrm>
            <a:off x="909828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"/>
          <p:cNvSpPr/>
          <p:nvPr/>
        </p:nvSpPr>
        <p:spPr>
          <a:xfrm>
            <a:off x="11117520" y="307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"/>
          <p:cNvSpPr/>
          <p:nvPr/>
        </p:nvSpPr>
        <p:spPr>
          <a:xfrm>
            <a:off x="777744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"/>
          <p:cNvSpPr/>
          <p:nvPr/>
        </p:nvSpPr>
        <p:spPr>
          <a:xfrm>
            <a:off x="909828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"/>
          <p:cNvSpPr/>
          <p:nvPr/>
        </p:nvSpPr>
        <p:spPr>
          <a:xfrm>
            <a:off x="11117520" y="4982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"/>
          <p:cNvSpPr/>
          <p:nvPr/>
        </p:nvSpPr>
        <p:spPr>
          <a:xfrm>
            <a:off x="8768160" y="5833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"/>
          <p:cNvSpPr/>
          <p:nvPr/>
        </p:nvSpPr>
        <p:spPr>
          <a:xfrm>
            <a:off x="9504720" y="5451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"/>
          <p:cNvSpPr/>
          <p:nvPr/>
        </p:nvSpPr>
        <p:spPr>
          <a:xfrm>
            <a:off x="10368360" y="5578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"/>
          <p:cNvSpPr/>
          <p:nvPr/>
        </p:nvSpPr>
        <p:spPr>
          <a:xfrm>
            <a:off x="9504720" y="6874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"/>
          <p:cNvSpPr/>
          <p:nvPr/>
        </p:nvSpPr>
        <p:spPr>
          <a:xfrm>
            <a:off x="10294560" y="63918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"/>
          <p:cNvSpPr/>
          <p:nvPr/>
        </p:nvSpPr>
        <p:spPr>
          <a:xfrm>
            <a:off x="11790720" y="6544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"/>
          <p:cNvSpPr/>
          <p:nvPr/>
        </p:nvSpPr>
        <p:spPr>
          <a:xfrm>
            <a:off x="1053324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"/>
          <p:cNvSpPr/>
          <p:nvPr/>
        </p:nvSpPr>
        <p:spPr>
          <a:xfrm>
            <a:off x="1158768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Naive algorithm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"/>
          <p:cNvSpPr/>
          <p:nvPr/>
        </p:nvSpPr>
        <p:spPr>
          <a:xfrm>
            <a:off x="1384200" y="2343240"/>
            <a:ext cx="102236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oose an unvisited pix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verse all similar connected pixel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d restart until all pixel are visit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4" name=""/>
          <p:cNvSpPr/>
          <p:nvPr/>
        </p:nvSpPr>
        <p:spPr>
          <a:xfrm>
            <a:off x="1447920" y="5213520"/>
            <a:ext cx="10693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ery high complexity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w to find an unvisited pixel ?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w organizing exploration of connected pixels (which direction?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Algorithm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"/>
          <p:cNvSpPr/>
          <p:nvPr/>
        </p:nvSpPr>
        <p:spPr>
          <a:xfrm>
            <a:off x="1547640" y="1790640"/>
            <a:ext cx="1033812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pixels left-to-right, top-to-bottom giving a new object id each time a new object is me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con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erate equivalences between ids due to new adjacent relations met during scan of pixels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r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the number of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"/>
          <p:cNvSpPr/>
          <p:nvPr/>
        </p:nvSpPr>
        <p:spPr>
          <a:xfrm>
            <a:off x="1498680" y="6521400"/>
            <a:ext cx="105789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lexity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twice full image (linear cost)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y to efficiently manage equivalence classes (Union-Find by Tarjan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Animatio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9" name=""/>
          <p:cNvSpPr/>
          <p:nvPr/>
        </p:nvSpPr>
        <p:spPr>
          <a:xfrm>
            <a:off x="3807000" y="1569960"/>
            <a:ext cx="5790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 Polka system for animated algorithm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se for next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"/>
          <p:cNvSpPr/>
          <p:nvPr/>
        </p:nvSpPr>
        <p:spPr>
          <a:xfrm>
            <a:off x="1421280" y="2623680"/>
            <a:ext cx="600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an algorithm for the labeling algorith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130046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57960" tIns="46800" bIns="46800" anchor="t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 Black"/>
                <a:ea typeface="Arial Black"/>
              </a:rPr>
              <a:t>Equivalence classe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Equivalence classes</a:t>
            </a:r>
            <a:br>
              <a:rPr sz="6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Union-Find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"/>
          <p:cNvSpPr/>
          <p:nvPr/>
        </p:nvSpPr>
        <p:spPr>
          <a:xfrm>
            <a:off x="1935000" y="2173320"/>
            <a:ext cx="9131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quivalen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d the equivalence class of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3753000" y="2349360"/>
            <a:ext cx="1968480" cy="2606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3"/>
          <a:stretch/>
        </p:blipFill>
        <p:spPr>
          <a:xfrm>
            <a:off x="7264440" y="3774960"/>
            <a:ext cx="369720" cy="30492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932120" y="4317840"/>
            <a:ext cx="3606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 operations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2602080" y="4978440"/>
            <a:ext cx="1117440" cy="4204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5"/>
          <a:stretch/>
        </p:blipFill>
        <p:spPr>
          <a:xfrm>
            <a:off x="2585880" y="5499000"/>
            <a:ext cx="1346400" cy="42084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6"/>
          <a:stretch/>
        </p:blipFill>
        <p:spPr>
          <a:xfrm>
            <a:off x="2602080" y="6070680"/>
            <a:ext cx="1955520" cy="42228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4794120" y="4317840"/>
            <a:ext cx="51310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w objec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ind canonical representativ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rge 2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Equivalence classes</a:t>
            </a:r>
            <a:br>
              <a:rPr sz="6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Union-Find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"/>
          <p:cNvSpPr/>
          <p:nvPr/>
        </p:nvSpPr>
        <p:spPr>
          <a:xfrm>
            <a:off x="1938240" y="2236680"/>
            <a:ext cx="858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ith tree-like structur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1638360" y="3035160"/>
            <a:ext cx="9015480" cy="27180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084400" y="6431040"/>
            <a:ext cx="9880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iven by the array of direct ancesto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3"/>
          <a:stretch/>
        </p:blipFill>
        <p:spPr>
          <a:xfrm>
            <a:off x="3873600" y="7238880"/>
            <a:ext cx="5587920" cy="7797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999800" y="7397640"/>
            <a:ext cx="182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ancesto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Equivalence classes</a:t>
            </a:r>
            <a:br>
              <a:rPr sz="6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Union-Find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"/>
          <p:cNvSpPr/>
          <p:nvPr/>
        </p:nvSpPr>
        <p:spPr>
          <a:xfrm>
            <a:off x="1938240" y="2070000"/>
            <a:ext cx="10236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nbalanced trees because of merg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1955520" cy="42228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4830840" y="2627280"/>
            <a:ext cx="513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rge 2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3"/>
          <a:stretch/>
        </p:blipFill>
        <p:spPr>
          <a:xfrm>
            <a:off x="2247840" y="3949560"/>
            <a:ext cx="8750520" cy="3708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4"/>
          <a:stretch/>
        </p:blipFill>
        <p:spPr>
          <a:xfrm>
            <a:off x="5524560" y="7137360"/>
            <a:ext cx="1333440" cy="2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ompiling program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82680" y="2654280"/>
            <a:ext cx="9105840" cy="1681560"/>
            <a:chOff x="1282680" y="2654280"/>
            <a:chExt cx="9105840" cy="1681560"/>
          </a:xfrm>
        </p:grpSpPr>
        <p:sp>
          <p:nvSpPr>
            <p:cNvPr id="760" name=""/>
            <p:cNvSpPr/>
            <p:nvPr/>
          </p:nvSpPr>
          <p:spPr>
            <a:xfrm>
              <a:off x="2144520" y="3969720"/>
              <a:ext cx="12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1.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82680" y="2654280"/>
              <a:ext cx="2946240" cy="1270080"/>
            </a:xfrm>
            <a:prstGeom prst="roundRect">
              <a:avLst>
                <a:gd name="adj" fmla="val 15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tex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711680" y="3276720"/>
              <a:ext cx="222264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19720" y="2788560"/>
              <a:ext cx="100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aml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42280" y="2654280"/>
              <a:ext cx="2946240" cy="1270080"/>
            </a:xfrm>
            <a:prstGeom prst="roundRect">
              <a:avLst>
                <a:gd name="adj" fmla="val 15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57920" y="3969720"/>
              <a:ext cx="71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1853640" y="5053320"/>
            <a:ext cx="754956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c -o prog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pro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executable byte cod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c -c prog1.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duc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prog1.c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byte cod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opt -c prog1.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duc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prog1.cm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binar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fil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prog1.c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compiled interfaces -- see la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Equivalence classes</a:t>
            </a:r>
            <a:br>
              <a:rPr sz="6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Union-Find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"/>
          <p:cNvSpPr/>
          <p:nvPr/>
        </p:nvSpPr>
        <p:spPr>
          <a:xfrm>
            <a:off x="1938240" y="2070000"/>
            <a:ext cx="5867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y to balan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1955520" cy="4222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4830840" y="2627280"/>
            <a:ext cx="513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rge 2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2195640" y="3962520"/>
            <a:ext cx="8837640" cy="271764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571840" y="7620120"/>
            <a:ext cx="8610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herefore keep height at each nod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"/>
          <p:cNvSpPr/>
          <p:nvPr/>
        </p:nvSpPr>
        <p:spPr>
          <a:xfrm>
            <a:off x="4114800" y="8242200"/>
            <a:ext cx="391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érations pour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2577960" y="8217000"/>
            <a:ext cx="1346400" cy="42048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6299280" y="8292960"/>
            <a:ext cx="990360" cy="3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Equivalence classes</a:t>
            </a:r>
            <a:br>
              <a:rPr sz="6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Union-Find”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"/>
          <p:cNvSpPr/>
          <p:nvPr/>
        </p:nvSpPr>
        <p:spPr>
          <a:xfrm>
            <a:off x="1938240" y="2070000"/>
            <a:ext cx="9537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ression of path toward canonical representativ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"/>
          <p:cNvSpPr/>
          <p:nvPr/>
        </p:nvSpPr>
        <p:spPr>
          <a:xfrm>
            <a:off x="4830840" y="2627280"/>
            <a:ext cx="5689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 side-effect on tree stru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2679840" y="2692440"/>
            <a:ext cx="1346040" cy="4204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851040" y="3619440"/>
            <a:ext cx="5803920" cy="3446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4"/>
          <a:stretch/>
        </p:blipFill>
        <p:spPr>
          <a:xfrm>
            <a:off x="6921360" y="5270400"/>
            <a:ext cx="5803920" cy="34466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 flipH="1" flipV="1">
            <a:off x="7124400" y="5353200"/>
            <a:ext cx="1765080" cy="372960"/>
          </a:xfrm>
          <a:prstGeom prst="line">
            <a:avLst/>
          </a:prstGeom>
          <a:ln w="12708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7645320" y="4838760"/>
            <a:ext cx="1473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 for next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"/>
          <p:cNvSpPr/>
          <p:nvPr/>
        </p:nvSpPr>
        <p:spPr>
          <a:xfrm>
            <a:off x="1306440" y="2364480"/>
            <a:ext cx="7831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good primitives for bitmap graphics in Ocaml libra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the overall structure of the labeling progra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rint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2146320" y="2044800"/>
            <a:ext cx="5232240" cy="3427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146320" y="3365640"/>
            <a:ext cx="4145040" cy="9396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469880" y="2718720"/>
            <a:ext cx="364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if printing many tim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List process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82160" cy="7213680"/>
            <a:chOff x="0" y="0"/>
            <a:chExt cx="9182160" cy="721368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55640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1270080" y="3137040"/>
              <a:ext cx="758196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84560" y="4343400"/>
              <a:ext cx="758160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00200" y="5511960"/>
              <a:ext cx="7581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00200" y="6921720"/>
              <a:ext cx="758196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79" name="" descr=""/>
            <p:cNvPicPr/>
            <p:nvPr/>
          </p:nvPicPr>
          <p:blipFill>
            <a:blip r:embed="rId2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3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List process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1270080" y="2324160"/>
            <a:ext cx="7556400" cy="500364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2294640" y="7698600"/>
            <a:ext cx="95565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ay ``alpha list’’) is type of list of any type, e.g.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nt list, bool list, ..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List process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1633680" y="2553840"/>
            <a:ext cx="612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erators on lists (~ arrays), but no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ma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2457000" y="3396960"/>
            <a:ext cx="252180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map f 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iter f 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fold_left f a 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fold_right f a 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s on li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>
            <a:off x="1270080" y="2533680"/>
            <a:ext cx="10147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em a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ich tests if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longs to list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Writ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exists p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ich tests if predicate p is true for one element of x; sam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forall p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ich tests for all elements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bitrary precision numbers can be implemented by lists (little endian or big endian style). Write addition and multiplication algorith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way sequence of lists starts with list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 next list is read from the previous one. Therefor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1; 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[2; 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1; 2; 1; 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1; 1; 1; 2; 2; 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. Print lists of Conway sequence. Is there any unlucky number 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ew data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"/>
          <p:cNvSpPr/>
          <p:nvPr/>
        </p:nvSpPr>
        <p:spPr>
          <a:xfrm>
            <a:off x="1420200" y="2128320"/>
            <a:ext cx="14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384200" y="2768760"/>
            <a:ext cx="8737560" cy="237492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1270080" y="3048120"/>
            <a:ext cx="858528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1384200" y="3606840"/>
            <a:ext cx="8585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1384200" y="4241880"/>
            <a:ext cx="8585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1384200" y="4762440"/>
            <a:ext cx="8585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