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5">
              <a:spcBef>
                <a:spcPts val="799"/>
              </a:spcBef>
              <a:buClr>
                <a:srgbClr val="5f7ba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  <a:p>
            <a:pPr lvl="6">
              <a:spcBef>
                <a:spcPts val="799"/>
              </a:spcBef>
              <a:buClr>
                <a:srgbClr val="5f7ba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13006440" cy="9752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98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70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1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30040" y="328932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Qinghua, November 1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Basic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1793160" y="2209680"/>
            <a:ext cx="4314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tegers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1, 2, 3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l numbers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2.3, 1.2, 0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characters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‘a’, ‘b’, ‘c’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booleans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true, fal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void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1802160" y="5743440"/>
            <a:ext cx="71506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Compound built-in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1270080" y="6458040"/>
            <a:ext cx="11734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trings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“nihao”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lists of any type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1; 2],  3 :: [4; 6]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rrays of any type)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| 1; 2; 3; 4 |]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No overloading in Ocam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1906200" y="2209680"/>
            <a:ext cx="519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3 +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n integers)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4.5 +. 3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n real numbers)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3 + 2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ot allowe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(float_of_int 3) +. 2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egal express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o ease type infer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"/>
          <p:cNvSpPr/>
          <p:nvPr/>
        </p:nvSpPr>
        <p:spPr>
          <a:xfrm>
            <a:off x="1954080" y="5743440"/>
            <a:ext cx="91486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Operations on compound typ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"/>
          <p:cNvSpPr/>
          <p:nvPr/>
        </p:nvSpPr>
        <p:spPr>
          <a:xfrm>
            <a:off x="1270080" y="6458040"/>
            <a:ext cx="11734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nihao”.[3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haracter at position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hd [1; 2],  List.tl [1; 2]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ead and tail of lis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[| 1; 2; 3; 4 |].(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ment at some index in arra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mall examples on array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39680" y="0"/>
            <a:ext cx="9232920" cy="9131040"/>
            <a:chOff x="139680" y="0"/>
            <a:chExt cx="9232920" cy="9131040"/>
          </a:xfrm>
        </p:grpSpPr>
        <p:pic>
          <p:nvPicPr>
            <p:cNvPr id="753" name="" descr=""/>
            <p:cNvPicPr/>
            <p:nvPr/>
          </p:nvPicPr>
          <p:blipFill>
            <a:blip r:embed="rId1"/>
            <a:stretch/>
          </p:blipFill>
          <p:spPr>
            <a:xfrm>
              <a:off x="139680" y="0"/>
              <a:ext cx="7709040" cy="70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523880" y="2997000"/>
              <a:ext cx="77090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23880" y="2324160"/>
              <a:ext cx="7709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23880" y="3568680"/>
              <a:ext cx="7709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63560" y="4127400"/>
              <a:ext cx="7709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3880" y="4724280"/>
              <a:ext cx="7709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63560" y="6400800"/>
              <a:ext cx="7709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23880" y="8229600"/>
              <a:ext cx="7709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23880" y="6705360"/>
              <a:ext cx="770904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63560" y="8826480"/>
              <a:ext cx="77090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mall examples on array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1663560" y="2070000"/>
            <a:ext cx="7709040" cy="70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asy exerci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>
            <a:off x="1720080" y="2364480"/>
            <a:ext cx="6095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sPalindromic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turns true if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palindro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reverse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s mirror image of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>
            <a:off x="2153160" y="3798360"/>
            <a:ext cx="686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(Use s.[i] &lt;- 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re character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) position in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re exerci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>
            <a:off x="1627560" y="2623680"/>
            <a:ext cx="394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sor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rts  array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"/>
          <p:cNvSpPr/>
          <p:nvPr/>
        </p:nvSpPr>
        <p:spPr>
          <a:xfrm>
            <a:off x="2048760" y="3328560"/>
            <a:ext cx="57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Use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a.(i) &lt;-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r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) position in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>
            <a:off x="1647720" y="4274640"/>
            <a:ext cx="563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transpos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oses matrix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2295720" y="5195520"/>
            <a:ext cx="69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Use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a.(i).(j) &lt;-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r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),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) position in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"/>
          <p:cNvSpPr/>
          <p:nvPr/>
        </p:nvSpPr>
        <p:spPr>
          <a:xfrm>
            <a:off x="1434960" y="5943600"/>
            <a:ext cx="11569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lso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rray.make_matrix h w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reat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trix filled with valu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Objective for next class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>
            <a:off x="1422000" y="2623680"/>
            <a:ext cx="564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beling algorithm for bitmap graphic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7124760" cy="533556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749600" y="1185840"/>
            <a:ext cx="9477360" cy="73677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865080" y="968400"/>
            <a:ext cx="11282400" cy="77868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5"/>
          <a:stretch/>
        </p:blipFill>
        <p:spPr>
          <a:xfrm>
            <a:off x="795240" y="762120"/>
            <a:ext cx="11401560" cy="822960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771480" y="777960"/>
            <a:ext cx="11437200" cy="8196120"/>
            <a:chOff x="771480" y="777960"/>
            <a:chExt cx="11437200" cy="8196120"/>
          </a:xfrm>
        </p:grpSpPr>
        <p:grpSp>
          <p:nvGrpSpPr>
            <p:cNvPr id="784" name=""/>
            <p:cNvGrpSpPr/>
            <p:nvPr/>
          </p:nvGrpSpPr>
          <p:grpSpPr>
            <a:xfrm>
              <a:off x="771480" y="1040040"/>
              <a:ext cx="11437200" cy="7800480"/>
              <a:chOff x="771480" y="1040040"/>
              <a:chExt cx="11437200" cy="7800480"/>
            </a:xfrm>
          </p:grpSpPr>
          <p:sp>
            <p:nvSpPr>
              <p:cNvPr id="785" name=""/>
              <p:cNvSpPr/>
              <p:nvPr/>
            </p:nvSpPr>
            <p:spPr>
              <a:xfrm>
                <a:off x="771480" y="10400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1480" y="133200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1480" y="16243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480" y="190368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1480" y="21956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1480" y="248796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71480" y="27799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1480" y="30722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1480" y="335196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1480" y="36439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1480" y="391068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1480" y="42152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71480" y="450756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480" y="47743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1480" y="50666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71480" y="534600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71480" y="56383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1480" y="593028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71480" y="62096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71480" y="650160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1480" y="67813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480" y="70736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71480" y="736560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71480" y="764496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71480" y="793728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1480" y="822924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71480" y="852156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71480" y="8813520"/>
                <a:ext cx="11437200" cy="2700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958680" y="777960"/>
              <a:ext cx="11088000" cy="8196120"/>
              <a:chOff x="958680" y="777960"/>
              <a:chExt cx="11088000" cy="819612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3233880" y="777960"/>
                <a:ext cx="3981600" cy="8196120"/>
                <a:chOff x="3233880" y="777960"/>
                <a:chExt cx="3981600" cy="819612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3233880" y="777960"/>
                  <a:ext cx="1152360" cy="8196120"/>
                  <a:chOff x="3233880" y="777960"/>
                  <a:chExt cx="1152360" cy="81961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32338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5100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80232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0626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3545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4646880" y="777960"/>
                  <a:ext cx="1153800" cy="8196120"/>
                  <a:chOff x="4646880" y="777960"/>
                  <a:chExt cx="1153800" cy="81961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46468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49233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52160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54766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57690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6061680" y="777960"/>
                  <a:ext cx="1153800" cy="8196120"/>
                  <a:chOff x="6061680" y="777960"/>
                  <a:chExt cx="1153800" cy="819612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>
                    <a:off x="60616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3381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6308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8914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71838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</p:grpSp>
          <p:sp>
            <p:nvSpPr>
              <p:cNvPr id="833" name=""/>
              <p:cNvSpPr/>
              <p:nvPr/>
            </p:nvSpPr>
            <p:spPr>
              <a:xfrm>
                <a:off x="11738880" y="777960"/>
                <a:ext cx="31680" cy="819612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2015000" y="777960"/>
                <a:ext cx="31680" cy="819612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7526160" y="777960"/>
                <a:ext cx="3983040" cy="8196120"/>
                <a:chOff x="7526160" y="777960"/>
                <a:chExt cx="3983040" cy="8196120"/>
              </a:xfrm>
            </p:grpSpPr>
            <p:grpSp>
              <p:nvGrpSpPr>
                <p:cNvPr id="836" name=""/>
                <p:cNvGrpSpPr/>
                <p:nvPr/>
              </p:nvGrpSpPr>
              <p:grpSpPr>
                <a:xfrm>
                  <a:off x="7526160" y="777960"/>
                  <a:ext cx="1152360" cy="8196120"/>
                  <a:chOff x="7526160" y="777960"/>
                  <a:chExt cx="1152360" cy="819612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75261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78022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80946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83548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86468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8939880" y="777960"/>
                  <a:ext cx="1154160" cy="8196120"/>
                  <a:chOff x="8939880" y="777960"/>
                  <a:chExt cx="1154160" cy="819612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893988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92163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95090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97700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006236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10355040" y="777960"/>
                  <a:ext cx="1154160" cy="8196120"/>
                  <a:chOff x="10355040" y="777960"/>
                  <a:chExt cx="1154160" cy="81961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1035504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063152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09242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118520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11477520" y="777960"/>
                    <a:ext cx="31680" cy="8196120"/>
                  </a:xfrm>
                  <a:prstGeom prst="line">
                    <a:avLst/>
                  </a:prstGeom>
                  <a:ln w="38160">
                    <a:solidFill>
                      <a:srgbClr val="5f7bae">
                        <a:alpha val="5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Gill Sans"/>
                    </a:endParaRPr>
                  </a:p>
                </p:txBody>
              </p:sp>
            </p:grpSp>
          </p:grpSp>
          <p:sp>
            <p:nvSpPr>
              <p:cNvPr id="854" name=""/>
              <p:cNvSpPr/>
              <p:nvPr/>
            </p:nvSpPr>
            <p:spPr>
              <a:xfrm>
                <a:off x="958680" y="777960"/>
                <a:ext cx="31680" cy="819612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217520" y="777960"/>
                <a:ext cx="31680" cy="819612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11280" y="777960"/>
                <a:ext cx="31680" cy="8196120"/>
              </a:xfrm>
              <a:prstGeom prst="line">
                <a:avLst/>
              </a:prstGeom>
              <a:ln w="38160">
                <a:solidFill>
                  <a:srgbClr val="5f7ba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1803240" y="777960"/>
                <a:ext cx="1153800" cy="8196120"/>
                <a:chOff x="1803240" y="777960"/>
                <a:chExt cx="1153800" cy="819612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1803240" y="777960"/>
                  <a:ext cx="31680" cy="8196120"/>
                </a:xfrm>
                <a:prstGeom prst="line">
                  <a:avLst/>
                </a:prstGeom>
                <a:ln w="38160">
                  <a:solidFill>
                    <a:srgbClr val="5f7bae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079720" y="777960"/>
                  <a:ext cx="31680" cy="8196120"/>
                </a:xfrm>
                <a:prstGeom prst="line">
                  <a:avLst/>
                </a:prstGeom>
                <a:ln w="38160">
                  <a:solidFill>
                    <a:srgbClr val="5f7bae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372400" y="777960"/>
                  <a:ext cx="31680" cy="8196120"/>
                </a:xfrm>
                <a:prstGeom prst="line">
                  <a:avLst/>
                </a:prstGeom>
                <a:ln w="38160">
                  <a:solidFill>
                    <a:srgbClr val="5f7bae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633040" y="777960"/>
                  <a:ext cx="31680" cy="8196120"/>
                </a:xfrm>
                <a:prstGeom prst="line">
                  <a:avLst/>
                </a:prstGeom>
                <a:ln w="38160">
                  <a:solidFill>
                    <a:srgbClr val="5f7bae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925360" y="777960"/>
                  <a:ext cx="31680" cy="8196120"/>
                </a:xfrm>
                <a:prstGeom prst="line">
                  <a:avLst/>
                </a:prstGeom>
                <a:ln w="38160">
                  <a:solidFill>
                    <a:srgbClr val="5f7bae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65160" y="711360"/>
            <a:ext cx="1108728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f3f3f"/>
                </a:solidFill>
                <a:latin typeface="Herculanum"/>
              </a:rPr>
              <a:t>pixels</a:t>
            </a:r>
            <a:br>
              <a:rPr sz="8000"/>
            </a:br>
            <a:endParaRPr b="0" lang="en-US" sz="8000" spc="-1" strike="noStrike">
              <a:solidFill>
                <a:srgbClr val="3f3f3f"/>
              </a:solidFill>
              <a:latin typeface="Herculanu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2946240" y="2209680"/>
            <a:ext cx="7124760" cy="533556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 flipV="1">
            <a:off x="2971800" y="8040600"/>
            <a:ext cx="7050240" cy="22320"/>
          </a:xfrm>
          <a:prstGeom prst="line">
            <a:avLst/>
          </a:prstGeom>
          <a:ln w="38160">
            <a:solidFill>
              <a:srgbClr val="5f7bae">
                <a:alpha val="50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"/>
          <p:cNvSpPr/>
          <p:nvPr/>
        </p:nvSpPr>
        <p:spPr>
          <a:xfrm>
            <a:off x="2451240" y="2184480"/>
            <a:ext cx="0" cy="5389560"/>
          </a:xfrm>
          <a:prstGeom prst="line">
            <a:avLst/>
          </a:prstGeom>
          <a:ln w="38160">
            <a:solidFill>
              <a:srgbClr val="5f7bae">
                <a:alpha val="50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"/>
          <p:cNvSpPr/>
          <p:nvPr/>
        </p:nvSpPr>
        <p:spPr>
          <a:xfrm>
            <a:off x="1357200" y="459324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  <a:ea typeface="Palatino"/>
              </a:rPr>
              <a:t>800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5951520" y="814932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  <a:ea typeface="Palatino"/>
              </a:rPr>
              <a:t>1200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"/>
          <p:cNvSpPr/>
          <p:nvPr/>
        </p:nvSpPr>
        <p:spPr>
          <a:xfrm>
            <a:off x="10706760" y="7768440"/>
            <a:ext cx="145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  <a:ea typeface="Palatino"/>
              </a:rPr>
              <a:t>1Mpix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502640" y="8001000"/>
            <a:ext cx="950760" cy="907920"/>
          </a:xfrm>
          <a:prstGeom prst="line">
            <a:avLst/>
          </a:prstGeom>
          <a:ln w="38160">
            <a:solidFill>
              <a:srgbClr val="5f7bae">
                <a:alpha val="50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"/>
          <p:cNvSpPr/>
          <p:nvPr/>
        </p:nvSpPr>
        <p:spPr>
          <a:xfrm>
            <a:off x="1231560" y="7933320"/>
            <a:ext cx="6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7bae"/>
                </a:solidFill>
                <a:latin typeface="Palatino"/>
                <a:ea typeface="Palatino"/>
              </a:rPr>
              <a:t>10</a:t>
            </a:r>
            <a:r>
              <a:rPr b="0" lang="en-US" sz="3800" spc="-1" strike="noStrike" baseline="32000">
                <a:solidFill>
                  <a:srgbClr val="5f7bae"/>
                </a:solidFill>
                <a:latin typeface="Palatino"/>
                <a:ea typeface="Palatino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5249880" y="1794240"/>
            <a:ext cx="237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ictures elements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1483200" y="2755800"/>
            <a:ext cx="3867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programs in O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programm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polymorphic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tern-matc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ur in the librar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130046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57960" tIns="46800" bIns="46800" anchor="t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 Black"/>
                <a:ea typeface="Arial Black"/>
              </a:rPr>
              <a:t>Problem and Algorithm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What is an object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"/>
          <p:cNvSpPr/>
          <p:nvPr/>
        </p:nvSpPr>
        <p:spPr>
          <a:xfrm>
            <a:off x="1890000" y="2476800"/>
            <a:ext cx="813384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t of similar adjacent pixel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milar ?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ifi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ayscale images (255 values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 = black, 255 = whit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milar = adjacent with close valu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ive a disctinct number to each objec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umber of objects is max of previous numb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5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3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5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1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5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se for next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"/>
          <p:cNvSpPr/>
          <p:nvPr/>
        </p:nvSpPr>
        <p:spPr>
          <a:xfrm>
            <a:off x="1421280" y="2623680"/>
            <a:ext cx="600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an algorithm for the labeling algorith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Functional programm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1485000" y="3273840"/>
            <a:ext cx="974412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me, SML, Ocaml, Haskell are functional programming langu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manipulate func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ry to reduce memory sta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701720" y="5486400"/>
            <a:ext cx="9309240" cy="2616120"/>
            <a:chOff x="1701720" y="5486400"/>
            <a:chExt cx="9309240" cy="2616120"/>
          </a:xfrm>
        </p:grpSpPr>
        <p:sp>
          <p:nvSpPr>
            <p:cNvPr id="686" name=""/>
            <p:cNvSpPr/>
            <p:nvPr/>
          </p:nvSpPr>
          <p:spPr>
            <a:xfrm>
              <a:off x="3759120" y="746748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p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59120" y="680724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e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7960" y="614664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1720" y="548640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kel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7800" y="5486400"/>
              <a:ext cx="176508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a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53280" y="746748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53280" y="680724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mlligh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53280" y="614664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a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245520" y="5486400"/>
              <a:ext cx="1765440" cy="635040"/>
            </a:xfrm>
            <a:prstGeom prst="roundRect">
              <a:avLst>
                <a:gd name="adj" fmla="val 30000"/>
              </a:avLst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ca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035120" y="5549400"/>
              <a:ext cx="222228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83200" y="6222960"/>
              <a:ext cx="123192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67160" y="5486400"/>
              <a:ext cx="1765080" cy="635040"/>
            </a:xfrm>
            <a:prstGeom prst="roundRect">
              <a:avLst>
                <a:gd name="adj" fmla="val 30000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L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nstalling Ocam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1483920" y="2527200"/>
            <a:ext cx="6798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gle O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aml.inria.fr/index.en.ht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download the system (Linux, MacOS, Window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results i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Monac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teractive topleve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826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Monac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mpil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hrases at topleve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7061040" y="4838760"/>
            <a:ext cx="2184480" cy="2919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7061040" y="3594240"/>
            <a:ext cx="2057400" cy="3301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7061040" y="6058080"/>
            <a:ext cx="723960" cy="2919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1384200" y="2540160"/>
            <a:ext cx="49150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copes of defini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2987640" y="2883960"/>
            <a:ext cx="563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et, let in, let and, let and in, let rec, let rec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1434240" y="2363400"/>
            <a:ext cx="44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e control in definition sco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0" y="0"/>
            <a:ext cx="9334440" cy="1892160"/>
            <a:chOff x="0" y="0"/>
            <a:chExt cx="9334440" cy="1892160"/>
          </a:xfrm>
        </p:grpSpPr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081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2"/>
            <a:stretch/>
          </p:blipFill>
          <p:spPr>
            <a:xfrm>
              <a:off x="5753160" y="0"/>
              <a:ext cx="16635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3"/>
            <a:stretch/>
          </p:blipFill>
          <p:spPr>
            <a:xfrm>
              <a:off x="0" y="825480"/>
              <a:ext cx="40258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4"/>
            <a:stretch/>
          </p:blipFill>
          <p:spPr>
            <a:xfrm>
              <a:off x="5753160" y="825480"/>
              <a:ext cx="35812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5"/>
            <a:stretch/>
          </p:blipFill>
          <p:spPr>
            <a:xfrm>
              <a:off x="12600" y="1650960"/>
              <a:ext cx="2705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6"/>
            <a:stretch/>
          </p:blipFill>
          <p:spPr>
            <a:xfrm>
              <a:off x="5753160" y="1612800"/>
              <a:ext cx="2260440" cy="27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1714680" y="6083280"/>
            <a:ext cx="434340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copes of defini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2987640" y="2883960"/>
            <a:ext cx="563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et, let in, let and, let and in, let rec, let rec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1434240" y="2363400"/>
            <a:ext cx="44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e control in definition sco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0" y="0"/>
            <a:ext cx="9334440" cy="1892160"/>
            <a:chOff x="0" y="0"/>
            <a:chExt cx="9334440" cy="1892160"/>
          </a:xfrm>
        </p:grpSpPr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081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5753160" y="0"/>
              <a:ext cx="16635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3"/>
            <a:stretch/>
          </p:blipFill>
          <p:spPr>
            <a:xfrm>
              <a:off x="0" y="825480"/>
              <a:ext cx="40258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4"/>
            <a:stretch/>
          </p:blipFill>
          <p:spPr>
            <a:xfrm>
              <a:off x="5753160" y="825480"/>
              <a:ext cx="35812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5"/>
            <a:stretch/>
          </p:blipFill>
          <p:spPr>
            <a:xfrm>
              <a:off x="12600" y="1650960"/>
              <a:ext cx="2705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6"/>
            <a:stretch/>
          </p:blipFill>
          <p:spPr>
            <a:xfrm>
              <a:off x="5753160" y="1612800"/>
              <a:ext cx="2260440" cy="27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1714680" y="6083280"/>
            <a:ext cx="4343400" cy="331488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714680" y="6375240"/>
            <a:ext cx="7581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1714680" y="7213680"/>
            <a:ext cx="7581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1714680" y="8089920"/>
            <a:ext cx="758160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6375240"/>
            <a:ext cx="419040" cy="520920"/>
          </a:xfrm>
          <a:prstGeom prst="line">
            <a:avLst/>
          </a:prstGeom>
          <a:ln w="38160">
            <a:solidFill>
              <a:srgbClr val="008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6375240"/>
            <a:ext cx="419040" cy="520920"/>
          </a:xfrm>
          <a:prstGeom prst="line">
            <a:avLst/>
          </a:prstGeom>
          <a:ln w="38160">
            <a:solidFill>
              <a:srgbClr val="008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594240" y="7226280"/>
            <a:ext cx="177840" cy="571680"/>
          </a:xfrm>
          <a:prstGeom prst="line">
            <a:avLst/>
          </a:prstGeom>
          <a:ln w="38160">
            <a:solidFill>
              <a:srgbClr val="008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2679840" y="8089920"/>
            <a:ext cx="1981080" cy="469800"/>
          </a:xfrm>
          <a:prstGeom prst="pie">
            <a:avLst/>
          </a:prstGeom>
          <a:noFill/>
          <a:ln w="3816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copes of defini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>
            <a:off x="1434240" y="2134800"/>
            <a:ext cx="44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e control in definition sco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397160" y="2832120"/>
            <a:ext cx="7607160" cy="64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Scopes of defini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>
            <a:off x="1434240" y="2134800"/>
            <a:ext cx="44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e control in definition sco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397160" y="2832120"/>
            <a:ext cx="7607160" cy="6489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409760" y="3174840"/>
            <a:ext cx="7581960" cy="8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1409760" y="4635360"/>
            <a:ext cx="7708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1409760" y="6692760"/>
            <a:ext cx="7708680" cy="26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