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55A6C-BAF8-403A-B8C3-5538CDCAC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5FFD2-B83F-42D7-88DA-A3C11ABA5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2831F-6CAC-4D7C-8E36-3BB21EC09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7E5C4-F178-413A-A997-6C0C8A021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A1DB3-601A-4990-B9CD-7630D6B2B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42B85-5211-45A3-AFC8-45BBD10C0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E78A5-4364-4779-9D99-09225B259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91D95-DCE0-4245-8EA4-38C635F41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D128D-05AA-46FD-B175-E9145315F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280F0-B642-41EC-AB6E-B44EA8043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944C4-A77E-4392-8945-A72BF6DCA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55EA9-B89A-4A75-9B11-DEA445A8A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E626-EB56-4C6C-BD82-18237DFA236A}"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s 11 and 12</a:t>
            </a:r>
            <a:br>
              <a:rPr sz="3600"/>
            </a:br>
            <a:r>
              <a:rPr b="0" lang="en-US" sz="3600" spc="-1" strike="noStrike">
                <a:solidFill>
                  <a:srgbClr val="cc0066"/>
                </a:solidFill>
                <a:latin typeface="Comic Sans MS"/>
              </a:rPr>
              <a:t>The pi-calculus expressiveness hierarchy</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047B176-F827-4562-AF9D-8F035203677E}"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D6B7DB2-5AF9-46B5-A326-D42101420090}"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269017D-C8EE-442F-B60D-2CCA794C5842}"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126" name=""/>
          <p:cNvSpPr/>
          <p:nvPr/>
        </p:nvSpPr>
        <p:spPr>
          <a:xfrm>
            <a:off x="2958480" y="33908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Palamidessi</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4098B5D7-982E-4552-99E2-70326DE6DEE6}"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8"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7B30643-D150-4FBD-B7D4-E4FE0F1F1657}"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30"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1"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2"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889F94E-9C85-461A-B8C0-098E460631C3}"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7"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fontScale="88000"/>
          </a:bodyPr>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pic>
        <p:nvPicPr>
          <p:cNvPr id="138" name="" descr=""/>
          <p:cNvPicPr/>
          <p:nvPr/>
        </p:nvPicPr>
        <p:blipFill>
          <a:blip r:embed="rId1"/>
          <a:stretch/>
        </p:blipFill>
        <p:spPr>
          <a:xfrm>
            <a:off x="1384200" y="3851280"/>
            <a:ext cx="5943600" cy="812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817B37D-624F-43A7-9078-F7116F4BCF43}"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41"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7"/>
            <a:endCxn id="142"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4" name=""/>
          <p:cNvCxnSpPr>
            <a:stCxn id="142" idx="3"/>
            <a:endCxn id="141"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5"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6"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7"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8"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9"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C647FCE-2730-467C-BBA6-162F38E3D83B}"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831C0BA-7B8A-4DB0-BE04-7718D474A023}"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4" name=""/>
          <p:cNvGrpSpPr/>
          <p:nvPr/>
        </p:nvGrpSpPr>
        <p:grpSpPr>
          <a:xfrm>
            <a:off x="3381480" y="4043520"/>
            <a:ext cx="1990800" cy="1836360"/>
            <a:chOff x="3381480" y="4043520"/>
            <a:chExt cx="1990800" cy="1836360"/>
          </a:xfrm>
        </p:grpSpPr>
        <p:sp>
          <p:nvSpPr>
            <p:cNvPr id="155"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BC45BFA-028F-4A71-BED6-D7600758D3BE}"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5D07747-3908-4BDC-8B09-BE009AB9240E}"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4"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5"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
          <p:cNvGrpSpPr/>
          <p:nvPr/>
        </p:nvGrpSpPr>
        <p:grpSpPr>
          <a:xfrm>
            <a:off x="2820960" y="2287440"/>
            <a:ext cx="3539880" cy="3439800"/>
            <a:chOff x="2820960" y="2287440"/>
            <a:chExt cx="3539880" cy="3439800"/>
          </a:xfrm>
        </p:grpSpPr>
        <p:sp>
          <p:nvSpPr>
            <p:cNvPr id="168"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3125520" y="2592360"/>
            <a:ext cx="2878200" cy="2895120"/>
            <a:chOff x="3125520" y="2592360"/>
            <a:chExt cx="2878200" cy="2895120"/>
          </a:xfrm>
        </p:grpSpPr>
        <p:cxnSp>
          <p:nvCxnSpPr>
            <p:cNvPr id="177"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8"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9"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80" name=""/>
          <p:cNvGrpSpPr/>
          <p:nvPr/>
        </p:nvGrpSpPr>
        <p:grpSpPr>
          <a:xfrm>
            <a:off x="3125520" y="2592000"/>
            <a:ext cx="3043440" cy="2738160"/>
            <a:chOff x="3125520" y="2592000"/>
            <a:chExt cx="3043440" cy="2738160"/>
          </a:xfrm>
        </p:grpSpPr>
        <p:cxnSp>
          <p:nvCxnSpPr>
            <p:cNvPr id="181"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2"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3"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4" name=""/>
          <p:cNvGrpSpPr/>
          <p:nvPr/>
        </p:nvGrpSpPr>
        <p:grpSpPr>
          <a:xfrm>
            <a:off x="3201840" y="2592360"/>
            <a:ext cx="2878200" cy="2895120"/>
            <a:chOff x="3201840" y="2592360"/>
            <a:chExt cx="2878200" cy="2895120"/>
          </a:xfrm>
        </p:grpSpPr>
        <p:cxnSp>
          <p:nvCxnSpPr>
            <p:cNvPr id="185"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6"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7"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8" name=""/>
          <p:cNvGrpSpPr/>
          <p:nvPr/>
        </p:nvGrpSpPr>
        <p:grpSpPr>
          <a:xfrm>
            <a:off x="3125520" y="2669040"/>
            <a:ext cx="3043440" cy="2738160"/>
            <a:chOff x="3125520" y="2669040"/>
            <a:chExt cx="3043440" cy="2738160"/>
          </a:xfrm>
        </p:grpSpPr>
        <p:cxnSp>
          <p:nvCxnSpPr>
            <p:cNvPr id="189"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90"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91"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2"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3"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4" name=""/>
          <p:cNvGrpSpPr/>
          <p:nvPr/>
        </p:nvGrpSpPr>
        <p:grpSpPr>
          <a:xfrm>
            <a:off x="2820960" y="2287440"/>
            <a:ext cx="3539880" cy="3439800"/>
            <a:chOff x="2820960" y="2287440"/>
            <a:chExt cx="3539880" cy="3439800"/>
          </a:xfrm>
        </p:grpSpPr>
        <p:sp>
          <p:nvSpPr>
            <p:cNvPr id="195"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5"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6"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7"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5E9CF81-2585-4355-B246-0CD783428328}"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7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6"/>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203"/>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7"/>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192"/>
                                        </p:tgtEl>
                                        <p:attrNameLst>
                                          <p:attrName>style.visibility</p:attrName>
                                        </p:attrNameLst>
                                      </p:cBhvr>
                                      <p:to>
                                        <p:strVal val="visible"/>
                                      </p:to>
                                    </p:se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0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05"/>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0"/>
                                  </p:stCondLst>
                                  <p:childTnLst>
                                    <p:set>
                                      <p:cBhvr>
                                        <p:cTn id="19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9"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10"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CE1344D-4388-4729-AF84-1662269E13D9}"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43100A6-6823-4FCB-BA3A-1224980B5B9B}"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second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 if we replace coupled bisimulation by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which makes the graph fully connected</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eneralize previous exercise to the case of n arbitrary nodes</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B39BFFC-FF0E-4FD9-BBA7-B74CAEB9F32D}"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C3ED7DC-D619-491C-A758-521F34901B77}"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2629B6E-E414-479B-A768-CD5497952B4C}"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a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2381C5A-B4D6-4BE0-AA97-8B7004D69A8C}"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C7710B8-BB19-4925-9FB3-DB7CFA34C471}"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25854CE-81B6-43CC-A0C0-0B8A34EA45BD}"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0477679-4E27-4436-83B0-E9B626224149}"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88F1671-D872-4ED8-8CF2-56AC297D70E6}"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5-01-06T04:55:08Z</dcterms:modified>
  <cp:revision>111</cp:revision>
  <dc:subject/>
  <dc:title>Concurrency 5</dc:title>
</cp:coreProperties>
</file>