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7C92-F8FC-4D19-8761-B255C62177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F249-96CB-40BC-A93E-052FEDE149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021F-6F17-4A7E-A3DC-87E3F101A5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17E8-B0C4-4126-B923-68A8C2130A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8BCB-12B5-482E-9A03-35719C96291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9D43-F1ED-4F17-B5A8-2AAAA16DEE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D9B3-0AAF-4860-8028-53773C36A2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BA0E-35E0-4485-8500-79FD85253D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2A71-BB3F-4EE8-96CE-4D1DE9A8D5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293D-32CA-4A7E-95EB-0537559517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9B54-3183-421F-AFD0-A8F0AF4438A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7662-1E58-4F3D-96A6-4E43D8337E6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55DF-9491-4D73-A0D0-59CA6B2455A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AD12-392D-4E39-8263-EBC002C6054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3FD9-9A86-47A2-9ADD-DCD3AADC95B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1A3B-B7C3-422B-81BE-18FECB250A0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E30C-083E-47A2-8141-C60A5927D7F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0C59-E35D-4327-B31C-3A44183A663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6E55-A99A-42B8-A2D7-6766571C321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96EB-2124-4DC1-94A0-40DE3AF5939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DB82-3EE6-49CE-B4B3-162CAB32E9C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CF9-2CD2-4EF1-AA3A-94C4DFEF258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BAD-9998-4D25-B012-1752BEAF718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AD9-AFC0-47A3-A419-80B657FE676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4F3-727F-4D8A-A5F7-55C2AC1299E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063-541A-4A32-8F67-3331563E0E7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CCF-A4AA-491C-A7F8-87CFF7E547A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128-8435-40CB-AABD-CC9CBCD696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B63-94B6-4092-AEA6-2D07C84C24D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A29-1E18-4F7E-AB99-4E42667D3CC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548-F92C-422B-9BEF-67D90C9CE4D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AD3-9516-45B7-9FC1-1F3504C1B92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BA6-A5B3-4FBA-B34E-AE257ED46A9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346C-F2F0-47A0-A103-48DD9C12856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A3AF-EBEF-4497-9AB1-3C24A3DF1D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8285-F66D-4D00-8171-64E78A9F1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C11-B4C4-4E73-9994-ED6225136C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Num" idx="3"/>
          </p:nvPr>
        </p:nvSpPr>
        <p:spPr>
          <a:xfrm>
            <a:off x="12217320" y="9321840"/>
            <a:ext cx="292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B60A-D8F7-40AA-98D6-29A32F1E1635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2"/>
          </p:nvPr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EAE7-6EB8-4AFE-81D7-7628CF536D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6.png"/><Relationship Id="rId5" Type="http://schemas.openxmlformats.org/officeDocument/2006/relationships/image" Target="../media/image28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6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3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3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79360" y="1219320"/>
            <a:ext cx="12166560" cy="474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e cost  </a:t>
            </a:r>
            <a:r>
              <a:rPr b="0" lang="en-US" sz="9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of </a:t>
            </a:r>
            <a:r>
              <a:rPr b="0" lang="en-US" sz="10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 usage</a:t>
            </a:r>
            <a:br>
              <a:rPr sz="9200"/>
            </a:br>
            <a:r>
              <a:rPr b="0" lang="en-US" sz="57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e λ-calculus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4021200" y="6131520"/>
            <a:ext cx="468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ean-jacques.levy@inria.f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"/>
          <p:cNvSpPr/>
          <p:nvPr/>
        </p:nvSpPr>
        <p:spPr>
          <a:xfrm>
            <a:off x="4415040" y="7050600"/>
            <a:ext cx="3891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.-L. Curien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60th birthday,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Venice, 10-09-201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2166920" cy="613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igid prefixes: </a:t>
            </a:r>
            <a:br>
              <a:rPr sz="9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bility </a:t>
            </a:r>
            <a:br>
              <a:rPr sz="7200"/>
            </a:b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and</a:t>
            </a:r>
            <a:br>
              <a:rPr sz="9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ultiplicity of variables 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bility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1530360"/>
            <a:ext cx="12255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Definition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rigid prefix]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prefix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is rigid when never the left of an application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can reduce to an abstra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787320" y="4762440"/>
            <a:ext cx="6845400" cy="45720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7823160" y="3124080"/>
            <a:ext cx="4152960" cy="457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787320" y="3949560"/>
            <a:ext cx="525780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4"/>
          <a:stretch/>
        </p:blipFill>
        <p:spPr>
          <a:xfrm>
            <a:off x="8166240" y="3936960"/>
            <a:ext cx="3809880" cy="45720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677160" y="5963760"/>
            <a:ext cx="706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rigid prefixes are finite prefixes of Berarducci tre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10134720" y="4724280"/>
            <a:ext cx="1650960" cy="3430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3572-A166-4DDE-958D-1A62EE0CBF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29640" y="7340400"/>
            <a:ext cx="12210120" cy="469800"/>
            <a:chOff x="629640" y="7340400"/>
            <a:chExt cx="12210120" cy="469800"/>
          </a:xfrm>
        </p:grpSpPr>
        <p:sp>
          <p:nvSpPr>
            <p:cNvPr id="998" name=""/>
            <p:cNvSpPr/>
            <p:nvPr/>
          </p:nvSpPr>
          <p:spPr>
            <a:xfrm>
              <a:off x="629640" y="7340400"/>
              <a:ext cx="2027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ff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99" name="" descr=""/>
            <p:cNvPicPr/>
            <p:nvPr/>
          </p:nvPicPr>
          <p:blipFill>
            <a:blip r:embed="rId6"/>
            <a:stretch/>
          </p:blipFill>
          <p:spPr>
            <a:xfrm>
              <a:off x="2768760" y="7353000"/>
              <a:ext cx="100710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bility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" y="1695600"/>
            <a:ext cx="12255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Theorem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stability]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r any rigid prefix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duced by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F6C5-725D-47A1-B46E-AC96AB0B73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57200" y="7601040"/>
            <a:ext cx="12255480" cy="1085760"/>
            <a:chOff x="457200" y="7601040"/>
            <a:chExt cx="12255480" cy="1085760"/>
          </a:xfrm>
        </p:grpSpPr>
        <p:sp>
          <p:nvSpPr>
            <p:cNvPr id="1004" name=""/>
            <p:cNvSpPr/>
            <p:nvPr/>
          </p:nvSpPr>
          <p:spPr>
            <a:xfrm>
              <a:off x="457200" y="760104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Fact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monotony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05" name="" descr=""/>
            <p:cNvPicPr/>
            <p:nvPr/>
          </p:nvPicPr>
          <p:blipFill>
            <a:blip r:embed="rId1"/>
            <a:stretch/>
          </p:blipFill>
          <p:spPr>
            <a:xfrm>
              <a:off x="4254480" y="7709040"/>
              <a:ext cx="71629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"/>
            <a:stretch/>
          </p:blipFill>
          <p:spPr>
            <a:xfrm>
              <a:off x="711360" y="8280360"/>
              <a:ext cx="38480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1689120" y="3365640"/>
            <a:ext cx="7975440" cy="3415680"/>
            <a:chOff x="1689120" y="3365640"/>
            <a:chExt cx="7975440" cy="3415680"/>
          </a:xfrm>
        </p:grpSpPr>
        <p:sp>
          <p:nvSpPr>
            <p:cNvPr id="1008" name=""/>
            <p:cNvSpPr/>
            <p:nvPr/>
          </p:nvSpPr>
          <p:spPr>
            <a:xfrm>
              <a:off x="2057400" y="3682800"/>
              <a:ext cx="2374920" cy="2653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3"/>
            <a:stretch/>
          </p:blipFill>
          <p:spPr>
            <a:xfrm>
              <a:off x="3060720" y="6464160"/>
              <a:ext cx="3808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2527200" y="3657240"/>
              <a:ext cx="1425600" cy="2031840"/>
            </a:xfrm>
            <a:custGeom>
              <a:avLst/>
              <a:gdLst/>
              <a:ahLst/>
              <a:rect l="l" t="t" r="r" b="b"/>
              <a:pathLst>
                <a:path w="21600" h="21450">
                  <a:moveTo>
                    <a:pt x="10962" y="0"/>
                  </a:moveTo>
                  <a:lnTo>
                    <a:pt x="0" y="17014"/>
                  </a:lnTo>
                  <a:cubicBezTo>
                    <a:pt x="0" y="17014"/>
                    <a:pt x="5236" y="21600"/>
                    <a:pt x="6538" y="21446"/>
                  </a:cubicBezTo>
                  <a:cubicBezTo>
                    <a:pt x="8239" y="21245"/>
                    <a:pt x="11999" y="17319"/>
                    <a:pt x="13848" y="16889"/>
                  </a:cubicBezTo>
                  <a:cubicBezTo>
                    <a:pt x="16812" y="16200"/>
                    <a:pt x="21600" y="16889"/>
                    <a:pt x="21600" y="16889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4"/>
            <a:stretch/>
          </p:blipFill>
          <p:spPr>
            <a:xfrm>
              <a:off x="1689120" y="4267080"/>
              <a:ext cx="9907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7290000" y="3365640"/>
              <a:ext cx="2374560" cy="3098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04160" y="3377880"/>
              <a:ext cx="1209600" cy="171108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14" name="" descr=""/>
            <p:cNvPicPr/>
            <p:nvPr/>
          </p:nvPicPr>
          <p:blipFill>
            <a:blip r:embed="rId5"/>
            <a:stretch/>
          </p:blipFill>
          <p:spPr>
            <a:xfrm>
              <a:off x="8915400" y="3987720"/>
              <a:ext cx="291960" cy="31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"/>
            <p:cNvGrpSpPr/>
            <p:nvPr/>
          </p:nvGrpSpPr>
          <p:grpSpPr>
            <a:xfrm>
              <a:off x="4792680" y="4305960"/>
              <a:ext cx="2139840" cy="372960"/>
              <a:chOff x="4792680" y="4305960"/>
              <a:chExt cx="2139840" cy="372960"/>
            </a:xfrm>
          </p:grpSpPr>
          <p:sp>
            <p:nvSpPr>
              <p:cNvPr id="1016" name=""/>
              <p:cNvSpPr/>
              <p:nvPr/>
            </p:nvSpPr>
            <p:spPr>
              <a:xfrm flipH="1">
                <a:off x="4792680" y="4673160"/>
                <a:ext cx="2139840" cy="576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62440" y="430596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pic>
        <p:nvPicPr>
          <p:cNvPr id="1018" name="" descr=""/>
          <p:cNvPicPr/>
          <p:nvPr/>
        </p:nvPicPr>
        <p:blipFill>
          <a:blip r:embed="rId6"/>
          <a:stretch/>
        </p:blipFill>
        <p:spPr>
          <a:xfrm>
            <a:off x="673200" y="2336760"/>
            <a:ext cx="109090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457200" y="1968480"/>
            <a:ext cx="12255480" cy="1320840"/>
            <a:chOff x="457200" y="1968480"/>
            <a:chExt cx="12255480" cy="1320840"/>
          </a:xfrm>
        </p:grpSpPr>
        <p:sp>
          <p:nvSpPr>
            <p:cNvPr id="1020" name=""/>
            <p:cNvSpPr/>
            <p:nvPr/>
          </p:nvSpPr>
          <p:spPr>
            <a:xfrm>
              <a:off x="457200" y="196848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mma 1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slow consumption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21" name="" descr=""/>
            <p:cNvPicPr/>
            <p:nvPr/>
          </p:nvPicPr>
          <p:blipFill>
            <a:blip r:embed="rId1"/>
            <a:stretch/>
          </p:blipFill>
          <p:spPr>
            <a:xfrm>
              <a:off x="6845400" y="2120760"/>
              <a:ext cx="506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" descr=""/>
            <p:cNvPicPr/>
            <p:nvPr/>
          </p:nvPicPr>
          <p:blipFill>
            <a:blip r:embed="rId2"/>
            <a:stretch/>
          </p:blipFill>
          <p:spPr>
            <a:xfrm>
              <a:off x="711360" y="2832120"/>
              <a:ext cx="7340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7107-FD82-47F6-9D92-63CEB3625D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low consumption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96880" y="7029360"/>
            <a:ext cx="12255480" cy="1200240"/>
            <a:chOff x="596880" y="7029360"/>
            <a:chExt cx="12255480" cy="1200240"/>
          </a:xfrm>
        </p:grpSpPr>
        <p:grpSp>
          <p:nvGrpSpPr>
            <p:cNvPr id="1026" name=""/>
            <p:cNvGrpSpPr/>
            <p:nvPr/>
          </p:nvGrpSpPr>
          <p:grpSpPr>
            <a:xfrm>
              <a:off x="596880" y="7029360"/>
              <a:ext cx="12255480" cy="520560"/>
              <a:chOff x="596880" y="7029360"/>
              <a:chExt cx="12255480" cy="520560"/>
            </a:xfrm>
          </p:grpSpPr>
          <p:sp>
            <p:nvSpPr>
              <p:cNvPr id="1027" name=""/>
              <p:cNvSpPr/>
              <p:nvPr/>
            </p:nvSpPr>
            <p:spPr>
              <a:xfrm>
                <a:off x="596880" y="7029360"/>
                <a:ext cx="1225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2880" y="7048440"/>
                <a:ext cx="8356680" cy="469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9" name="" descr=""/>
            <p:cNvPicPr/>
            <p:nvPr/>
          </p:nvPicPr>
          <p:blipFill>
            <a:blip r:embed="rId4"/>
            <a:stretch/>
          </p:blipFill>
          <p:spPr>
            <a:xfrm>
              <a:off x="901800" y="7772400"/>
              <a:ext cx="52704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"/>
          <p:cNvGrpSpPr/>
          <p:nvPr/>
        </p:nvGrpSpPr>
        <p:grpSpPr>
          <a:xfrm>
            <a:off x="876240" y="3860640"/>
            <a:ext cx="11315880" cy="1739880"/>
            <a:chOff x="876240" y="3860640"/>
            <a:chExt cx="11315880" cy="1739880"/>
          </a:xfrm>
        </p:grpSpPr>
        <p:grpSp>
          <p:nvGrpSpPr>
            <p:cNvPr id="1031" name=""/>
            <p:cNvGrpSpPr/>
            <p:nvPr/>
          </p:nvGrpSpPr>
          <p:grpSpPr>
            <a:xfrm>
              <a:off x="1778040" y="3860640"/>
              <a:ext cx="10414080" cy="1739880"/>
              <a:chOff x="1778040" y="3860640"/>
              <a:chExt cx="10414080" cy="1739880"/>
            </a:xfrm>
          </p:grpSpPr>
          <p:sp>
            <p:nvSpPr>
              <p:cNvPr id="1032" name=""/>
              <p:cNvSpPr/>
              <p:nvPr/>
            </p:nvSpPr>
            <p:spPr>
              <a:xfrm>
                <a:off x="1778040" y="3860640"/>
                <a:ext cx="4788000" cy="812880"/>
              </a:xfrm>
              <a:prstGeom prst="roundRect">
                <a:avLst>
                  <a:gd name="adj" fmla="val 23435"/>
                </a:avLst>
              </a:prstGeom>
              <a:solidFill>
                <a:srgbClr val="5fe80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7680" y="4038480"/>
                <a:ext cx="5194440" cy="156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4" name="" descr=""/>
            <p:cNvPicPr/>
            <p:nvPr/>
          </p:nvPicPr>
          <p:blipFill>
            <a:blip r:embed="rId6"/>
            <a:stretch/>
          </p:blipFill>
          <p:spPr>
            <a:xfrm>
              <a:off x="876240" y="4025880"/>
              <a:ext cx="5600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86A4-D679-4B40-8CB2-043CF2EB0E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022560" y="1282680"/>
            <a:ext cx="7975440" cy="3416400"/>
            <a:chOff x="3022560" y="1282680"/>
            <a:chExt cx="7975440" cy="3416400"/>
          </a:xfrm>
        </p:grpSpPr>
        <p:sp>
          <p:nvSpPr>
            <p:cNvPr id="1037" name=""/>
            <p:cNvSpPr/>
            <p:nvPr/>
          </p:nvSpPr>
          <p:spPr>
            <a:xfrm>
              <a:off x="3390840" y="1600200"/>
              <a:ext cx="2374920" cy="26542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1"/>
            <a:stretch/>
          </p:blipFill>
          <p:spPr>
            <a:xfrm>
              <a:off x="4394160" y="4381560"/>
              <a:ext cx="3808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3860640" y="1574640"/>
              <a:ext cx="1425600" cy="2032200"/>
            </a:xfrm>
            <a:custGeom>
              <a:avLst/>
              <a:gdLst/>
              <a:ahLst/>
              <a:rect l="l" t="t" r="r" b="b"/>
              <a:pathLst>
                <a:path w="21600" h="21450">
                  <a:moveTo>
                    <a:pt x="10962" y="0"/>
                  </a:moveTo>
                  <a:lnTo>
                    <a:pt x="0" y="17014"/>
                  </a:lnTo>
                  <a:cubicBezTo>
                    <a:pt x="0" y="17014"/>
                    <a:pt x="5236" y="21600"/>
                    <a:pt x="6538" y="21446"/>
                  </a:cubicBezTo>
                  <a:cubicBezTo>
                    <a:pt x="8239" y="21245"/>
                    <a:pt x="11999" y="17319"/>
                    <a:pt x="13848" y="16889"/>
                  </a:cubicBezTo>
                  <a:cubicBezTo>
                    <a:pt x="16812" y="16200"/>
                    <a:pt x="21600" y="16889"/>
                    <a:pt x="21600" y="16889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40" name="" descr=""/>
            <p:cNvPicPr/>
            <p:nvPr/>
          </p:nvPicPr>
          <p:blipFill>
            <a:blip r:embed="rId2"/>
            <a:stretch/>
          </p:blipFill>
          <p:spPr>
            <a:xfrm>
              <a:off x="3022560" y="2184480"/>
              <a:ext cx="9907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8623440" y="1282680"/>
              <a:ext cx="2374560" cy="30988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237600" y="1295280"/>
              <a:ext cx="1209600" cy="171144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3"/>
            <a:stretch/>
          </p:blipFill>
          <p:spPr>
            <a:xfrm>
              <a:off x="10248840" y="1905120"/>
              <a:ext cx="29196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4" name=""/>
            <p:cNvGrpSpPr/>
            <p:nvPr/>
          </p:nvGrpSpPr>
          <p:grpSpPr>
            <a:xfrm>
              <a:off x="6126120" y="2223360"/>
              <a:ext cx="2139840" cy="373680"/>
              <a:chOff x="6126120" y="2223360"/>
              <a:chExt cx="2139840" cy="373680"/>
            </a:xfrm>
          </p:grpSpPr>
          <p:sp>
            <p:nvSpPr>
              <p:cNvPr id="1045" name=""/>
              <p:cNvSpPr/>
              <p:nvPr/>
            </p:nvSpPr>
            <p:spPr>
              <a:xfrm flipH="1">
                <a:off x="6126120" y="2590920"/>
                <a:ext cx="2139840" cy="612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95880" y="222336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4343400" y="9042480"/>
            <a:ext cx="317520" cy="31752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3022560" y="5905440"/>
            <a:ext cx="7975440" cy="3098880"/>
            <a:chOff x="3022560" y="5905440"/>
            <a:chExt cx="7975440" cy="3098880"/>
          </a:xfrm>
        </p:grpSpPr>
        <p:sp>
          <p:nvSpPr>
            <p:cNvPr id="1049" name=""/>
            <p:cNvSpPr/>
            <p:nvPr/>
          </p:nvSpPr>
          <p:spPr>
            <a:xfrm>
              <a:off x="3390840" y="6222960"/>
              <a:ext cx="2374920" cy="26542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60640" y="6197400"/>
              <a:ext cx="1425600" cy="1778040"/>
            </a:xfrm>
            <a:custGeom>
              <a:avLst/>
              <a:gdLst/>
              <a:ahLst/>
              <a:rect l="l" t="t" r="r" b="b"/>
              <a:pathLst>
                <a:path w="21600" h="21434">
                  <a:moveTo>
                    <a:pt x="10962" y="0"/>
                  </a:moveTo>
                  <a:lnTo>
                    <a:pt x="0" y="19424"/>
                  </a:lnTo>
                  <a:cubicBezTo>
                    <a:pt x="0" y="19424"/>
                    <a:pt x="5236" y="21600"/>
                    <a:pt x="6538" y="21424"/>
                  </a:cubicBezTo>
                  <a:cubicBezTo>
                    <a:pt x="8239" y="21195"/>
                    <a:pt x="11999" y="19773"/>
                    <a:pt x="13848" y="19282"/>
                  </a:cubicBezTo>
                  <a:cubicBezTo>
                    <a:pt x="16812" y="18495"/>
                    <a:pt x="21600" y="19282"/>
                    <a:pt x="21600" y="19282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623440" y="5905440"/>
              <a:ext cx="2374560" cy="30988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237600" y="5918040"/>
              <a:ext cx="1209600" cy="171144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53" name="" descr=""/>
            <p:cNvPicPr/>
            <p:nvPr/>
          </p:nvPicPr>
          <p:blipFill>
            <a:blip r:embed="rId5"/>
            <a:stretch/>
          </p:blipFill>
          <p:spPr>
            <a:xfrm>
              <a:off x="10248840" y="6527880"/>
              <a:ext cx="29196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4" name=""/>
            <p:cNvGrpSpPr/>
            <p:nvPr/>
          </p:nvGrpSpPr>
          <p:grpSpPr>
            <a:xfrm>
              <a:off x="6126120" y="6846120"/>
              <a:ext cx="2139840" cy="373680"/>
              <a:chOff x="6126120" y="6846120"/>
              <a:chExt cx="2139840" cy="373680"/>
            </a:xfrm>
          </p:grpSpPr>
          <p:sp>
            <p:nvSpPr>
              <p:cNvPr id="1055" name=""/>
              <p:cNvSpPr/>
              <p:nvPr/>
            </p:nvSpPr>
            <p:spPr>
              <a:xfrm flipH="1">
                <a:off x="6126120" y="7213680"/>
                <a:ext cx="2139840" cy="612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95880" y="684612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pic>
          <p:nvPicPr>
            <p:cNvPr id="1057" name="" descr=""/>
            <p:cNvPicPr/>
            <p:nvPr/>
          </p:nvPicPr>
          <p:blipFill>
            <a:blip r:embed="rId6"/>
            <a:stretch/>
          </p:blipFill>
          <p:spPr>
            <a:xfrm>
              <a:off x="3022560" y="7010280"/>
              <a:ext cx="914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8" name=""/>
          <p:cNvSpPr/>
          <p:nvPr/>
        </p:nvSpPr>
        <p:spPr>
          <a:xfrm flipV="1">
            <a:off x="4584600" y="4959000"/>
            <a:ext cx="0" cy="958680"/>
          </a:xfrm>
          <a:prstGeom prst="line">
            <a:avLst/>
          </a:prstGeom>
          <a:ln w="7632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9" name=""/>
          <p:cNvSpPr/>
          <p:nvPr/>
        </p:nvSpPr>
        <p:spPr>
          <a:xfrm>
            <a:off x="9911880" y="4871520"/>
            <a:ext cx="27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Gill Sans"/>
                <a:ea typeface="Heiti SC Light"/>
              </a:rPr>
              <a:t>★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9842400" y="4736880"/>
            <a:ext cx="0" cy="957240"/>
          </a:xfrm>
          <a:prstGeom prst="line">
            <a:avLst/>
          </a:prstGeom>
          <a:ln w="7632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1" name=""/>
          <p:cNvSpPr/>
          <p:nvPr/>
        </p:nvSpPr>
        <p:spPr>
          <a:xfrm>
            <a:off x="398520" y="4507560"/>
            <a:ext cx="14410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at mos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2 nod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eras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2" name=""/>
          <p:cNvSpPr/>
          <p:nvPr/>
        </p:nvSpPr>
        <p:spPr>
          <a:xfrm>
            <a:off x="2028960" y="5051520"/>
            <a:ext cx="2146320" cy="1730160"/>
          </a:xfrm>
          <a:custGeom>
            <a:avLst/>
            <a:gdLst/>
            <a:ahLst/>
            <a:rect l="l" t="t" r="r" b="b"/>
            <a:pathLst>
              <a:path w="20411" h="20678">
                <a:moveTo>
                  <a:pt x="1449" y="803"/>
                </a:moveTo>
                <a:cubicBezTo>
                  <a:pt x="1449" y="803"/>
                  <a:pt x="0" y="0"/>
                  <a:pt x="3945" y="2362"/>
                </a:cubicBezTo>
                <a:cubicBezTo>
                  <a:pt x="7409" y="4436"/>
                  <a:pt x="5379" y="16284"/>
                  <a:pt x="7490" y="18252"/>
                </a:cubicBezTo>
                <a:cubicBezTo>
                  <a:pt x="11081" y="21600"/>
                  <a:pt x="21600" y="21345"/>
                  <a:pt x="21600" y="21345"/>
                </a:cubicBezTo>
              </a:path>
            </a:pathLst>
          </a:custGeom>
          <a:noFill/>
          <a:ln w="76320">
            <a:solidFill>
              <a:srgbClr val="ff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low consumption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Multiplicity of  variable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800280" y="3936960"/>
            <a:ext cx="10642320" cy="45720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787320" y="4635360"/>
            <a:ext cx="9004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067" name=""/>
          <p:cNvGrpSpPr/>
          <p:nvPr/>
        </p:nvGrpSpPr>
        <p:grpSpPr>
          <a:xfrm>
            <a:off x="596880" y="6743880"/>
            <a:ext cx="12255480" cy="1904040"/>
            <a:chOff x="596880" y="6743880"/>
            <a:chExt cx="12255480" cy="1904040"/>
          </a:xfrm>
        </p:grpSpPr>
        <p:sp>
          <p:nvSpPr>
            <p:cNvPr id="1068" name=""/>
            <p:cNvSpPr/>
            <p:nvPr/>
          </p:nvSpPr>
          <p:spPr>
            <a:xfrm>
              <a:off x="596880" y="6743880"/>
              <a:ext cx="122554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mma 2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upper bound on live multiplicity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12880" y="7480080"/>
              <a:ext cx="9130680" cy="1167840"/>
              <a:chOff x="812880" y="7480080"/>
              <a:chExt cx="9130680" cy="1167840"/>
            </a:xfrm>
          </p:grpSpPr>
          <p:pic>
            <p:nvPicPr>
              <p:cNvPr id="10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2880" y="7480080"/>
                <a:ext cx="8953200" cy="46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63280" y="8191080"/>
                <a:ext cx="9080280" cy="456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0957-C550-4625-9782-53351AF87B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57200" y="1835280"/>
            <a:ext cx="12255480" cy="1199520"/>
            <a:chOff x="457200" y="1835280"/>
            <a:chExt cx="12255480" cy="1199520"/>
          </a:xfrm>
        </p:grpSpPr>
        <p:sp>
          <p:nvSpPr>
            <p:cNvPr id="1074" name=""/>
            <p:cNvSpPr/>
            <p:nvPr/>
          </p:nvSpPr>
          <p:spPr>
            <a:xfrm>
              <a:off x="457200" y="1835280"/>
              <a:ext cx="122554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75" name="" descr=""/>
            <p:cNvPicPr/>
            <p:nvPr/>
          </p:nvPicPr>
          <p:blipFill>
            <a:blip r:embed="rId5"/>
            <a:stretch/>
          </p:blipFill>
          <p:spPr>
            <a:xfrm>
              <a:off x="749160" y="2527200"/>
              <a:ext cx="59947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622440" y="2438280"/>
              <a:ext cx="812520" cy="596520"/>
            </a:xfrm>
            <a:prstGeom prst="roundRect">
              <a:avLst>
                <a:gd name="adj" fmla="val 31912"/>
              </a:avLst>
            </a:prstGeom>
            <a:solidFill>
              <a:srgbClr val="5fe801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77" name="" descr=""/>
            <p:cNvPicPr/>
            <p:nvPr/>
          </p:nvPicPr>
          <p:blipFill>
            <a:blip r:embed="rId6"/>
            <a:stretch/>
          </p:blipFill>
          <p:spPr>
            <a:xfrm>
              <a:off x="2781360" y="1930320"/>
              <a:ext cx="8661240" cy="418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91600" y="1384200"/>
            <a:ext cx="12166920" cy="474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ndardization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1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2D18-B154-4112-BC33-F7B959CC50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596880" y="1949400"/>
            <a:ext cx="11963520" cy="4438800"/>
            <a:chOff x="596880" y="1949400"/>
            <a:chExt cx="11963520" cy="4438800"/>
          </a:xfrm>
        </p:grpSpPr>
        <p:sp>
          <p:nvSpPr>
            <p:cNvPr id="1083" name=""/>
            <p:cNvSpPr/>
            <p:nvPr/>
          </p:nvSpPr>
          <p:spPr>
            <a:xfrm>
              <a:off x="983520" y="2546280"/>
              <a:ext cx="86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596880" y="1949400"/>
              <a:ext cx="11963520" cy="558720"/>
              <a:chOff x="596880" y="1949400"/>
              <a:chExt cx="11963520" cy="558720"/>
            </a:xfrm>
          </p:grpSpPr>
          <p:pic>
            <p:nvPicPr>
              <p:cNvPr id="10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966160" y="2057400"/>
                <a:ext cx="359424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"/>
              <p:cNvSpPr/>
              <p:nvPr/>
            </p:nvSpPr>
            <p:spPr>
              <a:xfrm>
                <a:off x="596880" y="1949400"/>
                <a:ext cx="844560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Lemma </a:t>
                </a:r>
                <a:r>
                  <a:rPr b="0" lang="en-US" sz="3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[reordering of head redexes]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2666880" y="2984400"/>
              <a:ext cx="8788320" cy="2641680"/>
              <a:chOff x="2666880" y="2984400"/>
              <a:chExt cx="8788320" cy="2641680"/>
            </a:xfrm>
          </p:grpSpPr>
          <p:pic>
            <p:nvPicPr>
              <p:cNvPr id="10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984400"/>
                <a:ext cx="38088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4686120"/>
                <a:ext cx="49536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0" name=""/>
              <p:cNvSpPr/>
              <p:nvPr/>
            </p:nvSpPr>
            <p:spPr>
              <a:xfrm flipH="1" flipV="1">
                <a:off x="3992400" y="3244320"/>
                <a:ext cx="3170160" cy="20484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32240" y="2984400"/>
                <a:ext cx="203400" cy="2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>
                <a:off x="5097600" y="334116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7416720" y="3822480"/>
                <a:ext cx="279360" cy="109224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2997000" y="3466800"/>
                <a:ext cx="279360" cy="1091880"/>
              </a:xfrm>
              <a:prstGeom prst="line">
                <a:avLst/>
              </a:prstGeom>
              <a:ln w="76320">
                <a:solidFill>
                  <a:srgbClr val="408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3276000" y="4978440"/>
                <a:ext cx="3613320" cy="279360"/>
              </a:xfrm>
              <a:prstGeom prst="line">
                <a:avLst/>
              </a:prstGeom>
              <a:ln w="76320">
                <a:solidFill>
                  <a:srgbClr val="408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449960" y="509364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60920" y="4673520"/>
                <a:ext cx="279360" cy="39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5800" y="3733560"/>
                <a:ext cx="35568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13320" y="4064040"/>
                <a:ext cx="26676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594560" y="3200400"/>
                <a:ext cx="379728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49960" y="5054400"/>
                <a:ext cx="430524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927000" y="5918040"/>
              <a:ext cx="4673520" cy="47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3" name=""/>
          <p:cNvGrpSpPr/>
          <p:nvPr/>
        </p:nvGrpSpPr>
        <p:grpSpPr>
          <a:xfrm>
            <a:off x="698400" y="7620120"/>
            <a:ext cx="10756800" cy="1701720"/>
            <a:chOff x="698400" y="7620120"/>
            <a:chExt cx="10756800" cy="1701720"/>
          </a:xfrm>
        </p:grpSpPr>
        <p:grpSp>
          <p:nvGrpSpPr>
            <p:cNvPr id="1104" name=""/>
            <p:cNvGrpSpPr/>
            <p:nvPr/>
          </p:nvGrpSpPr>
          <p:grpSpPr>
            <a:xfrm>
              <a:off x="754560" y="7620120"/>
              <a:ext cx="10700640" cy="507960"/>
              <a:chOff x="754560" y="7620120"/>
              <a:chExt cx="10700640" cy="507960"/>
            </a:xfrm>
          </p:grpSpPr>
          <p:sp>
            <p:nvSpPr>
              <p:cNvPr id="1105" name=""/>
              <p:cNvSpPr/>
              <p:nvPr/>
            </p:nvSpPr>
            <p:spPr>
              <a:xfrm>
                <a:off x="754560" y="7658280"/>
                <a:ext cx="99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Proof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2133360" y="7620120"/>
                <a:ext cx="9321840" cy="507960"/>
                <a:chOff x="2133360" y="7620120"/>
                <a:chExt cx="9321840" cy="507960"/>
              </a:xfrm>
            </p:grpSpPr>
            <p:pic>
              <p:nvPicPr>
                <p:cNvPr id="11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33360" y="7620120"/>
                  <a:ext cx="5969160" cy="50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331120" y="7810560"/>
                  <a:ext cx="312408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09" name="" descr=""/>
            <p:cNvPicPr/>
            <p:nvPr/>
          </p:nvPicPr>
          <p:blipFill>
            <a:blip r:embed="rId13"/>
            <a:stretch/>
          </p:blipFill>
          <p:spPr>
            <a:xfrm>
              <a:off x="698400" y="8255160"/>
              <a:ext cx="1037592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14"/>
            <a:stretch/>
          </p:blipFill>
          <p:spPr>
            <a:xfrm>
              <a:off x="698400" y="8890200"/>
              <a:ext cx="664200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2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51D6-FCC0-47E4-9ABE-EAB84D006C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57200" y="1854360"/>
            <a:ext cx="12395160" cy="5828760"/>
            <a:chOff x="457200" y="1854360"/>
            <a:chExt cx="12395160" cy="5828760"/>
          </a:xfrm>
        </p:grpSpPr>
        <p:sp>
          <p:nvSpPr>
            <p:cNvPr id="1114" name=""/>
            <p:cNvSpPr/>
            <p:nvPr/>
          </p:nvSpPr>
          <p:spPr>
            <a:xfrm>
              <a:off x="596880" y="6260760"/>
              <a:ext cx="122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oof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457200" y="1854360"/>
              <a:ext cx="12255480" cy="3428280"/>
              <a:chOff x="457200" y="1854360"/>
              <a:chExt cx="12255480" cy="3428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457200" y="1854360"/>
                <a:ext cx="12255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3301920" y="1968480"/>
                <a:ext cx="4851360" cy="2424960"/>
                <a:chOff x="3301920" y="1968480"/>
                <a:chExt cx="4851360" cy="2424960"/>
              </a:xfrm>
            </p:grpSpPr>
            <p:pic>
              <p:nvPicPr>
                <p:cNvPr id="111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01920" y="1968480"/>
                  <a:ext cx="380880" cy="31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9" name=""/>
                <p:cNvSpPr/>
                <p:nvPr/>
              </p:nvSpPr>
              <p:spPr>
                <a:xfrm flipH="1" flipV="1">
                  <a:off x="4170240" y="2228400"/>
                  <a:ext cx="3170160" cy="204480"/>
                </a:xfrm>
                <a:prstGeom prst="line">
                  <a:avLst/>
                </a:prstGeom>
                <a:ln w="76320">
                  <a:solidFill>
                    <a:srgbClr val="408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10080" y="1968480"/>
                  <a:ext cx="20340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5275440" y="232452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st</a:t>
                  </a:r>
                  <a:endParaRPr b="0" lang="en-US" sz="24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7594560" y="2805840"/>
                  <a:ext cx="279360" cy="1091880"/>
                </a:xfrm>
                <a:prstGeom prst="line">
                  <a:avLst/>
                </a:prstGeom>
                <a:ln w="76320">
                  <a:solidFill>
                    <a:srgbClr val="408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754880" y="369612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st</a:t>
                  </a:r>
                  <a:endParaRPr b="0" lang="en-US" sz="24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40280" y="3276360"/>
                  <a:ext cx="279360" cy="39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10560" y="2285640"/>
                  <a:ext cx="317520" cy="317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16720" y="4038120"/>
                  <a:ext cx="419040" cy="35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7" name=""/>
                <p:cNvSpPr/>
                <p:nvPr/>
              </p:nvSpPr>
              <p:spPr>
                <a:xfrm>
                  <a:off x="3682800" y="2514240"/>
                  <a:ext cx="3606840" cy="1726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cubicBezTo>
                        <a:pt x="0" y="0"/>
                        <a:pt x="3186" y="10418"/>
                        <a:pt x="6389" y="13659"/>
                      </a:cubicBezTo>
                      <a:cubicBezTo>
                        <a:pt x="12308" y="19648"/>
                        <a:pt x="216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8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12080" y="3085560"/>
                  <a:ext cx="24120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7320" y="4813200"/>
                <a:ext cx="5435640" cy="469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0" name="" descr=""/>
            <p:cNvPicPr/>
            <p:nvPr/>
          </p:nvPicPr>
          <p:blipFill>
            <a:blip r:embed="rId8"/>
            <a:stretch/>
          </p:blipFill>
          <p:spPr>
            <a:xfrm>
              <a:off x="673200" y="6806880"/>
              <a:ext cx="1031220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3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20560" y="1936800"/>
            <a:ext cx="12255480" cy="2584440"/>
            <a:chOff x="520560" y="1936800"/>
            <a:chExt cx="12255480" cy="2584440"/>
          </a:xfrm>
        </p:grpSpPr>
        <p:sp>
          <p:nvSpPr>
            <p:cNvPr id="1133" name=""/>
            <p:cNvSpPr/>
            <p:nvPr/>
          </p:nvSpPr>
          <p:spPr>
            <a:xfrm>
              <a:off x="520560" y="193680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Theorem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standardization with upper bounds]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761760" y="2463840"/>
              <a:ext cx="11366640" cy="2057400"/>
              <a:chOff x="761760" y="2463840"/>
              <a:chExt cx="11366640" cy="2057400"/>
            </a:xfrm>
          </p:grpSpPr>
          <p:pic>
            <p:nvPicPr>
              <p:cNvPr id="11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280" y="2463840"/>
                <a:ext cx="8801280" cy="64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1760" y="3403800"/>
                <a:ext cx="9296280" cy="43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63280" y="4064040"/>
                <a:ext cx="1126512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8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6155-2573-4FBE-985F-236C246987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843480" y="5537160"/>
            <a:ext cx="10776960" cy="469800"/>
            <a:chOff x="843480" y="5537160"/>
            <a:chExt cx="10776960" cy="469800"/>
          </a:xfrm>
        </p:grpSpPr>
        <p:sp>
          <p:nvSpPr>
            <p:cNvPr id="1140" name=""/>
            <p:cNvSpPr/>
            <p:nvPr/>
          </p:nvSpPr>
          <p:spPr>
            <a:xfrm>
              <a:off x="843480" y="5537160"/>
              <a:ext cx="99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oof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2133360" y="5626080"/>
              <a:ext cx="94870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PLC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712360" y="5486400"/>
            <a:ext cx="2984400" cy="2565360"/>
            <a:chOff x="8712360" y="5486400"/>
            <a:chExt cx="2984400" cy="2565360"/>
          </a:xfrm>
        </p:grpSpPr>
        <p:pic>
          <p:nvPicPr>
            <p:cNvPr id="875" name="" descr=""/>
            <p:cNvPicPr/>
            <p:nvPr/>
          </p:nvPicPr>
          <p:blipFill>
            <a:blip r:embed="rId1"/>
            <a:stretch/>
          </p:blipFill>
          <p:spPr>
            <a:xfrm>
              <a:off x="8712360" y="5486400"/>
              <a:ext cx="298440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flipH="1">
              <a:off x="10342440" y="7032600"/>
              <a:ext cx="361800" cy="255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10325160" y="5867280"/>
              <a:ext cx="362160" cy="255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786960" y="2056320"/>
            <a:ext cx="9942480" cy="5882400"/>
            <a:chOff x="786960" y="2056320"/>
            <a:chExt cx="9942480" cy="5882400"/>
          </a:xfrm>
        </p:grpSpPr>
        <p:sp>
          <p:nvSpPr>
            <p:cNvPr id="879" name=""/>
            <p:cNvSpPr/>
            <p:nvPr/>
          </p:nvSpPr>
          <p:spPr>
            <a:xfrm>
              <a:off x="846720" y="4126320"/>
              <a:ext cx="50216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-calculus + category theor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8520" y="3103920"/>
              <a:ext cx="7475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sed jury of his PhD + 3 papers together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0960" y="6272640"/>
              <a:ext cx="7274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ighbors in Paris (PL in 15th -- JJ in 7th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0600" y="7390440"/>
              <a:ext cx="47840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phia-Antipolis in 70-80’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46720" y="2056320"/>
              <a:ext cx="9882720" cy="554760"/>
              <a:chOff x="846720" y="2056320"/>
              <a:chExt cx="9882720" cy="554760"/>
            </a:xfrm>
          </p:grpSpPr>
          <p:sp>
            <p:nvSpPr>
              <p:cNvPr id="884" name=""/>
              <p:cNvSpPr/>
              <p:nvPr/>
            </p:nvSpPr>
            <p:spPr>
              <a:xfrm>
                <a:off x="846720" y="2062800"/>
                <a:ext cx="545616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ory of sequential algorithms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602040" y="2361960"/>
                <a:ext cx="1057320" cy="9720"/>
              </a:xfrm>
              <a:prstGeom prst="line">
                <a:avLst/>
              </a:prstGeom>
              <a:ln w="114480">
                <a:solidFill>
                  <a:srgbClr val="fc310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56720" y="2056320"/>
                <a:ext cx="27727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me semantics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786960" y="5167800"/>
              <a:ext cx="6984720" cy="548280"/>
              <a:chOff x="786960" y="5167800"/>
              <a:chExt cx="6984720" cy="54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1976760" y="5167800"/>
                <a:ext cx="57949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ok with Roberto Amadio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★ ★ ★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786960" y="5473800"/>
                <a:ext cx="1004760" cy="9360"/>
              </a:xfrm>
              <a:prstGeom prst="line">
                <a:avLst/>
              </a:prstGeom>
              <a:ln w="114480">
                <a:solidFill>
                  <a:srgbClr val="0fa80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39FD-7E95-4DF2-9F49-C45DDDA8BFC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Proof of our upper bound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10998360" y="4610160"/>
            <a:ext cx="63468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3467160" y="4635360"/>
            <a:ext cx="63504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6921360" y="4610160"/>
            <a:ext cx="63504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7734240" y="3911760"/>
            <a:ext cx="635040" cy="495000"/>
          </a:xfrm>
          <a:prstGeom prst="roundRect">
            <a:avLst>
              <a:gd name="adj" fmla="val 38458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762120" y="5219640"/>
            <a:ext cx="5283000" cy="635040"/>
          </a:xfrm>
          <a:prstGeom prst="roundRect">
            <a:avLst>
              <a:gd name="adj" fmla="val 30000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8" name=""/>
          <p:cNvSpPr/>
          <p:nvPr/>
        </p:nvSpPr>
        <p:spPr>
          <a:xfrm>
            <a:off x="825480" y="3162240"/>
            <a:ext cx="5283360" cy="647640"/>
          </a:xfrm>
          <a:prstGeom prst="roundRect">
            <a:avLst>
              <a:gd name="adj" fmla="val 29407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1936800"/>
            <a:ext cx="12255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Theorem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standardization with upper bounds]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927000" y="2413080"/>
            <a:ext cx="8801280" cy="64764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2"/>
          <a:stretch/>
        </p:blipFill>
        <p:spPr>
          <a:xfrm>
            <a:off x="825480" y="3949560"/>
            <a:ext cx="9423360" cy="457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3"/>
          <a:stretch/>
        </p:blipFill>
        <p:spPr>
          <a:xfrm>
            <a:off x="863640" y="4597560"/>
            <a:ext cx="11988720" cy="457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>
            <a:off x="888840" y="3276720"/>
            <a:ext cx="5029200" cy="4190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>
            <a:off x="863640" y="5308560"/>
            <a:ext cx="4991040" cy="44460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9DF6-17DB-4E90-A8FF-9B2A3358A4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Proof of our upper bound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680400" y="6997680"/>
            <a:ext cx="11689560" cy="1092240"/>
            <a:chOff x="680400" y="6997680"/>
            <a:chExt cx="11689560" cy="1092240"/>
          </a:xfrm>
        </p:grpSpPr>
        <p:sp>
          <p:nvSpPr>
            <p:cNvPr id="1158" name=""/>
            <p:cNvSpPr/>
            <p:nvPr/>
          </p:nvSpPr>
          <p:spPr>
            <a:xfrm>
              <a:off x="680400" y="6997680"/>
              <a:ext cx="226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ff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rollary 2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159" name="" descr=""/>
            <p:cNvPicPr/>
            <p:nvPr/>
          </p:nvPicPr>
          <p:blipFill>
            <a:blip r:embed="rId1"/>
            <a:stretch/>
          </p:blipFill>
          <p:spPr>
            <a:xfrm>
              <a:off x="3403800" y="6997680"/>
              <a:ext cx="7746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2"/>
            <a:stretch/>
          </p:blipFill>
          <p:spPr>
            <a:xfrm>
              <a:off x="914400" y="7632720"/>
              <a:ext cx="1145556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"/>
          <p:cNvSpPr/>
          <p:nvPr/>
        </p:nvSpPr>
        <p:spPr>
          <a:xfrm>
            <a:off x="896760" y="4940280"/>
            <a:ext cx="965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Pro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mple calculation with lemma 2 and previous thm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C6F-4512-480B-B94F-E6C8ACA5EB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616680" y="1904760"/>
            <a:ext cx="10825920" cy="2489400"/>
            <a:chOff x="616680" y="1904760"/>
            <a:chExt cx="10825920" cy="2489400"/>
          </a:xfrm>
        </p:grpSpPr>
        <p:pic>
          <p:nvPicPr>
            <p:cNvPr id="1164" name="" descr=""/>
            <p:cNvPicPr/>
            <p:nvPr/>
          </p:nvPicPr>
          <p:blipFill>
            <a:blip r:embed="rId3"/>
            <a:stretch/>
          </p:blipFill>
          <p:spPr>
            <a:xfrm>
              <a:off x="3340080" y="3288960"/>
              <a:ext cx="3746520" cy="110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"/>
            <p:cNvGrpSpPr/>
            <p:nvPr/>
          </p:nvGrpSpPr>
          <p:grpSpPr>
            <a:xfrm>
              <a:off x="616680" y="1904760"/>
              <a:ext cx="10825920" cy="1054080"/>
              <a:chOff x="616680" y="1904760"/>
              <a:chExt cx="10825920" cy="1054080"/>
            </a:xfrm>
          </p:grpSpPr>
          <p:sp>
            <p:nvSpPr>
              <p:cNvPr id="1166" name=""/>
              <p:cNvSpPr/>
              <p:nvPr/>
            </p:nvSpPr>
            <p:spPr>
              <a:xfrm>
                <a:off x="616680" y="1904760"/>
                <a:ext cx="2260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ff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 1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85920" y="1930320"/>
                <a:ext cx="8356680" cy="46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7320" y="2527200"/>
                <a:ext cx="9474120" cy="43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071000" y="2477520"/>
            <a:ext cx="7034760" cy="3645000"/>
            <a:chOff x="1071000" y="2477520"/>
            <a:chExt cx="7034760" cy="3645000"/>
          </a:xfrm>
        </p:grpSpPr>
        <p:sp>
          <p:nvSpPr>
            <p:cNvPr id="1171" name=""/>
            <p:cNvSpPr/>
            <p:nvPr/>
          </p:nvSpPr>
          <p:spPr>
            <a:xfrm>
              <a:off x="1071000" y="2477520"/>
              <a:ext cx="70347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s are easy to grow in the </a:t>
              </a:r>
              <a:r>
                <a:rPr b="0" lang="en-US" sz="3600" spc="-1" strike="noStrike">
                  <a:solidFill>
                    <a:srgbClr val="000000"/>
                  </a:solidFill>
                  <a:latin typeface="Helvetica Neue"/>
                  <a:ea typeface="Helvetica Neue"/>
                </a:rPr>
                <a:t>λ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alculu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77120" y="3567600"/>
              <a:ext cx="55778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 take time to consume term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079280" y="4621680"/>
              <a:ext cx="4433760" cy="548280"/>
              <a:chOff x="1079280" y="4621680"/>
              <a:chExt cx="4433760" cy="54828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79280" y="4621680"/>
                <a:ext cx="443376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ed for sharing !!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1166760" y="4914720"/>
                <a:ext cx="1030320" cy="9720"/>
              </a:xfrm>
              <a:prstGeom prst="line">
                <a:avLst/>
              </a:prstGeom>
              <a:ln w="139680">
                <a:solidFill>
                  <a:srgbClr val="fc310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1101960" y="5574240"/>
              <a:ext cx="2996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 to earth ....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C898-60F1-4EF8-A916-1D56FE8B613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0" y="0"/>
            <a:ext cx="13068360" cy="979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12216960" y="89913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572F-90C8-4628-9B38-01C3527BA1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9" name="plc60.ppt_media/large-3.mov" descr=""/>
          <p:cNvPicPr/>
          <p:nvPr/>
        </p:nvPicPr>
        <p:blipFill>
          <a:blip r:embed="rId1"/>
          <a:stretch/>
        </p:blipFill>
        <p:spPr>
          <a:xfrm>
            <a:off x="-9360" y="1212840"/>
            <a:ext cx="13026960" cy="732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8350-4A95-4C59-AAE1-2D44C3AC7CD6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0" y="0"/>
            <a:ext cx="13068360" cy="979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2274200" y="899136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161-9D5A-4442-952E-7A87B521A7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2" name="plc60.ppt_media/large-1.mov" descr=""/>
          <p:cNvPicPr/>
          <p:nvPr/>
        </p:nvPicPr>
        <p:blipFill>
          <a:blip r:embed="rId1"/>
          <a:stretch/>
        </p:blipFill>
        <p:spPr>
          <a:xfrm>
            <a:off x="0" y="1384200"/>
            <a:ext cx="13055760" cy="73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4AFB-DCCB-4FAF-BF7B-079BA6FA6E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Plan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"/>
          <p:cNvSpPr/>
          <p:nvPr/>
        </p:nvSpPr>
        <p:spPr>
          <a:xfrm>
            <a:off x="419040" y="8051760"/>
            <a:ext cx="11950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 joint work with Andrea Asperti (LICS 2013)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03320" y="3586680"/>
            <a:ext cx="11950560" cy="3488400"/>
            <a:chOff x="1003320" y="3586680"/>
            <a:chExt cx="11950560" cy="3488400"/>
          </a:xfrm>
        </p:grpSpPr>
        <p:sp>
          <p:nvSpPr>
            <p:cNvPr id="896" name=""/>
            <p:cNvSpPr/>
            <p:nvPr/>
          </p:nvSpPr>
          <p:spPr>
            <a:xfrm>
              <a:off x="1064160" y="3586680"/>
              <a:ext cx="84600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ization theorem (with upper bounds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62360" y="4951800"/>
              <a:ext cx="7190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gid and minimum prefixes (stability thm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03320" y="5753160"/>
              <a:ext cx="1195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i’s proof (with upper bounds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58040" y="6526800"/>
              <a:ext cx="68979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i’s proof revisited with live occurence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61640" y="4266000"/>
              <a:ext cx="18579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r result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417920" y="2129400"/>
            <a:ext cx="16160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000000"/>
                </a:solidFill>
                <a:latin typeface="Gill Sans"/>
                <a:ea typeface="Heiti SC Medium"/>
              </a:rPr>
              <a:t>小菜⼀碟</a:t>
            </a:r>
            <a:endParaRPr b="0" lang="en-US" sz="5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1ADF-BFB1-4214-B09C-FC49EC19EB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2166920" cy="613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ndardization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1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846000" y="1834920"/>
            <a:ext cx="9669600" cy="2940120"/>
            <a:chOff x="846000" y="1834920"/>
            <a:chExt cx="9669600" cy="2940120"/>
          </a:xfrm>
        </p:grpSpPr>
        <p:sp>
          <p:nvSpPr>
            <p:cNvPr id="906" name=""/>
            <p:cNvSpPr/>
            <p:nvPr/>
          </p:nvSpPr>
          <p:spPr>
            <a:xfrm>
              <a:off x="846000" y="1834920"/>
              <a:ext cx="8272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: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ollowing reduction is </a:t>
              </a:r>
              <a:r>
                <a:rPr b="1" lang="en-US" sz="3000" spc="-1" strike="noStrike">
                  <a:solidFill>
                    <a:srgbClr val="ff0080"/>
                  </a:solidFill>
                  <a:latin typeface="Arial"/>
                  <a:ea typeface="Arial"/>
                </a:rPr>
                <a:t>standard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1828800" y="2539800"/>
              <a:ext cx="868680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1143000" y="3708360"/>
              <a:ext cx="87501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"/>
          <p:cNvSpPr/>
          <p:nvPr/>
        </p:nvSpPr>
        <p:spPr>
          <a:xfrm>
            <a:off x="787320" y="5829480"/>
            <a:ext cx="103633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leftmost-outermost reduction is also called the </a:t>
            </a: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normal redu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7D4B-7142-40E2-8C59-3BAF08BD0F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2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301400" y="971640"/>
            <a:ext cx="11430360" cy="9232920"/>
            <a:chOff x="1301400" y="971640"/>
            <a:chExt cx="11430360" cy="9232920"/>
          </a:xfrm>
        </p:grpSpPr>
        <p:pic>
          <p:nvPicPr>
            <p:cNvPr id="913" name="" descr=""/>
            <p:cNvPicPr/>
            <p:nvPr/>
          </p:nvPicPr>
          <p:blipFill>
            <a:blip r:embed="rId1"/>
            <a:stretch/>
          </p:blipFill>
          <p:spPr>
            <a:xfrm>
              <a:off x="2367000" y="971640"/>
              <a:ext cx="10364760" cy="92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8864640" y="22971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07160" y="5040360"/>
              <a:ext cx="121932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30520" y="5052960"/>
              <a:ext cx="121932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38960" y="36561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861320" y="3630600"/>
              <a:ext cx="121896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737560" y="6373800"/>
              <a:ext cx="121932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45000" y="63867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69040" y="2333880"/>
              <a:ext cx="2040120" cy="69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787"/>
                  </a:moveTo>
                  <a:lnTo>
                    <a:pt x="4017" y="0"/>
                  </a:lnTo>
                  <a:lnTo>
                    <a:pt x="6759" y="13813"/>
                  </a:lnTo>
                  <a:lnTo>
                    <a:pt x="10296" y="12424"/>
                  </a:lnTo>
                  <a:lnTo>
                    <a:pt x="12710" y="21600"/>
                  </a:lnTo>
                  <a:lnTo>
                    <a:pt x="16082" y="16318"/>
                  </a:lnTo>
                  <a:lnTo>
                    <a:pt x="21600" y="46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817200" y="5052960"/>
              <a:ext cx="1720800" cy="5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308"/>
                  </a:moveTo>
                  <a:lnTo>
                    <a:pt x="4758" y="0"/>
                  </a:lnTo>
                  <a:lnTo>
                    <a:pt x="12195" y="16446"/>
                  </a:lnTo>
                  <a:lnTo>
                    <a:pt x="19050" y="21600"/>
                  </a:lnTo>
                  <a:lnTo>
                    <a:pt x="21600" y="6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88520" y="7770960"/>
              <a:ext cx="971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177"/>
                  </a:moveTo>
                  <a:lnTo>
                    <a:pt x="8427" y="0"/>
                  </a:lnTo>
                  <a:lnTo>
                    <a:pt x="14180" y="21600"/>
                  </a:lnTo>
                  <a:lnTo>
                    <a:pt x="21600" y="1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44600" y="3662280"/>
              <a:ext cx="3355920" cy="2857680"/>
            </a:xfrm>
            <a:custGeom>
              <a:avLst/>
              <a:gdLst/>
              <a:ahLst/>
              <a:rect l="l" t="t" r="r" b="b"/>
              <a:pathLst>
                <a:path w="21600" h="20095">
                  <a:moveTo>
                    <a:pt x="21600" y="2287"/>
                  </a:moveTo>
                  <a:cubicBezTo>
                    <a:pt x="21600" y="2287"/>
                    <a:pt x="12861" y="0"/>
                    <a:pt x="7840" y="3248"/>
                  </a:cubicBezTo>
                  <a:cubicBezTo>
                    <a:pt x="3518" y="6045"/>
                    <a:pt x="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01400" y="6532560"/>
              <a:ext cx="1829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80"/>
                  </a:solidFill>
                  <a:latin typeface="Courier New"/>
                  <a:ea typeface="Courier New"/>
                </a:rPr>
                <a:t>standard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8071560" y="2373480"/>
              <a:ext cx="885960" cy="91440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263920" y="3769920"/>
              <a:ext cx="2021040" cy="87012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406040" y="5154480"/>
              <a:ext cx="198360" cy="8506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7818120" y="3808440"/>
              <a:ext cx="4680" cy="8510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993720" y="5116320"/>
              <a:ext cx="671400" cy="90180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9295920" y="2423880"/>
              <a:ext cx="1266840" cy="223524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10718280" y="5154840"/>
              <a:ext cx="165240" cy="22240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8074080" y="5116320"/>
              <a:ext cx="979200" cy="90180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8991360" y="6500880"/>
              <a:ext cx="263520" cy="8762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8915040" y="7910640"/>
              <a:ext cx="3240" cy="8510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6793920" y="6500880"/>
              <a:ext cx="3240" cy="85104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67560" y="4989600"/>
              <a:ext cx="79992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003640" y="4989600"/>
              <a:ext cx="800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79880" y="6348600"/>
              <a:ext cx="800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07240" y="6348600"/>
              <a:ext cx="79992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11880" y="7707240"/>
              <a:ext cx="79992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610480" y="7707240"/>
              <a:ext cx="80028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731600" y="4964040"/>
              <a:ext cx="79992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10800000">
              <a:off x="4889520" y="8091720"/>
              <a:ext cx="3938400" cy="466560"/>
            </a:xfrm>
            <a:custGeom>
              <a:avLst/>
              <a:gdLst/>
              <a:ahLst/>
              <a:rect l="l" t="t" r="r" b="b"/>
              <a:pathLst>
                <a:path w="21600" h="17483">
                  <a:moveTo>
                    <a:pt x="21600" y="21600"/>
                  </a:moveTo>
                  <a:cubicBezTo>
                    <a:pt x="21600" y="21600"/>
                    <a:pt x="15927" y="0"/>
                    <a:pt x="9958" y="7922"/>
                  </a:cubicBezTo>
                  <a:cubicBezTo>
                    <a:pt x="5758" y="13497"/>
                    <a:pt x="0" y="4117"/>
                    <a:pt x="0" y="4117"/>
                  </a:cubicBezTo>
                </a:path>
              </a:pathLst>
            </a:custGeom>
            <a:noFill/>
            <a:ln w="38160">
              <a:solidFill>
                <a:srgbClr val="a20b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460320" y="8253360"/>
              <a:ext cx="137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aa1602"/>
                  </a:solidFill>
                  <a:latin typeface="Courier New"/>
                  <a:ea typeface="Courier New"/>
                </a:rPr>
                <a:t>normal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46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C761-3E3A-4AC9-878B-5DC61225C7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3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"/>
          <p:cNvSpPr/>
          <p:nvPr/>
        </p:nvSpPr>
        <p:spPr>
          <a:xfrm>
            <a:off x="674280" y="5105160"/>
            <a:ext cx="100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y reduction can be performed outside-in and left-to-right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520560" y="1720800"/>
            <a:ext cx="12115800" cy="2507760"/>
            <a:chOff x="520560" y="1720800"/>
            <a:chExt cx="12115800" cy="2507760"/>
          </a:xfrm>
        </p:grpSpPr>
        <p:sp>
          <p:nvSpPr>
            <p:cNvPr id="950" name=""/>
            <p:cNvSpPr/>
            <p:nvPr/>
          </p:nvSpPr>
          <p:spPr>
            <a:xfrm>
              <a:off x="520560" y="1720800"/>
              <a:ext cx="1211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tandardization thm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Curry 50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863640" y="2413080"/>
              <a:ext cx="5930640" cy="582480"/>
              <a:chOff x="863640" y="2413080"/>
              <a:chExt cx="5930640" cy="582480"/>
            </a:xfrm>
          </p:grpSpPr>
          <p:pic>
            <p:nvPicPr>
              <p:cNvPr id="9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640" y="2413080"/>
                <a:ext cx="5930640" cy="38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"/>
              <p:cNvSpPr/>
              <p:nvPr/>
            </p:nvSpPr>
            <p:spPr>
              <a:xfrm>
                <a:off x="5630760" y="262944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432280" y="2286000"/>
              <a:ext cx="3796920" cy="1942560"/>
              <a:chOff x="8432280" y="2286000"/>
              <a:chExt cx="3796920" cy="1942560"/>
            </a:xfrm>
          </p:grpSpPr>
          <p:sp>
            <p:nvSpPr>
              <p:cNvPr id="955" name=""/>
              <p:cNvSpPr/>
              <p:nvPr/>
            </p:nvSpPr>
            <p:spPr>
              <a:xfrm flipH="1">
                <a:off x="8432280" y="2641320"/>
                <a:ext cx="379692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443800" y="2614320"/>
                <a:ext cx="3729960" cy="1144080"/>
              </a:xfrm>
              <a:custGeom>
                <a:avLst/>
                <a:gdLst/>
                <a:ahLst/>
                <a:rect l="l" t="t" r="r" b="b"/>
                <a:pathLst>
                  <a:path w="21600" h="21530">
                    <a:moveTo>
                      <a:pt x="0" y="0"/>
                    </a:moveTo>
                    <a:cubicBezTo>
                      <a:pt x="0" y="0"/>
                      <a:pt x="5508" y="21495"/>
                      <a:pt x="8952" y="21530"/>
                    </a:cubicBezTo>
                    <a:cubicBezTo>
                      <a:pt x="15783" y="21600"/>
                      <a:pt x="21600" y="1675"/>
                      <a:pt x="21600" y="1675"/>
                    </a:cubicBezTo>
                  </a:path>
                </a:pathLst>
              </a:custGeom>
              <a:noFill/>
              <a:ln w="50760">
                <a:solidFill>
                  <a:srgbClr val="0080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9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96640" y="2286000"/>
                <a:ext cx="22860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892080" y="3898440"/>
                <a:ext cx="48240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9" name=""/>
          <p:cNvGrpSpPr/>
          <p:nvPr/>
        </p:nvGrpSpPr>
        <p:grpSpPr>
          <a:xfrm>
            <a:off x="520560" y="6635880"/>
            <a:ext cx="12318480" cy="2495520"/>
            <a:chOff x="520560" y="6635880"/>
            <a:chExt cx="12318480" cy="2495520"/>
          </a:xfrm>
        </p:grpSpPr>
        <p:sp>
          <p:nvSpPr>
            <p:cNvPr id="960" name=""/>
            <p:cNvSpPr/>
            <p:nvPr/>
          </p:nvSpPr>
          <p:spPr>
            <a:xfrm>
              <a:off x="520560" y="6635880"/>
              <a:ext cx="121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Normalization  corollar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863640" y="7290000"/>
              <a:ext cx="6159240" cy="589320"/>
              <a:chOff x="863640" y="7290000"/>
              <a:chExt cx="6159240" cy="589320"/>
            </a:xfrm>
          </p:grpSpPr>
          <p:pic>
            <p:nvPicPr>
              <p:cNvPr id="9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63640" y="7290000"/>
                <a:ext cx="615924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3" name=""/>
              <p:cNvSpPr/>
              <p:nvPr/>
            </p:nvSpPr>
            <p:spPr>
              <a:xfrm>
                <a:off x="5568120" y="75132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orm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8432640" y="7162920"/>
              <a:ext cx="4406400" cy="1968480"/>
              <a:chOff x="8432640" y="7162920"/>
              <a:chExt cx="4406400" cy="1968480"/>
            </a:xfrm>
          </p:grpSpPr>
          <p:sp>
            <p:nvSpPr>
              <p:cNvPr id="965" name=""/>
              <p:cNvSpPr/>
              <p:nvPr/>
            </p:nvSpPr>
            <p:spPr>
              <a:xfrm flipH="1">
                <a:off x="8432640" y="7518600"/>
                <a:ext cx="379584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8443800" y="7162920"/>
                <a:ext cx="4395240" cy="1968480"/>
                <a:chOff x="8443800" y="7162920"/>
                <a:chExt cx="4395240" cy="19684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8443800" y="7491600"/>
                  <a:ext cx="3728520" cy="1144440"/>
                </a:xfrm>
                <a:custGeom>
                  <a:avLst/>
                  <a:gdLst/>
                  <a:ahLst/>
                  <a:rect l="l" t="t" r="r" b="b"/>
                  <a:pathLst>
                    <a:path w="21600" h="21530">
                      <a:moveTo>
                        <a:pt x="0" y="0"/>
                      </a:moveTo>
                      <a:cubicBezTo>
                        <a:pt x="0" y="0"/>
                        <a:pt x="5508" y="21495"/>
                        <a:pt x="8952" y="21530"/>
                      </a:cubicBezTo>
                      <a:cubicBezTo>
                        <a:pt x="15783" y="21600"/>
                        <a:pt x="21600" y="1675"/>
                        <a:pt x="21600" y="1675"/>
                      </a:cubicBezTo>
                    </a:path>
                  </a:pathLst>
                </a:custGeom>
                <a:noFill/>
                <a:ln w="50760">
                  <a:solidFill>
                    <a:srgbClr val="008000"/>
                  </a:solidFill>
                  <a:prstDash val="sysDot"/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9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96640" y="7162920"/>
                  <a:ext cx="228600" cy="31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26840" y="8801280"/>
                  <a:ext cx="92700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394440" y="7290000"/>
                  <a:ext cx="44460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971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95FD-C622-4D83-8ADE-B48B6ABA5F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Our result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" y="1987560"/>
            <a:ext cx="12115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Upper-bound on standard reductions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Hongwey Xi, 99]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" y="4876920"/>
            <a:ext cx="12115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Upper-bound to normal forms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Asperti-JJL, 13]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5" name=""/>
          <p:cNvSpPr/>
          <p:nvPr/>
        </p:nvSpPr>
        <p:spPr>
          <a:xfrm>
            <a:off x="685800" y="8166240"/>
            <a:ext cx="10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e gain one exponential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825480" y="5613480"/>
            <a:ext cx="8928000" cy="1255680"/>
            <a:chOff x="825480" y="5613480"/>
            <a:chExt cx="8928000" cy="1255680"/>
          </a:xfrm>
        </p:grpSpPr>
        <p:pic>
          <p:nvPicPr>
            <p:cNvPr id="977" name="" descr=""/>
            <p:cNvPicPr/>
            <p:nvPr/>
          </p:nvPicPr>
          <p:blipFill>
            <a:blip r:embed="rId1"/>
            <a:stretch/>
          </p:blipFill>
          <p:spPr>
            <a:xfrm>
              <a:off x="825480" y="5613480"/>
              <a:ext cx="8928000" cy="48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8" name=""/>
            <p:cNvGrpSpPr/>
            <p:nvPr/>
          </p:nvGrpSpPr>
          <p:grpSpPr>
            <a:xfrm>
              <a:off x="851040" y="6286680"/>
              <a:ext cx="4419360" cy="582480"/>
              <a:chOff x="851040" y="6286680"/>
              <a:chExt cx="4419360" cy="582480"/>
            </a:xfrm>
          </p:grpSpPr>
          <p:pic>
            <p:nvPicPr>
              <p:cNvPr id="9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51040" y="6286680"/>
                <a:ext cx="4419360" cy="46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0" name=""/>
              <p:cNvSpPr/>
              <p:nvPr/>
            </p:nvSpPr>
            <p:spPr>
              <a:xfrm>
                <a:off x="3980520" y="65030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orm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81" name=""/>
          <p:cNvGrpSpPr/>
          <p:nvPr/>
        </p:nvGrpSpPr>
        <p:grpSpPr>
          <a:xfrm>
            <a:off x="851040" y="2666880"/>
            <a:ext cx="9283680" cy="1408680"/>
            <a:chOff x="851040" y="2666880"/>
            <a:chExt cx="9283680" cy="1408680"/>
          </a:xfrm>
        </p:grpSpPr>
        <p:pic>
          <p:nvPicPr>
            <p:cNvPr id="982" name="" descr=""/>
            <p:cNvPicPr/>
            <p:nvPr/>
          </p:nvPicPr>
          <p:blipFill>
            <a:blip r:embed="rId3"/>
            <a:stretch/>
          </p:blipFill>
          <p:spPr>
            <a:xfrm>
              <a:off x="851040" y="3504960"/>
              <a:ext cx="40766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3764520" y="370944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s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84" name="" descr=""/>
            <p:cNvPicPr/>
            <p:nvPr/>
          </p:nvPicPr>
          <p:blipFill>
            <a:blip r:embed="rId4"/>
            <a:stretch/>
          </p:blipFill>
          <p:spPr>
            <a:xfrm>
              <a:off x="851040" y="2666880"/>
              <a:ext cx="928368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5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064C-175E-42DA-B18D-C049C399F1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